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0440" y="403092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720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36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828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044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36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828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D3B8-84AA-4E30-9E14-6ABE858A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04B5-0E90-49C5-BF0B-7248DA9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1056-0371-47FA-ACD0-8665E57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0A9B7-B30B-4AE7-8008-D62AC9E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FE3E3-A140-4674-9F6C-6D35078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42880" y="545760"/>
            <a:ext cx="77724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7C316-C15C-4E5A-8AC7-D3FDA10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C5548-3CDA-4D84-AB65-3260DCD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720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2C6A-F381-4A98-B485-78920B7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DF3DB-0AA3-46E1-B58B-E88D8EE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440" y="403092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4197-A33C-41F1-9440-40A060E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720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AC81B-E069-4067-97FE-E67768D3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36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8280" y="188136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044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36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8280" y="4030920"/>
            <a:ext cx="2655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D1E04-707D-4367-9F8C-6DF454FB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42880" y="545760"/>
            <a:ext cx="77724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7200" y="403092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7200" y="1881360"/>
            <a:ext cx="4025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0440" y="4030920"/>
            <a:ext cx="824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2680" y="6148440"/>
            <a:ext cx="519120" cy="517320"/>
          </a:xfrm>
          <a:custGeom>
            <a:avLst/>
            <a:gdLst/>
            <a:ahLst/>
            <a:rect l="l" t="t" r="r" b="b"/>
            <a:pathLst>
              <a:path w="327" h="326">
                <a:moveTo>
                  <a:pt x="326" y="163"/>
                </a:moveTo>
                <a:lnTo>
                  <a:pt x="163" y="0"/>
                </a:lnTo>
                <a:lnTo>
                  <a:pt x="0" y="163"/>
                </a:lnTo>
                <a:lnTo>
                  <a:pt x="163" y="325"/>
                </a:lnTo>
                <a:lnTo>
                  <a:pt x="326" y="163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93880" y="6294600"/>
            <a:ext cx="92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E42666-6E37-414F-9548-7B4C5698502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9640" y="119880"/>
            <a:ext cx="14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Arial"/>
              </a:rPr>
              <a:t>SAM 2000, Grenoble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5840" y="6411240"/>
            <a:ext cx="216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Arial"/>
              </a:rPr>
              <a:t>© Humboldt-Universität zu Berli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143000"/>
            <a:ext cx="7923240" cy="129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8F3-44E3-4BE9-80A0-89DC3FAD93ED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DL-2000 Tutorial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23920" y="281952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eaeaea"/>
                </a:solidFill>
                <a:latin typeface="Arial"/>
              </a:rPr>
              <a:t>Prof. J. Fisc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eaeaea"/>
                </a:solidFill>
                <a:latin typeface="Arial"/>
              </a:rPr>
              <a:t>Dr. E. Hol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umboldt-Universität zu Berl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2760" y="3073320"/>
            <a:ext cx="355680" cy="1654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38440" y="3073320"/>
            <a:ext cx="357120" cy="1654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95560" y="3073320"/>
            <a:ext cx="3542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349800" y="3073320"/>
            <a:ext cx="357120" cy="165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6920" y="3073320"/>
            <a:ext cx="355320" cy="16542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898200" y="3252960"/>
            <a:ext cx="2732400" cy="1303200"/>
            <a:chOff x="898200" y="3252960"/>
            <a:chExt cx="2732400" cy="1303200"/>
          </a:xfrm>
        </p:grpSpPr>
        <p:sp>
          <p:nvSpPr>
            <p:cNvPr id="93" name=""/>
            <p:cNvSpPr/>
            <p:nvPr/>
          </p:nvSpPr>
          <p:spPr>
            <a:xfrm>
              <a:off x="2035080" y="3265560"/>
              <a:ext cx="633600" cy="129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0560" y="3252960"/>
              <a:ext cx="2570040" cy="1301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98200" y="3900600"/>
              <a:ext cx="142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96" name="hubbl" descr=""/>
          <p:cNvPicPr/>
          <p:nvPr/>
        </p:nvPicPr>
        <p:blipFill>
          <a:blip r:embed="rId6"/>
          <a:stretch/>
        </p:blipFill>
        <p:spPr>
          <a:xfrm>
            <a:off x="7859880" y="169920"/>
            <a:ext cx="1039680" cy="977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5880" y="615708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AM 2000 Workshop Greno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94800" y="1422360"/>
            <a:ext cx="4061520" cy="4375080"/>
            <a:chOff x="1594800" y="1422360"/>
            <a:chExt cx="4061520" cy="4375080"/>
          </a:xfrm>
        </p:grpSpPr>
        <p:grpSp>
          <p:nvGrpSpPr>
            <p:cNvPr id="203" name=""/>
            <p:cNvGrpSpPr/>
            <p:nvPr/>
          </p:nvGrpSpPr>
          <p:grpSpPr>
            <a:xfrm>
              <a:off x="1594800" y="1422360"/>
              <a:ext cx="3543840" cy="4033800"/>
              <a:chOff x="1594800" y="1422360"/>
              <a:chExt cx="3543840" cy="4033800"/>
            </a:xfrm>
          </p:grpSpPr>
          <p:sp>
            <p:nvSpPr>
              <p:cNvPr id="204" name=""/>
              <p:cNvSpPr/>
              <p:nvPr/>
            </p:nvSpPr>
            <p:spPr>
              <a:xfrm>
                <a:off x="1598760" y="1422360"/>
                <a:ext cx="3539880" cy="4033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800" y="145152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701720" y="1958400"/>
              <a:ext cx="1928520" cy="642600"/>
              <a:chOff x="1701720" y="1958400"/>
              <a:chExt cx="1928520" cy="6426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701720" y="1959120"/>
                <a:ext cx="1928520" cy="588600"/>
                <a:chOff x="1701720" y="1959120"/>
                <a:chExt cx="1928520" cy="588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01720" y="1963440"/>
                  <a:ext cx="1928520" cy="58428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375360" y="1959120"/>
                  <a:ext cx="25128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630240" y="1980360"/>
                  <a:ext cx="0" cy="27756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366360" y="1980360"/>
                  <a:ext cx="246240" cy="2883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734840" y="1958400"/>
                <a:ext cx="180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Natura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Character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766880" y="3805200"/>
              <a:ext cx="3138480" cy="1376280"/>
              <a:chOff x="1766880" y="3805200"/>
              <a:chExt cx="3138480" cy="1376280"/>
            </a:xfrm>
          </p:grpSpPr>
          <p:sp>
            <p:nvSpPr>
              <p:cNvPr id="214" name=""/>
              <p:cNvSpPr/>
              <p:nvPr/>
            </p:nvSpPr>
            <p:spPr>
              <a:xfrm>
                <a:off x="1766880" y="380520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71840" y="462744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18160" y="38358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3280" y="46486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483280" y="3170160"/>
              <a:ext cx="3173040" cy="2627280"/>
              <a:chOff x="2483280" y="3170160"/>
              <a:chExt cx="3173040" cy="2627280"/>
            </a:xfrm>
          </p:grpSpPr>
          <p:cxnSp>
            <p:nvCxnSpPr>
              <p:cNvPr id="219" name=""/>
              <p:cNvCxnSpPr>
                <a:stCxn id="214" idx="2"/>
                <a:endCxn id="215" idx="1"/>
              </p:cNvCxnSpPr>
              <p:nvPr/>
            </p:nvCxnSpPr>
            <p:spPr>
              <a:xfrm flipH="1" rot="16200000">
                <a:off x="2704320" y="4147920"/>
                <a:ext cx="536760" cy="9788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20" name=""/>
              <p:cNvCxnSpPr>
                <a:stCxn id="221" idx="1"/>
                <a:endCxn id="214" idx="0"/>
              </p:cNvCxnSpPr>
              <p:nvPr/>
            </p:nvCxnSpPr>
            <p:spPr>
              <a:xfrm flipV="1" rot="10800000">
                <a:off x="2483640" y="3170160"/>
                <a:ext cx="916920" cy="6260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22" name=""/>
              <p:cNvCxnSpPr>
                <a:stCxn id="221" idx="3"/>
                <a:endCxn id="204" idx="3"/>
              </p:cNvCxnSpPr>
              <p:nvPr/>
            </p:nvCxnSpPr>
            <p:spPr>
              <a:xfrm>
                <a:off x="4313160" y="3170160"/>
                <a:ext cx="835920" cy="27072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23" name=""/>
              <p:cNvCxnSpPr>
                <a:stCxn id="215" idx="2"/>
                <a:endCxn id="204" idx="2"/>
              </p:cNvCxnSpPr>
              <p:nvPr/>
            </p:nvCxnSpPr>
            <p:spPr>
              <a:xfrm flipH="1">
                <a:off x="3368160" y="5190840"/>
                <a:ext cx="821520" cy="27540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224" name=""/>
              <p:cNvSpPr/>
              <p:nvPr/>
            </p:nvSpPr>
            <p:spPr>
              <a:xfrm>
                <a:off x="5138640" y="3457440"/>
                <a:ext cx="51768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75000" y="5479920"/>
                <a:ext cx="0" cy="3175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409920" y="2923200"/>
              <a:ext cx="893880" cy="459720"/>
              <a:chOff x="3409920" y="2923200"/>
              <a:chExt cx="893880" cy="459720"/>
            </a:xfrm>
          </p:grpSpPr>
          <p:sp>
            <p:nvSpPr>
              <p:cNvPr id="221" name=""/>
              <p:cNvSpPr/>
              <p:nvPr/>
            </p:nvSpPr>
            <p:spPr>
              <a:xfrm>
                <a:off x="3409920" y="2975040"/>
                <a:ext cx="893880" cy="38880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18000" y="2923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6173640" y="396720"/>
            <a:ext cx="2292480" cy="2024280"/>
            <a:chOff x="6173640" y="396720"/>
            <a:chExt cx="2292480" cy="2024280"/>
          </a:xfrm>
        </p:grpSpPr>
        <p:sp>
          <p:nvSpPr>
            <p:cNvPr id="229" name=""/>
            <p:cNvSpPr/>
            <p:nvPr/>
          </p:nvSpPr>
          <p:spPr>
            <a:xfrm>
              <a:off x="6173640" y="396720"/>
              <a:ext cx="2292480" cy="20242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0000" y="59688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54800" y="1760400"/>
              <a:ext cx="765360" cy="41148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8560" y="176544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534000" y="1211040"/>
              <a:ext cx="654120" cy="252360"/>
              <a:chOff x="6534000" y="1211040"/>
              <a:chExt cx="654120" cy="252360"/>
            </a:xfrm>
          </p:grpSpPr>
          <p:sp>
            <p:nvSpPr>
              <p:cNvPr id="234" name=""/>
              <p:cNvSpPr/>
              <p:nvPr/>
            </p:nvSpPr>
            <p:spPr>
              <a:xfrm rot="10800000">
                <a:off x="6534000" y="121356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6971040" y="124920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7186680" y="121104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397640" y="1199880"/>
              <a:ext cx="654120" cy="252360"/>
              <a:chOff x="7397640" y="1199880"/>
              <a:chExt cx="654120" cy="252360"/>
            </a:xfrm>
          </p:grpSpPr>
          <p:sp>
            <p:nvSpPr>
              <p:cNvPr id="238" name=""/>
              <p:cNvSpPr/>
              <p:nvPr/>
            </p:nvSpPr>
            <p:spPr>
              <a:xfrm rot="10800000">
                <a:off x="7397640" y="120240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7834680" y="123804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8050320" y="119988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843600" y="1001880"/>
              <a:ext cx="3240" cy="191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854400" y="1459080"/>
              <a:ext cx="1800" cy="3124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5400" y="1111320"/>
              <a:ext cx="76500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13640" y="1111320"/>
              <a:ext cx="0" cy="921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9480" y="1454040"/>
              <a:ext cx="0" cy="3142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784840" y="3212640"/>
            <a:ext cx="2668680" cy="2737440"/>
            <a:chOff x="5784840" y="3212640"/>
            <a:chExt cx="2668680" cy="2737440"/>
          </a:xfrm>
        </p:grpSpPr>
        <p:sp>
          <p:nvSpPr>
            <p:cNvPr id="247" name=""/>
            <p:cNvSpPr/>
            <p:nvPr/>
          </p:nvSpPr>
          <p:spPr>
            <a:xfrm>
              <a:off x="6173640" y="3294000"/>
              <a:ext cx="2279880" cy="23162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62600" y="3560760"/>
              <a:ext cx="822600" cy="4237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92800" y="4916520"/>
              <a:ext cx="822240" cy="4237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54880" y="4432320"/>
              <a:ext cx="822240" cy="4237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2"/>
              <a:endCxn id="247" idx="2"/>
            </p:cNvCxnSpPr>
            <p:nvPr/>
          </p:nvCxnSpPr>
          <p:spPr>
            <a:xfrm rot="5400000">
              <a:off x="7212240" y="4966560"/>
              <a:ext cx="754560" cy="552960"/>
            </a:xfrm>
            <a:prstGeom prst="bentConnector3">
              <a:avLst>
                <a:gd name="adj1" fmla="val 72601"/>
              </a:avLst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7" idx="1"/>
              <a:endCxn id="248" idx="2"/>
            </p:cNvCxnSpPr>
            <p:nvPr/>
          </p:nvCxnSpPr>
          <p:spPr>
            <a:xfrm flipV="1">
              <a:off x="6163200" y="3993840"/>
              <a:ext cx="1010520" cy="459360"/>
            </a:xfrm>
            <a:prstGeom prst="bentConnector4">
              <a:avLst>
                <a:gd name="adj1" fmla="val 41019"/>
                <a:gd name="adj2" fmla="val 313"/>
              </a:avLst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8" idx="3"/>
              <a:endCxn id="250" idx="0"/>
            </p:cNvCxnSpPr>
            <p:nvPr/>
          </p:nvCxnSpPr>
          <p:spPr>
            <a:xfrm>
              <a:off x="7594560" y="3773160"/>
              <a:ext cx="272160" cy="64980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50" idx="1"/>
              <a:endCxn id="249" idx="0"/>
            </p:cNvCxnSpPr>
            <p:nvPr/>
          </p:nvCxnSpPr>
          <p:spPr>
            <a:xfrm flipV="1" rot="10800000">
              <a:off x="6703200" y="4643640"/>
              <a:ext cx="742320" cy="26208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255" name=""/>
            <p:cNvSpPr/>
            <p:nvPr/>
          </p:nvSpPr>
          <p:spPr>
            <a:xfrm>
              <a:off x="6104520" y="321264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 B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10480" y="3582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1960" y="4946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75840" y="447624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2600" y="5632560"/>
              <a:ext cx="0" cy="3175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784840" y="4468680"/>
              <a:ext cx="365040" cy="111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457440" y="387000"/>
            <a:ext cx="4997520" cy="2929320"/>
            <a:chOff x="3457440" y="387000"/>
            <a:chExt cx="4997520" cy="2929320"/>
          </a:xfrm>
        </p:grpSpPr>
        <p:sp>
          <p:nvSpPr>
            <p:cNvPr id="262" name=""/>
            <p:cNvSpPr/>
            <p:nvPr/>
          </p:nvSpPr>
          <p:spPr>
            <a:xfrm flipV="1">
              <a:off x="3457440" y="387000"/>
              <a:ext cx="2716200" cy="260028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316400" y="2409840"/>
              <a:ext cx="4138560" cy="90648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59240" y="3290400"/>
            <a:ext cx="5008320" cy="2304000"/>
            <a:chOff x="3459240" y="3290400"/>
            <a:chExt cx="5008320" cy="2304000"/>
          </a:xfrm>
        </p:grpSpPr>
        <p:sp>
          <p:nvSpPr>
            <p:cNvPr id="265" name=""/>
            <p:cNvSpPr/>
            <p:nvPr/>
          </p:nvSpPr>
          <p:spPr>
            <a:xfrm flipV="1">
              <a:off x="3494160" y="3325320"/>
              <a:ext cx="2646360" cy="127188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59240" y="5208480"/>
              <a:ext cx="2705040" cy="38592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27680" y="3290400"/>
              <a:ext cx="3479760" cy="129564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92760" y="5197320"/>
              <a:ext cx="3574800" cy="37476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De-Composition of Ag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ructural decomposition into internal agents implies also decomposition of behavi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tainer of an agent determines behavioural semantics of its cont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current agents: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lternating agents: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920" y="1762200"/>
            <a:ext cx="3883680" cy="3952080"/>
            <a:chOff x="763920" y="1762200"/>
            <a:chExt cx="3883680" cy="3952080"/>
          </a:xfrm>
        </p:grpSpPr>
        <p:sp>
          <p:nvSpPr>
            <p:cNvPr id="272" name=""/>
            <p:cNvSpPr/>
            <p:nvPr/>
          </p:nvSpPr>
          <p:spPr>
            <a:xfrm>
              <a:off x="763920" y="1784520"/>
              <a:ext cx="24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process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376280" y="1762200"/>
              <a:ext cx="3271320" cy="3952080"/>
              <a:chOff x="1376280" y="1762200"/>
              <a:chExt cx="3271320" cy="395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1376280" y="1762200"/>
                <a:ext cx="3271320" cy="39520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472040" y="2286360"/>
                <a:ext cx="2043000" cy="576720"/>
                <a:chOff x="1472040" y="2286360"/>
                <a:chExt cx="2043000" cy="5767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472040" y="2290320"/>
                  <a:ext cx="2043000" cy="5727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244680" y="2286360"/>
                  <a:ext cx="26640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15040" y="2306880"/>
                  <a:ext cx="0" cy="27216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235680" y="2306880"/>
                  <a:ext cx="261000" cy="28260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503720" y="2279160"/>
                <a:ext cx="180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Natura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Character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98440" y="3943800"/>
                <a:ext cx="1458360" cy="727920"/>
              </a:xfrm>
              <a:prstGeom prst="octagon">
                <a:avLst>
                  <a:gd name="adj" fmla="val 29287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55000" y="4800240"/>
                <a:ext cx="1458720" cy="727920"/>
              </a:xfrm>
              <a:prstGeom prst="octagon">
                <a:avLst>
                  <a:gd name="adj" fmla="val 29287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49520" y="40618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A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2280" y="49370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A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285" name=""/>
              <p:cNvCxnSpPr>
                <a:endCxn id="282" idx="3"/>
              </p:cNvCxnSpPr>
              <p:nvPr/>
            </p:nvCxnSpPr>
            <p:spPr>
              <a:xfrm flipV="1" rot="10800000">
                <a:off x="3223080" y="4587840"/>
                <a:ext cx="686160" cy="576360"/>
              </a:xfrm>
              <a:prstGeom prst="bentConnector3">
                <a:avLst>
                  <a:gd name="adj1" fmla="val 157"/>
                </a:avLst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86" name=""/>
              <p:cNvCxnSpPr>
                <a:stCxn id="281" idx="0"/>
                <a:endCxn id="287" idx="3"/>
              </p:cNvCxnSpPr>
              <p:nvPr/>
            </p:nvCxnSpPr>
            <p:spPr>
              <a:xfrm flipV="1" rot="16200000">
                <a:off x="3000600" y="3207960"/>
                <a:ext cx="471600" cy="98388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1911600" y="3273480"/>
                <a:ext cx="825480" cy="38052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95560" y="3226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902120" y="1757520"/>
            <a:ext cx="3373200" cy="3930480"/>
            <a:chOff x="4902120" y="1757520"/>
            <a:chExt cx="3373200" cy="3930480"/>
          </a:xfrm>
        </p:grpSpPr>
        <p:grpSp>
          <p:nvGrpSpPr>
            <p:cNvPr id="290" name=""/>
            <p:cNvGrpSpPr/>
            <p:nvPr/>
          </p:nvGrpSpPr>
          <p:grpSpPr>
            <a:xfrm>
              <a:off x="4902120" y="1757520"/>
              <a:ext cx="3373200" cy="3930480"/>
              <a:chOff x="4902120" y="1757520"/>
              <a:chExt cx="3373200" cy="3930480"/>
            </a:xfrm>
          </p:grpSpPr>
          <p:sp>
            <p:nvSpPr>
              <p:cNvPr id="291" name=""/>
              <p:cNvSpPr/>
              <p:nvPr/>
            </p:nvSpPr>
            <p:spPr>
              <a:xfrm>
                <a:off x="4942440" y="1757520"/>
                <a:ext cx="3332880" cy="39304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02120" y="177804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040360" y="2271240"/>
              <a:ext cx="1839600" cy="642600"/>
              <a:chOff x="5040360" y="2271240"/>
              <a:chExt cx="1839600" cy="6426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040360" y="2279160"/>
                <a:ext cx="1815480" cy="574200"/>
                <a:chOff x="5040360" y="2279160"/>
                <a:chExt cx="1815480" cy="574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040360" y="2283120"/>
                  <a:ext cx="1815480" cy="5702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15720" y="2279160"/>
                  <a:ext cx="23652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855840" y="2299680"/>
                  <a:ext cx="0" cy="27108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07440" y="2299680"/>
                  <a:ext cx="231840" cy="2811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5073120" y="2271240"/>
                <a:ext cx="180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Natura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Character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100480" y="4078440"/>
              <a:ext cx="1349640" cy="5396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0840" y="4791240"/>
              <a:ext cx="1501920" cy="71748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21880" y="40993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14320" y="48949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/>
            <p:nvPr/>
          </p:nvCxnSpPr>
          <p:spPr>
            <a:xfrm flipH="1" rot="16200000">
              <a:off x="5975280" y="4428720"/>
              <a:ext cx="524880" cy="92160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05" name=""/>
            <p:cNvCxnSpPr/>
            <p:nvPr/>
          </p:nvCxnSpPr>
          <p:spPr>
            <a:xfrm flipV="1" rot="10800000">
              <a:off x="5776200" y="3460320"/>
              <a:ext cx="862560" cy="61056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06" name=""/>
            <p:cNvGrpSpPr/>
            <p:nvPr/>
          </p:nvGrpSpPr>
          <p:grpSpPr>
            <a:xfrm>
              <a:off x="6648480" y="3213720"/>
              <a:ext cx="841320" cy="459720"/>
              <a:chOff x="6648480" y="3213720"/>
              <a:chExt cx="841320" cy="459720"/>
            </a:xfrm>
          </p:grpSpPr>
          <p:sp>
            <p:nvSpPr>
              <p:cNvPr id="307" name=""/>
              <p:cNvSpPr/>
              <p:nvPr/>
            </p:nvSpPr>
            <p:spPr>
              <a:xfrm>
                <a:off x="6648480" y="3270240"/>
                <a:ext cx="841320" cy="37836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32080" y="3213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Block Ag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ll contained agents execute concurrently with each other and with the agents 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ltiple threads of contr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current execution of multiple 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nsitions execute with run-to-comple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tained agents may b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locks or proces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379600" y="1022400"/>
            <a:ext cx="5070600" cy="4587840"/>
            <a:chOff x="2379600" y="1022400"/>
            <a:chExt cx="5070600" cy="4587840"/>
          </a:xfrm>
        </p:grpSpPr>
        <p:sp>
          <p:nvSpPr>
            <p:cNvPr id="312" name=""/>
            <p:cNvSpPr/>
            <p:nvPr/>
          </p:nvSpPr>
          <p:spPr>
            <a:xfrm>
              <a:off x="2987640" y="1022400"/>
              <a:ext cx="4462560" cy="45878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7480" y="108648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117960" y="1631880"/>
              <a:ext cx="2431800" cy="669240"/>
              <a:chOff x="3117960" y="1631880"/>
              <a:chExt cx="2431800" cy="669240"/>
            </a:xfrm>
          </p:grpSpPr>
          <p:sp>
            <p:nvSpPr>
              <p:cNvPr id="315" name=""/>
              <p:cNvSpPr/>
              <p:nvPr/>
            </p:nvSpPr>
            <p:spPr>
              <a:xfrm>
                <a:off x="3117960" y="1636560"/>
                <a:ext cx="2431800" cy="6645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7920" y="1631880"/>
                <a:ext cx="31716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49760" y="1656000"/>
                <a:ext cx="0" cy="31572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7120" y="1656000"/>
                <a:ext cx="310680" cy="32796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159000" y="167292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dc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i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Natura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c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Character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2720" y="3662280"/>
              <a:ext cx="1806840" cy="63036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97480" y="4656240"/>
              <a:ext cx="1806480" cy="63036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17320" y="37281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21640" y="47473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endCxn id="321" idx="3"/>
            </p:cNvCxnSpPr>
            <p:nvPr/>
          </p:nvCxnSpPr>
          <p:spPr>
            <a:xfrm flipV="1" rot="10800000">
              <a:off x="5412600" y="4300920"/>
              <a:ext cx="936000" cy="670680"/>
            </a:xfrm>
            <a:prstGeom prst="bentConnector3">
              <a:avLst>
                <a:gd name="adj1" fmla="val 153"/>
              </a:avLst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5" name=""/>
            <p:cNvCxnSpPr>
              <a:stCxn id="320" idx="0"/>
              <a:endCxn id="326" idx="3"/>
            </p:cNvCxnSpPr>
            <p:nvPr/>
          </p:nvCxnSpPr>
          <p:spPr>
            <a:xfrm flipV="1" rot="16200000">
              <a:off x="5197680" y="2654280"/>
              <a:ext cx="654840" cy="134208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7" name=""/>
            <p:cNvCxnSpPr/>
            <p:nvPr/>
          </p:nvCxnSpPr>
          <p:spPr>
            <a:xfrm flipV="1">
              <a:off x="3035160" y="2998440"/>
              <a:ext cx="673200" cy="72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1" idx="1"/>
              <a:endCxn id="329" idx="0"/>
            </p:cNvCxnSpPr>
            <p:nvPr/>
          </p:nvCxnSpPr>
          <p:spPr>
            <a:xfrm flipH="1">
              <a:off x="2991960" y="4971600"/>
              <a:ext cx="595800" cy="1836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</p:cxnSp>
        <p:sp>
          <p:nvSpPr>
            <p:cNvPr id="330" name=""/>
            <p:cNvSpPr/>
            <p:nvPr/>
          </p:nvSpPr>
          <p:spPr>
            <a:xfrm>
              <a:off x="2382840" y="2995560"/>
              <a:ext cx="6526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2379600" y="4961160"/>
              <a:ext cx="611280" cy="172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18080" y="2776680"/>
              <a:ext cx="1127160" cy="4428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0640" y="275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266840" y="2879280"/>
            <a:ext cx="984240" cy="2192760"/>
            <a:chOff x="1266840" y="2879280"/>
            <a:chExt cx="984240" cy="2192760"/>
          </a:xfrm>
        </p:grpSpPr>
        <p:grpSp>
          <p:nvGrpSpPr>
            <p:cNvPr id="334" name=""/>
            <p:cNvGrpSpPr/>
            <p:nvPr/>
          </p:nvGrpSpPr>
          <p:grpSpPr>
            <a:xfrm>
              <a:off x="1266840" y="4843080"/>
              <a:ext cx="914400" cy="228960"/>
              <a:chOff x="1266840" y="4843080"/>
              <a:chExt cx="914400" cy="228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24040" y="484344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1724040" y="4843080"/>
                <a:ext cx="457200" cy="152640"/>
                <a:chOff x="1724040" y="4843080"/>
                <a:chExt cx="457200" cy="152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724040" y="48434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52640" y="484308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 flipH="1">
                <a:off x="1266840" y="484344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1418760" y="491976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495080" y="49957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336680" y="2879280"/>
              <a:ext cx="914400" cy="228960"/>
              <a:chOff x="1336680" y="2879280"/>
              <a:chExt cx="914400" cy="228960"/>
            </a:xfrm>
          </p:grpSpPr>
          <p:sp>
            <p:nvSpPr>
              <p:cNvPr id="343" name=""/>
              <p:cNvSpPr/>
              <p:nvPr/>
            </p:nvSpPr>
            <p:spPr>
              <a:xfrm>
                <a:off x="1793880" y="287964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1793880" y="2879280"/>
                <a:ext cx="457200" cy="152640"/>
                <a:chOff x="1793880" y="2879280"/>
                <a:chExt cx="457200" cy="152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793880" y="28796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2022480" y="287928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 flipH="1">
                <a:off x="1336680" y="287964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488600" y="295596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564920" y="30319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379600" y="2995560"/>
            <a:ext cx="1328400" cy="1994040"/>
            <a:chOff x="2379600" y="2995560"/>
            <a:chExt cx="1328400" cy="1994040"/>
          </a:xfrm>
        </p:grpSpPr>
        <p:cxnSp>
          <p:nvCxnSpPr>
            <p:cNvPr id="351" name=""/>
            <p:cNvCxnSpPr/>
            <p:nvPr/>
          </p:nvCxnSpPr>
          <p:spPr>
            <a:xfrm flipV="1">
              <a:off x="3035160" y="2998440"/>
              <a:ext cx="673200" cy="720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2" name=""/>
            <p:cNvCxnSpPr>
              <a:stCxn id="353" idx="1"/>
              <a:endCxn id="354" idx="0"/>
            </p:cNvCxnSpPr>
            <p:nvPr/>
          </p:nvCxnSpPr>
          <p:spPr>
            <a:xfrm flipH="1">
              <a:off x="2991960" y="4971600"/>
              <a:ext cx="595800" cy="1836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2382840" y="2995560"/>
              <a:ext cx="65268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2379600" y="4960440"/>
              <a:ext cx="611280" cy="1764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597120" y="2757960"/>
            <a:ext cx="1806480" cy="2526480"/>
            <a:chOff x="3597120" y="2757960"/>
            <a:chExt cx="1806480" cy="2526480"/>
          </a:xfrm>
        </p:grpSpPr>
        <p:sp>
          <p:nvSpPr>
            <p:cNvPr id="353" name=""/>
            <p:cNvSpPr/>
            <p:nvPr/>
          </p:nvSpPr>
          <p:spPr>
            <a:xfrm>
              <a:off x="3597120" y="4654440"/>
              <a:ext cx="1806480" cy="630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1640" y="47451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774880"/>
              <a:ext cx="1127160" cy="442800"/>
            </a:xfrm>
            <a:prstGeom prst="roundRect">
              <a:avLst>
                <a:gd name="adj" fmla="val 28569"/>
              </a:avLst>
            </a:prstGeom>
            <a:solidFill>
              <a:srgbClr val="ff00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0280" y="2757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346720" y="2703240"/>
            <a:ext cx="984240" cy="2192760"/>
            <a:chOff x="5346720" y="2703240"/>
            <a:chExt cx="984240" cy="2192760"/>
          </a:xfrm>
        </p:grpSpPr>
        <p:grpSp>
          <p:nvGrpSpPr>
            <p:cNvPr id="362" name=""/>
            <p:cNvGrpSpPr/>
            <p:nvPr/>
          </p:nvGrpSpPr>
          <p:grpSpPr>
            <a:xfrm>
              <a:off x="5346720" y="4667040"/>
              <a:ext cx="914400" cy="228960"/>
              <a:chOff x="5346720" y="4667040"/>
              <a:chExt cx="914400" cy="228960"/>
            </a:xfrm>
          </p:grpSpPr>
          <p:sp>
            <p:nvSpPr>
              <p:cNvPr id="363" name=""/>
              <p:cNvSpPr/>
              <p:nvPr/>
            </p:nvSpPr>
            <p:spPr>
              <a:xfrm>
                <a:off x="5803920" y="466740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5803920" y="4667040"/>
                <a:ext cx="457200" cy="152640"/>
                <a:chOff x="5803920" y="4667040"/>
                <a:chExt cx="457200" cy="1526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803920" y="466740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6032520" y="46670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 flipH="1">
                <a:off x="5346720" y="466740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498640" y="474372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574960" y="481968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416560" y="2703240"/>
              <a:ext cx="914400" cy="228960"/>
              <a:chOff x="5416560" y="2703240"/>
              <a:chExt cx="914400" cy="228960"/>
            </a:xfrm>
          </p:grpSpPr>
          <p:sp>
            <p:nvSpPr>
              <p:cNvPr id="371" name=""/>
              <p:cNvSpPr/>
              <p:nvPr/>
            </p:nvSpPr>
            <p:spPr>
              <a:xfrm>
                <a:off x="5873760" y="270360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5873760" y="2703240"/>
                <a:ext cx="457200" cy="152640"/>
                <a:chOff x="5873760" y="2703240"/>
                <a:chExt cx="457200" cy="1526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873760" y="270360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6102360" y="27032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 flipH="1">
                <a:off x="5416560" y="270360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568480" y="277992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644800" y="285588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Process Ag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50440" y="178128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ll contained agents execute alternating with each other and with the agents 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t most one transition is executed at any point in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lection is non-determin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nsitions execute in run-to-comple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tained agent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y be of kind process on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2379600" y="1022400"/>
            <a:ext cx="5070600" cy="4587840"/>
            <a:chOff x="2379600" y="1022400"/>
            <a:chExt cx="5070600" cy="4587840"/>
          </a:xfrm>
        </p:grpSpPr>
        <p:sp>
          <p:nvSpPr>
            <p:cNvPr id="381" name=""/>
            <p:cNvSpPr/>
            <p:nvPr/>
          </p:nvSpPr>
          <p:spPr>
            <a:xfrm>
              <a:off x="2987640" y="1022400"/>
              <a:ext cx="4462560" cy="45878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6400" y="10864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process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3117960" y="1631880"/>
              <a:ext cx="2431440" cy="669240"/>
              <a:chOff x="3117960" y="1631880"/>
              <a:chExt cx="2431440" cy="669240"/>
            </a:xfrm>
          </p:grpSpPr>
          <p:sp>
            <p:nvSpPr>
              <p:cNvPr id="384" name=""/>
              <p:cNvSpPr/>
              <p:nvPr/>
            </p:nvSpPr>
            <p:spPr>
              <a:xfrm>
                <a:off x="3117960" y="1636560"/>
                <a:ext cx="2431440" cy="6645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27920" y="1631880"/>
                <a:ext cx="31716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49400" y="1656000"/>
                <a:ext cx="0" cy="31572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16760" y="1656000"/>
                <a:ext cx="310680" cy="32796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159000" y="167256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dc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i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Natura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c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Character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0560" y="3554280"/>
              <a:ext cx="1990800" cy="84636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5320" y="4548240"/>
              <a:ext cx="1990440" cy="84600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17320" y="37278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21640" y="47469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endCxn id="390" idx="3"/>
            </p:cNvCxnSpPr>
            <p:nvPr/>
          </p:nvCxnSpPr>
          <p:spPr>
            <a:xfrm flipV="1" rot="10800000">
              <a:off x="5504760" y="4300920"/>
              <a:ext cx="935640" cy="670680"/>
            </a:xfrm>
            <a:prstGeom prst="bentConnector3">
              <a:avLst>
                <a:gd name="adj1" fmla="val 153"/>
              </a:avLst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4" name=""/>
            <p:cNvCxnSpPr>
              <a:stCxn id="389" idx="0"/>
              <a:endCxn id="395" idx="3"/>
            </p:cNvCxnSpPr>
            <p:nvPr/>
          </p:nvCxnSpPr>
          <p:spPr>
            <a:xfrm flipV="1" rot="16200000">
              <a:off x="5252040" y="2600280"/>
              <a:ext cx="546480" cy="134208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6" name=""/>
            <p:cNvCxnSpPr/>
            <p:nvPr/>
          </p:nvCxnSpPr>
          <p:spPr>
            <a:xfrm flipV="1">
              <a:off x="3035160" y="2998440"/>
              <a:ext cx="673920" cy="72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97" name=""/>
            <p:cNvCxnSpPr>
              <a:stCxn id="390" idx="1"/>
              <a:endCxn id="398" idx="0"/>
            </p:cNvCxnSpPr>
            <p:nvPr/>
          </p:nvCxnSpPr>
          <p:spPr>
            <a:xfrm flipH="1">
              <a:off x="2991960" y="4971600"/>
              <a:ext cx="504000" cy="1836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</p:cxnSp>
        <p:sp>
          <p:nvSpPr>
            <p:cNvPr id="399" name=""/>
            <p:cNvSpPr/>
            <p:nvPr/>
          </p:nvSpPr>
          <p:spPr>
            <a:xfrm>
              <a:off x="2382840" y="2995560"/>
              <a:ext cx="65232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2379600" y="4960440"/>
              <a:ext cx="611280" cy="176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18080" y="2776680"/>
              <a:ext cx="1126800" cy="4428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0280" y="275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266840" y="2879280"/>
            <a:ext cx="984240" cy="2192760"/>
            <a:chOff x="1266840" y="2879280"/>
            <a:chExt cx="984240" cy="2192760"/>
          </a:xfrm>
        </p:grpSpPr>
        <p:grpSp>
          <p:nvGrpSpPr>
            <p:cNvPr id="403" name=""/>
            <p:cNvGrpSpPr/>
            <p:nvPr/>
          </p:nvGrpSpPr>
          <p:grpSpPr>
            <a:xfrm>
              <a:off x="1266840" y="4843080"/>
              <a:ext cx="914400" cy="228960"/>
              <a:chOff x="1266840" y="4843080"/>
              <a:chExt cx="914400" cy="22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1724040" y="484344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1724040" y="4843080"/>
                <a:ext cx="457200" cy="152640"/>
                <a:chOff x="1724040" y="4843080"/>
                <a:chExt cx="457200" cy="1526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724040" y="48434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1952640" y="484308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 flipH="1">
                <a:off x="1266840" y="484344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1418760" y="491976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1495080" y="49957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336680" y="2879280"/>
              <a:ext cx="914400" cy="228960"/>
              <a:chOff x="1336680" y="2879280"/>
              <a:chExt cx="914400" cy="228960"/>
            </a:xfrm>
          </p:grpSpPr>
          <p:sp>
            <p:nvSpPr>
              <p:cNvPr id="412" name=""/>
              <p:cNvSpPr/>
              <p:nvPr/>
            </p:nvSpPr>
            <p:spPr>
              <a:xfrm>
                <a:off x="1793880" y="2879640"/>
                <a:ext cx="457200" cy="228600"/>
              </a:xfrm>
              <a:prstGeom prst="rect">
                <a:avLst/>
              </a:prstGeom>
              <a:solidFill>
                <a:srgbClr val="0066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1793880" y="2879280"/>
                <a:ext cx="457200" cy="152640"/>
                <a:chOff x="1793880" y="2879280"/>
                <a:chExt cx="457200" cy="1526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793880" y="287964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2022480" y="2879280"/>
                  <a:ext cx="228600" cy="152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 flipH="1">
                <a:off x="1336680" y="287964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488600" y="295596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564920" y="30319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2379600" y="2995560"/>
            <a:ext cx="1329120" cy="1994040"/>
            <a:chOff x="2379600" y="2995560"/>
            <a:chExt cx="1329120" cy="1994040"/>
          </a:xfrm>
        </p:grpSpPr>
        <p:cxnSp>
          <p:nvCxnSpPr>
            <p:cNvPr id="420" name=""/>
            <p:cNvCxnSpPr/>
            <p:nvPr/>
          </p:nvCxnSpPr>
          <p:spPr>
            <a:xfrm flipV="1">
              <a:off x="3035160" y="2998440"/>
              <a:ext cx="673920" cy="720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1" name=""/>
            <p:cNvCxnSpPr>
              <a:stCxn id="422" idx="1"/>
              <a:endCxn id="423" idx="0"/>
            </p:cNvCxnSpPr>
            <p:nvPr/>
          </p:nvCxnSpPr>
          <p:spPr>
            <a:xfrm flipH="1">
              <a:off x="2991960" y="4971600"/>
              <a:ext cx="504000" cy="1836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</a:ln>
          </p:spPr>
        </p:cxnSp>
        <p:sp>
          <p:nvSpPr>
            <p:cNvPr id="424" name=""/>
            <p:cNvSpPr/>
            <p:nvPr/>
          </p:nvSpPr>
          <p:spPr>
            <a:xfrm>
              <a:off x="2382840" y="2995560"/>
              <a:ext cx="652320" cy="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2379600" y="4960440"/>
              <a:ext cx="611280" cy="1764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500280" y="4548240"/>
            <a:ext cx="1998360" cy="846000"/>
            <a:chOff x="3500280" y="4548240"/>
            <a:chExt cx="1998360" cy="846000"/>
          </a:xfrm>
        </p:grpSpPr>
        <p:sp>
          <p:nvSpPr>
            <p:cNvPr id="422" name=""/>
            <p:cNvSpPr/>
            <p:nvPr/>
          </p:nvSpPr>
          <p:spPr>
            <a:xfrm>
              <a:off x="3500280" y="4548240"/>
              <a:ext cx="1998360" cy="846000"/>
            </a:xfrm>
            <a:prstGeom prst="octagon">
              <a:avLst>
                <a:gd name="adj" fmla="val 29287"/>
              </a:avLst>
            </a:prstGeom>
            <a:solidFill>
              <a:srgbClr val="ff00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9480" y="47469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718080" y="2759760"/>
            <a:ext cx="1126800" cy="459720"/>
            <a:chOff x="3718080" y="2759760"/>
            <a:chExt cx="1126800" cy="459720"/>
          </a:xfrm>
        </p:grpSpPr>
        <p:sp>
          <p:nvSpPr>
            <p:cNvPr id="429" name=""/>
            <p:cNvSpPr/>
            <p:nvPr/>
          </p:nvSpPr>
          <p:spPr>
            <a:xfrm>
              <a:off x="3718080" y="2776680"/>
              <a:ext cx="1126800" cy="442800"/>
            </a:xfrm>
            <a:prstGeom prst="roundRect">
              <a:avLst>
                <a:gd name="adj" fmla="val 28569"/>
              </a:avLst>
            </a:prstGeom>
            <a:solidFill>
              <a:srgbClr val="ff00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40280" y="275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59320" y="4608000"/>
            <a:ext cx="914400" cy="228960"/>
            <a:chOff x="5359320" y="4608000"/>
            <a:chExt cx="914400" cy="228960"/>
          </a:xfrm>
        </p:grpSpPr>
        <p:sp>
          <p:nvSpPr>
            <p:cNvPr id="432" name=""/>
            <p:cNvSpPr/>
            <p:nvPr/>
          </p:nvSpPr>
          <p:spPr>
            <a:xfrm>
              <a:off x="5816520" y="4608360"/>
              <a:ext cx="457200" cy="22860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816520" y="4608000"/>
              <a:ext cx="457200" cy="152640"/>
              <a:chOff x="5816520" y="4608000"/>
              <a:chExt cx="457200" cy="152640"/>
            </a:xfrm>
          </p:grpSpPr>
          <p:sp>
            <p:nvSpPr>
              <p:cNvPr id="434" name=""/>
              <p:cNvSpPr/>
              <p:nvPr/>
            </p:nvSpPr>
            <p:spPr>
              <a:xfrm>
                <a:off x="5816520" y="4608360"/>
                <a:ext cx="228600" cy="152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045120" y="4608000"/>
                <a:ext cx="228600" cy="152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H="1">
              <a:off x="5359320" y="4608360"/>
              <a:ext cx="3808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511240" y="4684680"/>
              <a:ext cx="2286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587560" y="4760640"/>
              <a:ext cx="152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29160" y="2644560"/>
            <a:ext cx="914400" cy="228960"/>
            <a:chOff x="5429160" y="2644560"/>
            <a:chExt cx="914400" cy="228960"/>
          </a:xfrm>
        </p:grpSpPr>
        <p:sp>
          <p:nvSpPr>
            <p:cNvPr id="440" name=""/>
            <p:cNvSpPr/>
            <p:nvPr/>
          </p:nvSpPr>
          <p:spPr>
            <a:xfrm>
              <a:off x="5886360" y="2644920"/>
              <a:ext cx="457200" cy="22860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886360" y="2644560"/>
              <a:ext cx="457200" cy="152640"/>
              <a:chOff x="5886360" y="2644560"/>
              <a:chExt cx="457200" cy="152640"/>
            </a:xfrm>
          </p:grpSpPr>
          <p:sp>
            <p:nvSpPr>
              <p:cNvPr id="442" name=""/>
              <p:cNvSpPr/>
              <p:nvPr/>
            </p:nvSpPr>
            <p:spPr>
              <a:xfrm>
                <a:off x="5886360" y="2644920"/>
                <a:ext cx="228600" cy="152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6114960" y="2644560"/>
                <a:ext cx="228600" cy="152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5429160" y="2644920"/>
              <a:ext cx="3808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581080" y="2721240"/>
              <a:ext cx="2286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657400" y="2797200"/>
              <a:ext cx="152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ystem Ag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system is one special (block) agen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st be the outermost ag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s the border to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s communication primitives exchanged with the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Variables in Ag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4960" y="17175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variab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ore data local to an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wned by agents state mach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private variables, visible only 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gents state mach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ocal variables, visible 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gents state machin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ained ag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public (exported) variab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isibility controlled by 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remot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decla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078920" y="1936800"/>
            <a:ext cx="4061520" cy="4375080"/>
            <a:chOff x="1078920" y="1936800"/>
            <a:chExt cx="4061520" cy="4375080"/>
          </a:xfrm>
        </p:grpSpPr>
        <p:grpSp>
          <p:nvGrpSpPr>
            <p:cNvPr id="452" name=""/>
            <p:cNvGrpSpPr/>
            <p:nvPr/>
          </p:nvGrpSpPr>
          <p:grpSpPr>
            <a:xfrm>
              <a:off x="1078920" y="1936800"/>
              <a:ext cx="3543840" cy="4033800"/>
              <a:chOff x="1078920" y="1936800"/>
              <a:chExt cx="3543840" cy="4033800"/>
            </a:xfrm>
          </p:grpSpPr>
          <p:sp>
            <p:nvSpPr>
              <p:cNvPr id="453" name=""/>
              <p:cNvSpPr/>
              <p:nvPr/>
            </p:nvSpPr>
            <p:spPr>
              <a:xfrm>
                <a:off x="1082880" y="1936800"/>
                <a:ext cx="3539880" cy="4033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78920" y="196596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185840" y="2472840"/>
              <a:ext cx="1928520" cy="642600"/>
              <a:chOff x="1185840" y="2472840"/>
              <a:chExt cx="1928520" cy="6426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1185840" y="2473560"/>
                <a:ext cx="1928520" cy="588600"/>
                <a:chOff x="1185840" y="2473560"/>
                <a:chExt cx="1928520" cy="5886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185840" y="2477880"/>
                  <a:ext cx="1928520" cy="58428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859480" y="2473560"/>
                  <a:ext cx="25128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114360" y="2494800"/>
                  <a:ext cx="0" cy="27756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850480" y="2494800"/>
                  <a:ext cx="246240" cy="2883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1218600" y="2472840"/>
                <a:ext cx="174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Natural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Character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251000" y="4319640"/>
              <a:ext cx="3138480" cy="1376280"/>
              <a:chOff x="1251000" y="4319640"/>
              <a:chExt cx="3138480" cy="1376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251000" y="431964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55960" y="514188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502280" y="43502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07400" y="51631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1967400" y="3684600"/>
              <a:ext cx="3173040" cy="2627280"/>
              <a:chOff x="1967400" y="3684600"/>
              <a:chExt cx="3173040" cy="2627280"/>
            </a:xfrm>
          </p:grpSpPr>
          <p:cxnSp>
            <p:nvCxnSpPr>
              <p:cNvPr id="468" name=""/>
              <p:cNvCxnSpPr>
                <a:stCxn id="463" idx="2"/>
                <a:endCxn id="464" idx="1"/>
              </p:cNvCxnSpPr>
              <p:nvPr/>
            </p:nvCxnSpPr>
            <p:spPr>
              <a:xfrm flipH="1" rot="16200000">
                <a:off x="2188440" y="4662360"/>
                <a:ext cx="536760" cy="9788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469" name=""/>
              <p:cNvCxnSpPr>
                <a:stCxn id="470" idx="1"/>
                <a:endCxn id="463" idx="0"/>
              </p:cNvCxnSpPr>
              <p:nvPr/>
            </p:nvCxnSpPr>
            <p:spPr>
              <a:xfrm flipV="1" rot="10800000">
                <a:off x="1967760" y="3684600"/>
                <a:ext cx="916920" cy="6260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471" name=""/>
              <p:cNvCxnSpPr>
                <a:stCxn id="470" idx="3"/>
                <a:endCxn id="453" idx="3"/>
              </p:cNvCxnSpPr>
              <p:nvPr/>
            </p:nvCxnSpPr>
            <p:spPr>
              <a:xfrm>
                <a:off x="3797280" y="3684600"/>
                <a:ext cx="835920" cy="27072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472" name=""/>
              <p:cNvCxnSpPr>
                <a:stCxn id="464" idx="2"/>
                <a:endCxn id="453" idx="2"/>
              </p:cNvCxnSpPr>
              <p:nvPr/>
            </p:nvCxnSpPr>
            <p:spPr>
              <a:xfrm flipH="1">
                <a:off x="2852280" y="5705280"/>
                <a:ext cx="821520" cy="27540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473" name=""/>
              <p:cNvSpPr/>
              <p:nvPr/>
            </p:nvSpPr>
            <p:spPr>
              <a:xfrm>
                <a:off x="4622760" y="3971880"/>
                <a:ext cx="51768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59120" y="5994360"/>
                <a:ext cx="0" cy="3175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894040" y="3437640"/>
              <a:ext cx="893880" cy="459720"/>
              <a:chOff x="2894040" y="3437640"/>
              <a:chExt cx="893880" cy="459720"/>
            </a:xfrm>
          </p:grpSpPr>
          <p:sp>
            <p:nvSpPr>
              <p:cNvPr id="470" name=""/>
              <p:cNvSpPr/>
              <p:nvPr/>
            </p:nvSpPr>
            <p:spPr>
              <a:xfrm>
                <a:off x="2894040" y="3489480"/>
                <a:ext cx="893880" cy="38880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02120" y="3437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2941560" y="901440"/>
            <a:ext cx="4997520" cy="2929320"/>
            <a:chOff x="2941560" y="901440"/>
            <a:chExt cx="4997520" cy="2929320"/>
          </a:xfrm>
        </p:grpSpPr>
        <p:sp>
          <p:nvSpPr>
            <p:cNvPr id="478" name=""/>
            <p:cNvSpPr/>
            <p:nvPr/>
          </p:nvSpPr>
          <p:spPr>
            <a:xfrm flipV="1">
              <a:off x="2941560" y="901440"/>
              <a:ext cx="2716200" cy="260028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800520" y="2924280"/>
              <a:ext cx="4138560" cy="90648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43360" y="3804840"/>
            <a:ext cx="5008320" cy="2304000"/>
            <a:chOff x="2943360" y="3804840"/>
            <a:chExt cx="5008320" cy="2304000"/>
          </a:xfrm>
        </p:grpSpPr>
        <p:sp>
          <p:nvSpPr>
            <p:cNvPr id="481" name=""/>
            <p:cNvSpPr/>
            <p:nvPr/>
          </p:nvSpPr>
          <p:spPr>
            <a:xfrm flipV="1">
              <a:off x="2978280" y="3839760"/>
              <a:ext cx="2646360" cy="127188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3360" y="5722920"/>
              <a:ext cx="2705040" cy="38592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411800" y="3804840"/>
              <a:ext cx="3479760" cy="129564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76880" y="5711760"/>
              <a:ext cx="3574800" cy="37476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657760" y="911160"/>
            <a:ext cx="2292480" cy="2024280"/>
            <a:chOff x="5657760" y="911160"/>
            <a:chExt cx="2292480" cy="2024280"/>
          </a:xfrm>
        </p:grpSpPr>
        <p:grpSp>
          <p:nvGrpSpPr>
            <p:cNvPr id="486" name=""/>
            <p:cNvGrpSpPr/>
            <p:nvPr/>
          </p:nvGrpSpPr>
          <p:grpSpPr>
            <a:xfrm>
              <a:off x="6929640" y="1111320"/>
              <a:ext cx="811080" cy="404640"/>
              <a:chOff x="6929640" y="1111320"/>
              <a:chExt cx="811080" cy="404640"/>
            </a:xfrm>
          </p:grpSpPr>
          <p:sp>
            <p:nvSpPr>
              <p:cNvPr id="487" name=""/>
              <p:cNvSpPr/>
              <p:nvPr/>
            </p:nvSpPr>
            <p:spPr>
              <a:xfrm>
                <a:off x="6929640" y="1114200"/>
                <a:ext cx="811080" cy="4017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633440" y="1111320"/>
                <a:ext cx="10548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40720" y="1125720"/>
                <a:ext cx="0" cy="19080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29840" y="1125720"/>
                <a:ext cx="103320" cy="19800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657760" y="911160"/>
              <a:ext cx="2292480" cy="2024280"/>
              <a:chOff x="5657760" y="911160"/>
              <a:chExt cx="2292480" cy="20242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657760" y="911160"/>
                <a:ext cx="2292480" cy="2024280"/>
                <a:chOff x="5657760" y="911160"/>
                <a:chExt cx="2292480" cy="2024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657760" y="911160"/>
                  <a:ext cx="2292480" cy="202428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64120" y="1111320"/>
                  <a:ext cx="765360" cy="411120"/>
                </a:xfrm>
                <a:prstGeom prst="roundRect">
                  <a:avLst>
                    <a:gd name="adj" fmla="val 16667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838920" y="2274840"/>
                  <a:ext cx="765360" cy="411480"/>
                </a:xfrm>
                <a:prstGeom prst="roundRect">
                  <a:avLst>
                    <a:gd name="adj" fmla="val 16667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962680" y="2279880"/>
                  <a:ext cx="765360" cy="411120"/>
                </a:xfrm>
                <a:prstGeom prst="roundRect">
                  <a:avLst>
                    <a:gd name="adj" fmla="val 16667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6018120" y="1725480"/>
                  <a:ext cx="654120" cy="252360"/>
                  <a:chOff x="6018120" y="1725480"/>
                  <a:chExt cx="654120" cy="2523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10800000">
                    <a:off x="6018120" y="1728000"/>
                    <a:ext cx="650880" cy="249840"/>
                  </a:xfrm>
                  <a:prstGeom prst="flowChartProcess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6200000">
                    <a:off x="6455160" y="1763640"/>
                    <a:ext cx="244800" cy="178920"/>
                  </a:xfrm>
                  <a:prstGeom prst="flowChartExtra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flipV="1">
                    <a:off x="6670800" y="1725480"/>
                    <a:ext cx="1440" cy="25236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6881760" y="1714320"/>
                  <a:ext cx="654120" cy="252360"/>
                  <a:chOff x="6881760" y="1714320"/>
                  <a:chExt cx="654120" cy="2523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10800000">
                    <a:off x="6881760" y="1716840"/>
                    <a:ext cx="650880" cy="249840"/>
                  </a:xfrm>
                  <a:prstGeom prst="flowChartProcess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6200000">
                    <a:off x="7318800" y="1752480"/>
                    <a:ext cx="244800" cy="178920"/>
                  </a:xfrm>
                  <a:prstGeom prst="flowChartExtra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flipV="1">
                    <a:off x="7534440" y="1714320"/>
                    <a:ext cx="1440" cy="25236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5" name=""/>
                <p:cNvSpPr/>
                <p:nvPr/>
              </p:nvSpPr>
              <p:spPr>
                <a:xfrm>
                  <a:off x="6327720" y="1516320"/>
                  <a:ext cx="3240" cy="1918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6338520" y="1973520"/>
                  <a:ext cx="1800" cy="3124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29520" y="1625760"/>
                  <a:ext cx="765000" cy="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097760" y="1625760"/>
                  <a:ext cx="0" cy="9216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13600" y="1968480"/>
                  <a:ext cx="0" cy="3142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6926040" y="1110240"/>
                <a:ext cx="87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200" spc="-1" strike="noStrike">
                    <a:solidFill>
                      <a:srgbClr val="eaeaea"/>
                    </a:solidFill>
                    <a:latin typeface="Arial"/>
                  </a:rPr>
                  <a:t> p Pid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5268600" y="3727080"/>
            <a:ext cx="2682720" cy="2736720"/>
            <a:chOff x="5268600" y="3727080"/>
            <a:chExt cx="2682720" cy="2736720"/>
          </a:xfrm>
        </p:grpSpPr>
        <p:grpSp>
          <p:nvGrpSpPr>
            <p:cNvPr id="512" name=""/>
            <p:cNvGrpSpPr/>
            <p:nvPr/>
          </p:nvGrpSpPr>
          <p:grpSpPr>
            <a:xfrm>
              <a:off x="5268600" y="3727080"/>
              <a:ext cx="2682720" cy="2736720"/>
              <a:chOff x="5268600" y="3727080"/>
              <a:chExt cx="2682720" cy="27367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268600" y="3727080"/>
                <a:ext cx="2682720" cy="2736720"/>
                <a:chOff x="5268600" y="3727080"/>
                <a:chExt cx="2682720" cy="27367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659560" y="3808080"/>
                  <a:ext cx="2291760" cy="231588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51760" y="4074840"/>
                  <a:ext cx="826920" cy="4233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779440" y="5430600"/>
                  <a:ext cx="826560" cy="4233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947640" y="4946400"/>
                  <a:ext cx="826560" cy="4233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18" name=""/>
                <p:cNvCxnSpPr>
                  <a:stCxn id="517" idx="2"/>
                  <a:endCxn id="514" idx="2"/>
                </p:cNvCxnSpPr>
                <p:nvPr/>
              </p:nvCxnSpPr>
              <p:spPr>
                <a:xfrm rot="5400000">
                  <a:off x="6706080" y="5478840"/>
                  <a:ext cx="754200" cy="555840"/>
                </a:xfrm>
                <a:prstGeom prst="bentConnector3">
                  <a:avLst>
                    <a:gd name="adj1" fmla="val 72588"/>
                  </a:avLst>
                </a:prstGeom>
                <a:ln cap="sq" w="1908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519" name=""/>
                <p:cNvCxnSpPr>
                  <a:stCxn id="514" idx="1"/>
                  <a:endCxn id="515" idx="2"/>
                </p:cNvCxnSpPr>
                <p:nvPr/>
              </p:nvCxnSpPr>
              <p:spPr>
                <a:xfrm flipV="1">
                  <a:off x="5649120" y="4507560"/>
                  <a:ext cx="1015560" cy="459000"/>
                </a:xfrm>
                <a:prstGeom prst="bentConnector4">
                  <a:avLst>
                    <a:gd name="adj1" fmla="val 41028"/>
                    <a:gd name="adj2" fmla="val 313"/>
                  </a:avLst>
                </a:prstGeom>
                <a:ln cap="sq" w="19080">
                  <a:solidFill>
                    <a:srgbClr val="eaeaea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520" name=""/>
                <p:cNvCxnSpPr>
                  <a:stCxn id="515" idx="3"/>
                  <a:endCxn id="517" idx="0"/>
                </p:cNvCxnSpPr>
                <p:nvPr/>
              </p:nvCxnSpPr>
              <p:spPr>
                <a:xfrm>
                  <a:off x="7087680" y="4287600"/>
                  <a:ext cx="273240" cy="649440"/>
                </a:xfrm>
                <a:prstGeom prst="bentConnector2">
                  <a:avLst/>
                </a:prstGeom>
                <a:ln cap="sq" w="19080">
                  <a:solidFill>
                    <a:srgbClr val="eaeaea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521" name=""/>
                <p:cNvCxnSpPr>
                  <a:stCxn id="517" idx="1"/>
                  <a:endCxn id="516" idx="0"/>
                </p:cNvCxnSpPr>
                <p:nvPr/>
              </p:nvCxnSpPr>
              <p:spPr>
                <a:xfrm flipV="1" rot="10800000">
                  <a:off x="6192000" y="5158800"/>
                  <a:ext cx="745920" cy="262080"/>
                </a:xfrm>
                <a:prstGeom prst="bentConnector2">
                  <a:avLst/>
                </a:prstGeom>
                <a:ln cap="sq" w="1908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  <p:sp>
              <p:nvSpPr>
                <p:cNvPr id="522" name=""/>
                <p:cNvSpPr/>
                <p:nvPr/>
              </p:nvSpPr>
              <p:spPr>
                <a:xfrm>
                  <a:off x="5591880" y="3727080"/>
                  <a:ext cx="1014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block</a:t>
                  </a: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 B2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00360" y="4096800"/>
                  <a:ext cx="60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B2-1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00760" y="5460480"/>
                  <a:ext cx="60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B2-2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070760" y="4990320"/>
                  <a:ext cx="60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B2-3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94640" y="6146640"/>
                  <a:ext cx="0" cy="31716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5268600" y="4982760"/>
                  <a:ext cx="366840" cy="1080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7236000" y="3877920"/>
                <a:ext cx="701640" cy="36324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7312320" y="383400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113520" y="1428840"/>
            <a:ext cx="762120" cy="106668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0" y="672"/>
                </a:moveTo>
                <a:cubicBezTo>
                  <a:pt x="32" y="488"/>
                  <a:pt x="64" y="304"/>
                  <a:pt x="144" y="192"/>
                </a:cubicBezTo>
                <a:cubicBezTo>
                  <a:pt x="224" y="80"/>
                  <a:pt x="352" y="40"/>
                  <a:pt x="480" y="0"/>
                </a:cubicBezTo>
              </a:path>
            </a:pathLst>
          </a:custGeom>
          <a:noFill/>
          <a:ln cap="sq"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18040" y="2690640"/>
            <a:ext cx="4114800" cy="1328760"/>
          </a:xfrm>
          <a:custGeom>
            <a:avLst/>
            <a:gdLst/>
            <a:ahLst/>
            <a:rect l="l" t="t" r="r" b="b"/>
            <a:pathLst>
              <a:path w="2592" h="896">
                <a:moveTo>
                  <a:pt x="2592" y="896"/>
                </a:moveTo>
                <a:cubicBezTo>
                  <a:pt x="2532" y="704"/>
                  <a:pt x="2472" y="512"/>
                  <a:pt x="2208" y="368"/>
                </a:cubicBezTo>
                <a:cubicBezTo>
                  <a:pt x="1944" y="224"/>
                  <a:pt x="1376" y="64"/>
                  <a:pt x="1008" y="32"/>
                </a:cubicBezTo>
                <a:cubicBezTo>
                  <a:pt x="640" y="0"/>
                  <a:pt x="320" y="88"/>
                  <a:pt x="0" y="176"/>
                </a:cubicBezTo>
              </a:path>
            </a:pathLst>
          </a:custGeom>
          <a:noFill/>
          <a:ln cap="sq" w="1908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18040" y="2838600"/>
            <a:ext cx="2819160" cy="2705040"/>
          </a:xfrm>
          <a:custGeom>
            <a:avLst/>
            <a:gdLst/>
            <a:ahLst/>
            <a:rect l="l" t="t" r="r" b="b"/>
            <a:pathLst>
              <a:path w="1776" h="1704">
                <a:moveTo>
                  <a:pt x="1776" y="1704"/>
                </a:moveTo>
                <a:cubicBezTo>
                  <a:pt x="1616" y="1264"/>
                  <a:pt x="1456" y="824"/>
                  <a:pt x="1296" y="552"/>
                </a:cubicBezTo>
                <a:cubicBezTo>
                  <a:pt x="1136" y="280"/>
                  <a:pt x="1032" y="144"/>
                  <a:pt x="816" y="72"/>
                </a:cubicBezTo>
                <a:cubicBezTo>
                  <a:pt x="600" y="0"/>
                  <a:pt x="300" y="60"/>
                  <a:pt x="0" y="120"/>
                </a:cubicBezTo>
              </a:path>
            </a:pathLst>
          </a:custGeom>
          <a:noFill/>
          <a:ln cap="sq" w="1908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18040" y="1936800"/>
            <a:ext cx="2895480" cy="787320"/>
          </a:xfrm>
          <a:custGeom>
            <a:avLst/>
            <a:gdLst/>
            <a:ahLst/>
            <a:rect l="l" t="t" r="r" b="b"/>
            <a:pathLst>
              <a:path w="1824" h="496">
                <a:moveTo>
                  <a:pt x="1824" y="352"/>
                </a:moveTo>
                <a:cubicBezTo>
                  <a:pt x="1768" y="256"/>
                  <a:pt x="1712" y="160"/>
                  <a:pt x="1584" y="112"/>
                </a:cubicBezTo>
                <a:cubicBezTo>
                  <a:pt x="1456" y="64"/>
                  <a:pt x="1320" y="0"/>
                  <a:pt x="1056" y="64"/>
                </a:cubicBezTo>
                <a:cubicBezTo>
                  <a:pt x="792" y="128"/>
                  <a:pt x="396" y="312"/>
                  <a:pt x="0" y="496"/>
                </a:cubicBezTo>
              </a:path>
            </a:pathLst>
          </a:custGeom>
          <a:noFill/>
          <a:ln cap="sq"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167920" y="1026720"/>
            <a:ext cx="2820240" cy="2090520"/>
            <a:chOff x="2167920" y="1026720"/>
            <a:chExt cx="2820240" cy="2090520"/>
          </a:xfrm>
        </p:grpSpPr>
        <p:sp>
          <p:nvSpPr>
            <p:cNvPr id="535" name=""/>
            <p:cNvSpPr/>
            <p:nvPr/>
          </p:nvSpPr>
          <p:spPr>
            <a:xfrm rot="16209600">
              <a:off x="4073040" y="2250360"/>
              <a:ext cx="515880" cy="1214280"/>
            </a:xfrm>
            <a:prstGeom prst="can">
              <a:avLst>
                <a:gd name="adj" fmla="val 25000"/>
              </a:avLst>
            </a:prstGeom>
            <a:solidFill>
              <a:srgbClr val="ccccff">
                <a:alpha val="50000"/>
              </a:srgbClr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67920" y="1026720"/>
              <a:ext cx="28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read/write access unde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control of state machine 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637400" y="1504800"/>
            <a:ext cx="469800" cy="259092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48" y="1632"/>
                </a:moveTo>
                <a:cubicBezTo>
                  <a:pt x="172" y="1384"/>
                  <a:pt x="296" y="1136"/>
                  <a:pt x="288" y="864"/>
                </a:cubicBezTo>
                <a:cubicBezTo>
                  <a:pt x="280" y="592"/>
                  <a:pt x="140" y="296"/>
                  <a:pt x="0" y="0"/>
                </a:cubicBezTo>
              </a:path>
            </a:pathLst>
          </a:custGeom>
          <a:noFill/>
          <a:ln cap="sq"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804080" y="3114360"/>
            <a:ext cx="443160" cy="570240"/>
            <a:chOff x="7804080" y="3114360"/>
            <a:chExt cx="443160" cy="570240"/>
          </a:xfrm>
        </p:grpSpPr>
        <p:sp>
          <p:nvSpPr>
            <p:cNvPr id="539" name=""/>
            <p:cNvSpPr/>
            <p:nvPr/>
          </p:nvSpPr>
          <p:spPr>
            <a:xfrm>
              <a:off x="7804080" y="3114720"/>
              <a:ext cx="443160" cy="5698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804080" y="3114360"/>
              <a:ext cx="443160" cy="5698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15800" y="632520"/>
            <a:ext cx="182736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01" y="6507"/>
                </a:moveTo>
                <a:lnTo>
                  <a:pt x="-3903" y="6507"/>
                </a:lnTo>
                <a:lnTo>
                  <a:pt x="-3903" y="100770"/>
                </a:lnTo>
                <a:lnTo>
                  <a:pt x="8951" y="121120"/>
                </a:lnTo>
              </a:path>
            </a:pathLst>
          </a:cu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local vari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79000" y="151560"/>
            <a:ext cx="184032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125888"/>
              <a:gd name="adj5" fmla="val 267185"/>
              <a:gd name="adj6" fmla="val 149282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private vari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4800" y="1996920"/>
            <a:ext cx="8363160" cy="3861000"/>
          </a:xfrm>
          <a:prstGeom prst="rect">
            <a:avLst/>
          </a:prstGeom>
          <a:solidFill>
            <a:srgbClr val="eaeaea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Development of Real-Time Systems with SDL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444760" y="3437280"/>
            <a:ext cx="2916360" cy="459720"/>
          </a:xfrm>
          <a:prstGeom prst="rect">
            <a:avLst/>
          </a:prstGeom>
          <a:solidFill>
            <a:srgbClr val="00354e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xcutable SDL sp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77880" y="4332600"/>
            <a:ext cx="2905560" cy="459720"/>
          </a:xfrm>
          <a:prstGeom prst="rect">
            <a:avLst/>
          </a:prstGeom>
          <a:solidFill>
            <a:srgbClr val="00354e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irtual SDL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59160" y="5193000"/>
            <a:ext cx="6045120" cy="459720"/>
          </a:xfrm>
          <a:prstGeom prst="rect">
            <a:avLst/>
          </a:prstGeom>
          <a:solidFill>
            <a:srgbClr val="00354e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arget plattf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05560" y="3424320"/>
            <a:ext cx="1946160" cy="1339920"/>
          </a:xfrm>
          <a:prstGeom prst="rect">
            <a:avLst/>
          </a:prstGeom>
          <a:solidFill>
            <a:srgbClr val="00354e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40120" y="347004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non-SD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9960" y="3778200"/>
            <a:ext cx="1122120" cy="1800"/>
          </a:xfrm>
          <a:prstGeom prst="line">
            <a:avLst/>
          </a:prstGeom>
          <a:ln cap="sq" w="7632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2160" y="2289240"/>
            <a:ext cx="3044160" cy="825480"/>
          </a:xfrm>
          <a:prstGeom prst="rect">
            <a:avLst/>
          </a:prstGeom>
          <a:solidFill>
            <a:srgbClr val="eaeaea">
              <a:alpha val="50000"/>
            </a:srgbClr>
          </a:solidFill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cedures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onyms,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10120" y="3127320"/>
            <a:ext cx="1800" cy="61452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680" y="3385440"/>
            <a:ext cx="1828800" cy="1557000"/>
          </a:xfrm>
          <a:prstGeom prst="rect">
            <a:avLst/>
          </a:prstGeom>
          <a:solidFill>
            <a:srgbClr val="eaeaea">
              <a:alpha val="50000"/>
            </a:srgbClr>
          </a:solidFill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ser-defin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defin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1080" y="4044960"/>
            <a:ext cx="1521000" cy="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960" y="3911760"/>
            <a:ext cx="0" cy="39528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4040" y="4789440"/>
            <a:ext cx="0" cy="39528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19960" y="4797360"/>
            <a:ext cx="0" cy="39528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879800"/>
            <a:ext cx="1521000" cy="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082520" y="901440"/>
            <a:ext cx="7164720" cy="5562720"/>
            <a:chOff x="1082520" y="901440"/>
            <a:chExt cx="7164720" cy="5562720"/>
          </a:xfrm>
        </p:grpSpPr>
        <p:grpSp>
          <p:nvGrpSpPr>
            <p:cNvPr id="544" name=""/>
            <p:cNvGrpSpPr/>
            <p:nvPr/>
          </p:nvGrpSpPr>
          <p:grpSpPr>
            <a:xfrm>
              <a:off x="1967400" y="3684600"/>
              <a:ext cx="3173040" cy="2627280"/>
              <a:chOff x="1967400" y="3684600"/>
              <a:chExt cx="3173040" cy="2627280"/>
            </a:xfrm>
          </p:grpSpPr>
          <p:cxnSp>
            <p:nvCxnSpPr>
              <p:cNvPr id="545" name=""/>
              <p:cNvCxnSpPr>
                <a:stCxn id="546" idx="2"/>
                <a:endCxn id="547" idx="1"/>
              </p:cNvCxnSpPr>
              <p:nvPr/>
            </p:nvCxnSpPr>
            <p:spPr>
              <a:xfrm flipH="1" rot="16200000">
                <a:off x="2188440" y="4662360"/>
                <a:ext cx="536760" cy="9788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548" name=""/>
              <p:cNvCxnSpPr>
                <a:stCxn id="549" idx="1"/>
                <a:endCxn id="546" idx="0"/>
              </p:cNvCxnSpPr>
              <p:nvPr/>
            </p:nvCxnSpPr>
            <p:spPr>
              <a:xfrm flipV="1" rot="10800000">
                <a:off x="1967760" y="3684600"/>
                <a:ext cx="916920" cy="6260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550" name=""/>
              <p:cNvCxnSpPr>
                <a:stCxn id="549" idx="3"/>
                <a:endCxn id="551" idx="3"/>
              </p:cNvCxnSpPr>
              <p:nvPr/>
            </p:nvCxnSpPr>
            <p:spPr>
              <a:xfrm>
                <a:off x="3797280" y="3684600"/>
                <a:ext cx="835920" cy="27072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552" name=""/>
              <p:cNvCxnSpPr>
                <a:stCxn id="547" idx="2"/>
                <a:endCxn id="551" idx="2"/>
              </p:cNvCxnSpPr>
              <p:nvPr/>
            </p:nvCxnSpPr>
            <p:spPr>
              <a:xfrm flipH="1">
                <a:off x="2852280" y="5705280"/>
                <a:ext cx="821520" cy="27540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553" name=""/>
              <p:cNvSpPr/>
              <p:nvPr/>
            </p:nvSpPr>
            <p:spPr>
              <a:xfrm>
                <a:off x="4622760" y="3971880"/>
                <a:ext cx="51768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59120" y="5994360"/>
                <a:ext cx="0" cy="3175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1082520" y="1936800"/>
              <a:ext cx="3540240" cy="4033800"/>
              <a:chOff x="1082520" y="1936800"/>
              <a:chExt cx="3540240" cy="4033800"/>
            </a:xfrm>
          </p:grpSpPr>
          <p:sp>
            <p:nvSpPr>
              <p:cNvPr id="551" name=""/>
              <p:cNvSpPr/>
              <p:nvPr/>
            </p:nvSpPr>
            <p:spPr>
              <a:xfrm>
                <a:off x="1082520" y="1936800"/>
                <a:ext cx="3540240" cy="4033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86840" y="196596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process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1185840" y="2472480"/>
                <a:ext cx="1928520" cy="642600"/>
                <a:chOff x="1185840" y="2472480"/>
                <a:chExt cx="1928520" cy="64260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185840" y="2473200"/>
                  <a:ext cx="1928520" cy="588600"/>
                  <a:chOff x="1185840" y="2473200"/>
                  <a:chExt cx="1928520" cy="5886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185840" y="2477520"/>
                    <a:ext cx="1928520" cy="584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859480" y="2473200"/>
                    <a:ext cx="251280" cy="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114360" y="2494440"/>
                    <a:ext cx="0" cy="27756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850480" y="2494440"/>
                    <a:ext cx="246240" cy="288360"/>
                  </a:xfrm>
                  <a:prstGeom prst="rtTriangle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1218600" y="2472480"/>
                  <a:ext cx="1744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dcl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i Natural,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    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c Character;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1254240" y="4286160"/>
                <a:ext cx="1509480" cy="608040"/>
              </a:xfrm>
              <a:prstGeom prst="octagon">
                <a:avLst>
                  <a:gd name="adj" fmla="val 29287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948040" y="5073480"/>
                <a:ext cx="1520640" cy="714600"/>
              </a:xfrm>
              <a:prstGeom prst="octagon">
                <a:avLst>
                  <a:gd name="adj" fmla="val 29287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02280" y="43502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07400" y="51631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2894040" y="3437280"/>
                <a:ext cx="893880" cy="459720"/>
                <a:chOff x="2894040" y="3437280"/>
                <a:chExt cx="893880" cy="45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2894040" y="3489120"/>
                  <a:ext cx="893880" cy="388800"/>
                </a:xfrm>
                <a:prstGeom prst="roundRect">
                  <a:avLst>
                    <a:gd name="adj" fmla="val 28569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02120" y="34372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2941560" y="901440"/>
              <a:ext cx="4997520" cy="2929320"/>
              <a:chOff x="2941560" y="901440"/>
              <a:chExt cx="4997520" cy="292932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2941560" y="901440"/>
                <a:ext cx="2716200" cy="2600280"/>
              </a:xfrm>
              <a:prstGeom prst="line">
                <a:avLst/>
              </a:prstGeom>
              <a:ln cap="rnd" w="324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800520" y="2924280"/>
                <a:ext cx="4138560" cy="906480"/>
              </a:xfrm>
              <a:prstGeom prst="line">
                <a:avLst/>
              </a:prstGeom>
              <a:ln cap="rnd" w="324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943360" y="3804840"/>
              <a:ext cx="5008320" cy="2304000"/>
              <a:chOff x="2943360" y="3804840"/>
              <a:chExt cx="5008320" cy="2304000"/>
            </a:xfrm>
          </p:grpSpPr>
          <p:sp>
            <p:nvSpPr>
              <p:cNvPr id="572" name=""/>
              <p:cNvSpPr/>
              <p:nvPr/>
            </p:nvSpPr>
            <p:spPr>
              <a:xfrm flipV="1">
                <a:off x="2978280" y="3839760"/>
                <a:ext cx="2646360" cy="1271880"/>
              </a:xfrm>
              <a:prstGeom prst="line">
                <a:avLst/>
              </a:prstGeom>
              <a:ln cap="rnd" w="3240">
                <a:solidFill>
                  <a:srgbClr val="6699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943360" y="5722920"/>
                <a:ext cx="2705040" cy="385920"/>
              </a:xfrm>
              <a:prstGeom prst="line">
                <a:avLst/>
              </a:prstGeom>
              <a:ln cap="rnd" w="3240">
                <a:solidFill>
                  <a:srgbClr val="6699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411800" y="3804840"/>
                <a:ext cx="3479760" cy="1295640"/>
              </a:xfrm>
              <a:prstGeom prst="line">
                <a:avLst/>
              </a:prstGeom>
              <a:ln cap="rnd" w="3240">
                <a:solidFill>
                  <a:srgbClr val="6699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76880" y="5711760"/>
                <a:ext cx="3574800" cy="374760"/>
              </a:xfrm>
              <a:prstGeom prst="line">
                <a:avLst/>
              </a:prstGeom>
              <a:ln cap="rnd" w="3240">
                <a:solidFill>
                  <a:srgbClr val="6699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657760" y="911160"/>
              <a:ext cx="2292480" cy="2024280"/>
              <a:chOff x="5657760" y="911160"/>
              <a:chExt cx="2292480" cy="20242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6929640" y="1111320"/>
                <a:ext cx="811080" cy="404640"/>
                <a:chOff x="6929640" y="1111320"/>
                <a:chExt cx="811080" cy="404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929640" y="1114200"/>
                  <a:ext cx="811080" cy="4017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633440" y="1111320"/>
                  <a:ext cx="10548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740720" y="1125720"/>
                  <a:ext cx="0" cy="19080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629840" y="1125720"/>
                  <a:ext cx="103320" cy="19800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657760" y="911160"/>
                <a:ext cx="2292480" cy="2024280"/>
                <a:chOff x="5657760" y="911160"/>
                <a:chExt cx="2292480" cy="202428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5657760" y="911160"/>
                  <a:ext cx="2292480" cy="2024280"/>
                  <a:chOff x="5657760" y="911160"/>
                  <a:chExt cx="2292480" cy="20242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5657760" y="911160"/>
                    <a:ext cx="2292480" cy="2024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964120" y="1111320"/>
                    <a:ext cx="765360" cy="4111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838920" y="2274840"/>
                    <a:ext cx="765360" cy="4114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962680" y="2279880"/>
                    <a:ext cx="765360" cy="4111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6018120" y="1725480"/>
                    <a:ext cx="654120" cy="252360"/>
                    <a:chOff x="6018120" y="1725480"/>
                    <a:chExt cx="654120" cy="25236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rot="10800000">
                      <a:off x="6018120" y="1728000"/>
                      <a:ext cx="650880" cy="249840"/>
                    </a:xfrm>
                    <a:prstGeom prst="flowChartProcess">
                      <a:avLst/>
                    </a:prstGeom>
                    <a:noFill/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rot="16200000">
                      <a:off x="6455160" y="1763640"/>
                      <a:ext cx="244800" cy="178920"/>
                    </a:xfrm>
                    <a:prstGeom prst="flowChartExtract">
                      <a:avLst/>
                    </a:prstGeom>
                    <a:noFill/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flipV="1">
                      <a:off x="6670800" y="1725480"/>
                      <a:ext cx="1440" cy="252360"/>
                    </a:xfrm>
                    <a:prstGeom prst="line">
                      <a:avLst/>
                    </a:prstGeom>
                    <a:ln cap="sq" w="38160">
                      <a:solidFill>
                        <a:srgbClr val="00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6881760" y="1714320"/>
                    <a:ext cx="654120" cy="252360"/>
                    <a:chOff x="6881760" y="1714320"/>
                    <a:chExt cx="654120" cy="25236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0800000">
                      <a:off x="6881760" y="1716840"/>
                      <a:ext cx="650880" cy="249840"/>
                    </a:xfrm>
                    <a:prstGeom prst="flowChartProcess">
                      <a:avLst/>
                    </a:prstGeom>
                    <a:noFill/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6200000">
                      <a:off x="7318800" y="1752480"/>
                      <a:ext cx="244800" cy="178920"/>
                    </a:xfrm>
                    <a:prstGeom prst="flowChartExtract">
                      <a:avLst/>
                    </a:prstGeom>
                    <a:noFill/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flipH="1" flipV="1">
                      <a:off x="7534440" y="1714320"/>
                      <a:ext cx="1440" cy="252360"/>
                    </a:xfrm>
                    <a:prstGeom prst="line">
                      <a:avLst/>
                    </a:prstGeom>
                    <a:ln cap="sq" w="38160">
                      <a:solidFill>
                        <a:srgbClr val="00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6327720" y="1516320"/>
                    <a:ext cx="3240" cy="19188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6338520" y="1973520"/>
                    <a:ext cx="1800" cy="31248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329520" y="1625760"/>
                    <a:ext cx="765000" cy="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097760" y="1625760"/>
                    <a:ext cx="0" cy="9216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113600" y="1968480"/>
                    <a:ext cx="0" cy="31428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1" name=""/>
                <p:cNvSpPr/>
                <p:nvPr/>
              </p:nvSpPr>
              <p:spPr>
                <a:xfrm>
                  <a:off x="6926040" y="1110240"/>
                  <a:ext cx="878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eaeaea"/>
                      </a:solidFill>
                      <a:latin typeface="Arial"/>
                    </a:rPr>
                    <a:t>dcl</a:t>
                  </a:r>
                  <a:r>
                    <a:rPr b="0" lang="en-GB" sz="1200" spc="-1" strike="noStrike">
                      <a:solidFill>
                        <a:srgbClr val="eaeaea"/>
                      </a:solidFill>
                      <a:latin typeface="Arial"/>
                    </a:rPr>
                    <a:t> p Pid</a:t>
                  </a: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;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" name=""/>
            <p:cNvSpPr/>
            <p:nvPr/>
          </p:nvSpPr>
          <p:spPr>
            <a:xfrm>
              <a:off x="5659560" y="3808440"/>
              <a:ext cx="2292120" cy="23162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95960" y="4079880"/>
              <a:ext cx="938160" cy="48420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24360" y="5365800"/>
              <a:ext cx="936720" cy="55404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92920" y="4881600"/>
              <a:ext cx="936720" cy="554040"/>
            </a:xfrm>
            <a:prstGeom prst="octagon">
              <a:avLst>
                <a:gd name="adj" fmla="val 2928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606" name=""/>
            <p:cNvCxnSpPr>
              <a:stCxn id="605" idx="2"/>
              <a:endCxn id="602" idx="2"/>
            </p:cNvCxnSpPr>
            <p:nvPr/>
          </p:nvCxnSpPr>
          <p:spPr>
            <a:xfrm rot="5400000">
              <a:off x="6738120" y="5511600"/>
              <a:ext cx="689760" cy="556560"/>
            </a:xfrm>
            <a:prstGeom prst="bentConnector3">
              <a:avLst>
                <a:gd name="adj1" fmla="val 44647"/>
              </a:avLst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607" name=""/>
            <p:cNvCxnSpPr>
              <a:stCxn id="602" idx="1"/>
              <a:endCxn id="603" idx="2"/>
            </p:cNvCxnSpPr>
            <p:nvPr/>
          </p:nvCxnSpPr>
          <p:spPr>
            <a:xfrm flipV="1">
              <a:off x="5649840" y="4573080"/>
              <a:ext cx="1016640" cy="394560"/>
            </a:xfrm>
            <a:prstGeom prst="bentConnector4">
              <a:avLst>
                <a:gd name="adj1" fmla="val 100921"/>
                <a:gd name="adj2" fmla="val 33789"/>
              </a:avLst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8" name=""/>
            <p:cNvCxnSpPr>
              <a:stCxn id="603" idx="3"/>
              <a:endCxn id="605" idx="0"/>
            </p:cNvCxnSpPr>
            <p:nvPr/>
          </p:nvCxnSpPr>
          <p:spPr>
            <a:xfrm>
              <a:off x="7143840" y="4322520"/>
              <a:ext cx="218160" cy="54972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09" name=""/>
            <p:cNvCxnSpPr>
              <a:stCxn id="605" idx="1"/>
              <a:endCxn id="604" idx="0"/>
            </p:cNvCxnSpPr>
            <p:nvPr/>
          </p:nvCxnSpPr>
          <p:spPr>
            <a:xfrm flipV="1" rot="10800000">
              <a:off x="6192000" y="5159160"/>
              <a:ext cx="691560" cy="19728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610" name=""/>
            <p:cNvSpPr/>
            <p:nvPr/>
          </p:nvSpPr>
          <p:spPr>
            <a:xfrm>
              <a:off x="5615280" y="372708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process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 B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01080" y="40968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1120" y="54604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70760" y="49906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B2-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94640" y="6146640"/>
              <a:ext cx="0" cy="3175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5268600" y="4983120"/>
              <a:ext cx="366840" cy="111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36000" y="3878280"/>
              <a:ext cx="701640" cy="3636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12320" y="38343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13520" y="1428840"/>
              <a:ext cx="76212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cubicBezTo>
                    <a:pt x="32" y="488"/>
                    <a:pt x="64" y="304"/>
                    <a:pt x="144" y="192"/>
                  </a:cubicBezTo>
                  <a:cubicBezTo>
                    <a:pt x="224" y="80"/>
                    <a:pt x="352" y="40"/>
                    <a:pt x="480" y="0"/>
                  </a:cubicBezTo>
                </a:path>
              </a:pathLst>
            </a:custGeom>
            <a:noFill/>
            <a:ln cap="sq" w="1908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18040" y="2690640"/>
              <a:ext cx="4114800" cy="1328760"/>
            </a:xfrm>
            <a:custGeom>
              <a:avLst/>
              <a:gdLst/>
              <a:ahLst/>
              <a:rect l="l" t="t" r="r" b="b"/>
              <a:pathLst>
                <a:path w="2592" h="896">
                  <a:moveTo>
                    <a:pt x="2592" y="896"/>
                  </a:moveTo>
                  <a:cubicBezTo>
                    <a:pt x="2532" y="704"/>
                    <a:pt x="2472" y="512"/>
                    <a:pt x="2208" y="368"/>
                  </a:cubicBezTo>
                  <a:cubicBezTo>
                    <a:pt x="1944" y="224"/>
                    <a:pt x="1376" y="64"/>
                    <a:pt x="1008" y="32"/>
                  </a:cubicBezTo>
                  <a:cubicBezTo>
                    <a:pt x="640" y="0"/>
                    <a:pt x="320" y="88"/>
                    <a:pt x="0" y="176"/>
                  </a:cubicBezTo>
                </a:path>
              </a:pathLst>
            </a:custGeom>
            <a:noFill/>
            <a:ln cap="sq"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18040" y="2838600"/>
              <a:ext cx="2819160" cy="2705040"/>
            </a:xfrm>
            <a:custGeom>
              <a:avLst/>
              <a:gdLst/>
              <a:ahLst/>
              <a:rect l="l" t="t" r="r" b="b"/>
              <a:pathLst>
                <a:path w="1776" h="1704">
                  <a:moveTo>
                    <a:pt x="1776" y="1704"/>
                  </a:moveTo>
                  <a:cubicBezTo>
                    <a:pt x="1616" y="1264"/>
                    <a:pt x="1456" y="824"/>
                    <a:pt x="1296" y="552"/>
                  </a:cubicBezTo>
                  <a:cubicBezTo>
                    <a:pt x="1136" y="280"/>
                    <a:pt x="1032" y="144"/>
                    <a:pt x="816" y="72"/>
                  </a:cubicBezTo>
                  <a:cubicBezTo>
                    <a:pt x="600" y="0"/>
                    <a:pt x="300" y="60"/>
                    <a:pt x="0" y="120"/>
                  </a:cubicBezTo>
                </a:path>
              </a:pathLst>
            </a:custGeom>
            <a:noFill/>
            <a:ln cap="sq"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18040" y="1936800"/>
              <a:ext cx="2895480" cy="787320"/>
            </a:xfrm>
            <a:custGeom>
              <a:avLst/>
              <a:gdLst/>
              <a:ahLst/>
              <a:rect l="l" t="t" r="r" b="b"/>
              <a:pathLst>
                <a:path w="1824" h="496">
                  <a:moveTo>
                    <a:pt x="1824" y="352"/>
                  </a:moveTo>
                  <a:cubicBezTo>
                    <a:pt x="1768" y="256"/>
                    <a:pt x="1712" y="160"/>
                    <a:pt x="1584" y="112"/>
                  </a:cubicBezTo>
                  <a:cubicBezTo>
                    <a:pt x="1456" y="64"/>
                    <a:pt x="1320" y="0"/>
                    <a:pt x="1056" y="64"/>
                  </a:cubicBezTo>
                  <a:cubicBezTo>
                    <a:pt x="792" y="128"/>
                    <a:pt x="396" y="312"/>
                    <a:pt x="0" y="496"/>
                  </a:cubicBezTo>
                </a:path>
              </a:pathLst>
            </a:custGeom>
            <a:noFill/>
            <a:ln cap="sq" w="1908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37400" y="1504800"/>
              <a:ext cx="469800" cy="2590920"/>
            </a:xfrm>
            <a:custGeom>
              <a:avLst/>
              <a:gdLst/>
              <a:ahLst/>
              <a:rect l="l" t="t" r="r" b="b"/>
              <a:pathLst>
                <a:path w="296" h="1632">
                  <a:moveTo>
                    <a:pt x="48" y="1632"/>
                  </a:moveTo>
                  <a:cubicBezTo>
                    <a:pt x="172" y="1384"/>
                    <a:pt x="296" y="1136"/>
                    <a:pt x="288" y="864"/>
                  </a:cubicBezTo>
                  <a:cubicBezTo>
                    <a:pt x="280" y="592"/>
                    <a:pt x="140" y="296"/>
                    <a:pt x="0" y="0"/>
                  </a:cubicBezTo>
                </a:path>
              </a:pathLst>
            </a:custGeom>
            <a:noFill/>
            <a:ln cap="sq"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804080" y="3114360"/>
              <a:ext cx="443160" cy="570240"/>
              <a:chOff x="7804080" y="3114360"/>
              <a:chExt cx="443160" cy="570240"/>
            </a:xfrm>
          </p:grpSpPr>
          <p:sp>
            <p:nvSpPr>
              <p:cNvPr id="624" name=""/>
              <p:cNvSpPr/>
              <p:nvPr/>
            </p:nvSpPr>
            <p:spPr>
              <a:xfrm>
                <a:off x="7804080" y="3114720"/>
                <a:ext cx="443160" cy="569880"/>
              </a:xfrm>
              <a:prstGeom prst="line">
                <a:avLst/>
              </a:prstGeom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804080" y="3114360"/>
                <a:ext cx="443160" cy="569880"/>
              </a:xfrm>
              <a:prstGeom prst="line">
                <a:avLst/>
              </a:prstGeom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Remote Variabl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27" name=""/>
          <p:cNvSpPr/>
          <p:nvPr/>
        </p:nvSpPr>
        <p:spPr>
          <a:xfrm>
            <a:off x="89532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ad-access to variables owned by an other ag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hort-hand notation for  signal interchan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vision by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exported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decl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isible by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remot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dedcl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mported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decl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ccess with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mpor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pdate (by owner) with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-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General Communic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50800" y="1881000"/>
            <a:ext cx="8593200" cy="31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mmunication is based on signal exchan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signal car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kind of signal (signal nam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r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icit sender identification (Pid valu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9760" y="5478840"/>
            <a:ext cx="5025600" cy="45972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signal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aSignal (Natural, Character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82760" y="3092400"/>
            <a:ext cx="443700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71" y="5184"/>
                </a:moveTo>
                <a:lnTo>
                  <a:pt x="-2643" y="5184"/>
                </a:lnTo>
                <a:lnTo>
                  <a:pt x="-2643" y="84312"/>
                </a:lnTo>
                <a:lnTo>
                  <a:pt x="9977" y="110232"/>
                </a:lnTo>
              </a:path>
            </a:pathLst>
          </a:custGeom>
          <a:noFill/>
          <a:ln w="190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371600" y="3600360"/>
            <a:ext cx="244152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5183"/>
                </a:moveTo>
                <a:lnTo>
                  <a:pt x="-17036" y="5183"/>
                </a:lnTo>
                <a:lnTo>
                  <a:pt x="-17036" y="35711"/>
                </a:lnTo>
                <a:lnTo>
                  <a:pt x="-12696" y="86903"/>
                </a:lnTo>
              </a:path>
            </a:pathLst>
          </a:custGeom>
          <a:noFill/>
          <a:ln w="190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mmunication requires a complet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ath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from sender to receiver consisting o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hanne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ath may be defin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xplicitl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r implicitly deriv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50440" y="1825560"/>
            <a:ext cx="8248680" cy="34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hann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ni- or bi-directional communication path between two endpo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ate, agent, connection, state mach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afe and reliable (no loss, no re-ordering,..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laying or non-delaying transmi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ame and signallists are opt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upersedes also signalrout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500200" y="458640"/>
            <a:ext cx="3953160" cy="336600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540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channel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aCha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rom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lock1 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o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lock2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with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sig1, sig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rom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lock2 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o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lock1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with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sig1, sig3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ndchannel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channel nodela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rom block1 to block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rom block2 to block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ndchannel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569960" y="4175280"/>
            <a:ext cx="1176480" cy="704520"/>
            <a:chOff x="1569960" y="4175280"/>
            <a:chExt cx="1176480" cy="704520"/>
          </a:xfrm>
        </p:grpSpPr>
        <p:sp>
          <p:nvSpPr>
            <p:cNvPr id="639" name=""/>
            <p:cNvSpPr/>
            <p:nvPr/>
          </p:nvSpPr>
          <p:spPr>
            <a:xfrm>
              <a:off x="1569960" y="4175280"/>
              <a:ext cx="1176480" cy="7045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27200" y="429732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lock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086520" y="4175280"/>
            <a:ext cx="1176120" cy="704520"/>
            <a:chOff x="6086520" y="4175280"/>
            <a:chExt cx="1176120" cy="704520"/>
          </a:xfrm>
        </p:grpSpPr>
        <p:sp>
          <p:nvSpPr>
            <p:cNvPr id="642" name=""/>
            <p:cNvSpPr/>
            <p:nvPr/>
          </p:nvSpPr>
          <p:spPr>
            <a:xfrm>
              <a:off x="6086520" y="4175280"/>
              <a:ext cx="1176120" cy="7045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43040" y="429732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lock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580200" y="40662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Chann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44280" y="46281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[sig1,sig2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80640" y="46281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[sig1,sig3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739760" y="4039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nodela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746440" y="4579920"/>
            <a:ext cx="3319560" cy="1800"/>
            <a:chOff x="2746440" y="4579920"/>
            <a:chExt cx="3319560" cy="1800"/>
          </a:xfrm>
        </p:grpSpPr>
        <p:cxnSp>
          <p:nvCxnSpPr>
            <p:cNvPr id="649" name=""/>
            <p:cNvCxnSpPr>
              <a:stCxn id="639" idx="3"/>
            </p:cNvCxnSpPr>
            <p:nvPr/>
          </p:nvCxnSpPr>
          <p:spPr>
            <a:xfrm>
              <a:off x="2746440" y="4581000"/>
              <a:ext cx="1172160" cy="108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/>
            <p:nvPr/>
          </p:nvCxnSpPr>
          <p:spPr>
            <a:xfrm>
              <a:off x="4894200" y="4581000"/>
              <a:ext cx="1172160" cy="108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</p:cxnSp>
        <p:sp>
          <p:nvSpPr>
            <p:cNvPr id="651" name=""/>
            <p:cNvSpPr/>
            <p:nvPr/>
          </p:nvSpPr>
          <p:spPr>
            <a:xfrm>
              <a:off x="3881520" y="4579920"/>
              <a:ext cx="104760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836440" y="4579920"/>
            <a:ext cx="3166920" cy="1800"/>
            <a:chOff x="2836440" y="4579920"/>
            <a:chExt cx="3166920" cy="1800"/>
          </a:xfrm>
        </p:grpSpPr>
        <p:cxnSp>
          <p:nvCxnSpPr>
            <p:cNvPr id="653" name=""/>
            <p:cNvCxnSpPr/>
            <p:nvPr/>
          </p:nvCxnSpPr>
          <p:spPr>
            <a:xfrm>
              <a:off x="2836440" y="4581000"/>
              <a:ext cx="1118160" cy="1080"/>
            </a:xfrm>
            <a:prstGeom prst="straightConnector1">
              <a:avLst/>
            </a:prstGeom>
            <a:ln cap="sq" w="13968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/>
            <p:nvPr/>
          </p:nvCxnSpPr>
          <p:spPr>
            <a:xfrm>
              <a:off x="4885560" y="4581000"/>
              <a:ext cx="1118160" cy="1080"/>
            </a:xfrm>
            <a:prstGeom prst="straightConnector1">
              <a:avLst/>
            </a:prstGeom>
            <a:ln cap="sq" w="139680">
              <a:solidFill>
                <a:srgbClr val="006699"/>
              </a:solidFill>
              <a:miter/>
              <a:headEnd len="med" type="triangle" w="med"/>
            </a:ln>
          </p:spPr>
        </p:cxnSp>
        <p:sp>
          <p:nvSpPr>
            <p:cNvPr id="655" name=""/>
            <p:cNvSpPr/>
            <p:nvPr/>
          </p:nvSpPr>
          <p:spPr>
            <a:xfrm>
              <a:off x="3919680" y="4579920"/>
              <a:ext cx="999360" cy="0"/>
            </a:xfrm>
            <a:prstGeom prst="line">
              <a:avLst/>
            </a:prstGeom>
            <a:ln cap="sq" w="1396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656" name=""/>
          <p:cNvCxnSpPr/>
          <p:nvPr/>
        </p:nvCxnSpPr>
        <p:spPr>
          <a:xfrm>
            <a:off x="2768400" y="4581000"/>
            <a:ext cx="3321720" cy="1080"/>
          </a:xfrm>
          <a:prstGeom prst="straightConnector1">
            <a:avLst/>
          </a:prstGeom>
          <a:ln cap="sq" w="1908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7" name=""/>
          <p:cNvCxnSpPr>
            <a:stCxn id="642" idx="2"/>
            <a:endCxn id="639" idx="2"/>
          </p:cNvCxnSpPr>
          <p:nvPr/>
        </p:nvCxnSpPr>
        <p:spPr>
          <a:xfrm rot="5400000">
            <a:off x="4416120" y="2631960"/>
            <a:ext cx="2160" cy="4516920"/>
          </a:xfrm>
          <a:prstGeom prst="bentConnector3">
            <a:avLst>
              <a:gd name="adj1" fmla="val 52280000"/>
            </a:avLst>
          </a:prstGeom>
          <a:ln cap="sq" w="1908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g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otential named endpoint for a channel at an agent, agent type or a state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ni- or bi-direct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ossibly constrained by set of signals or by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n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joining/splitting of channels at implicit g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0" name=""/>
          <p:cNvCxnSpPr>
            <a:stCxn id="661" idx="0"/>
            <a:endCxn id="662" idx="2"/>
          </p:cNvCxnSpPr>
          <p:nvPr/>
        </p:nvCxnSpPr>
        <p:spPr>
          <a:xfrm flipV="1">
            <a:off x="1473120" y="2934720"/>
            <a:ext cx="1107360" cy="1772280"/>
          </a:xfrm>
          <a:prstGeom prst="straightConnector1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2027880" y="4587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440" y="2223360"/>
            <a:ext cx="1514520" cy="957240"/>
            <a:chOff x="1440" y="2223360"/>
            <a:chExt cx="1514520" cy="957240"/>
          </a:xfrm>
        </p:grpSpPr>
        <p:sp>
          <p:nvSpPr>
            <p:cNvPr id="665" name=""/>
            <p:cNvSpPr/>
            <p:nvPr/>
          </p:nvSpPr>
          <p:spPr>
            <a:xfrm>
              <a:off x="863640" y="2724120"/>
              <a:ext cx="652320" cy="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9120" y="2223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40" y="28123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[sig1]  [sig2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23200" y="4234680"/>
            <a:ext cx="1248480" cy="828720"/>
            <a:chOff x="223200" y="4234680"/>
            <a:chExt cx="1248480" cy="828720"/>
          </a:xfrm>
        </p:grpSpPr>
        <p:sp>
          <p:nvSpPr>
            <p:cNvPr id="669" name=""/>
            <p:cNvSpPr/>
            <p:nvPr/>
          </p:nvSpPr>
          <p:spPr>
            <a:xfrm flipH="1" flipV="1">
              <a:off x="860400" y="4677840"/>
              <a:ext cx="611280" cy="1764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57960" y="4234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3200" y="469512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[sig3,sig4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251240" y="622800"/>
            <a:ext cx="4741920" cy="558036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block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t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1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 wit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ig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ut wit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ig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t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2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 wit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ig3,sig4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state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 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referenced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block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2 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referenced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c1    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 env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1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to this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 this to env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1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end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c2 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 this to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2 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to this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end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c3 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 env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2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to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B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3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end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c4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from env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g2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to this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endchannel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endblock </a:t>
            </a: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468440" y="739800"/>
            <a:ext cx="2639880" cy="4587840"/>
            <a:chOff x="1468440" y="739800"/>
            <a:chExt cx="2639880" cy="4587840"/>
          </a:xfrm>
        </p:grpSpPr>
        <p:grpSp>
          <p:nvGrpSpPr>
            <p:cNvPr id="674" name=""/>
            <p:cNvGrpSpPr/>
            <p:nvPr/>
          </p:nvGrpSpPr>
          <p:grpSpPr>
            <a:xfrm>
              <a:off x="1468440" y="739800"/>
              <a:ext cx="2639880" cy="4587840"/>
              <a:chOff x="1468440" y="739800"/>
              <a:chExt cx="2639880" cy="4587840"/>
            </a:xfrm>
          </p:grpSpPr>
          <p:sp>
            <p:nvSpPr>
              <p:cNvPr id="675" name=""/>
              <p:cNvSpPr/>
              <p:nvPr/>
            </p:nvSpPr>
            <p:spPr>
              <a:xfrm>
                <a:off x="1468440" y="739800"/>
                <a:ext cx="2639880" cy="45878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43680" y="80388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1584720" y="1349280"/>
                <a:ext cx="2170080" cy="669240"/>
                <a:chOff x="1584720" y="1349280"/>
                <a:chExt cx="2170080" cy="66924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584720" y="1353960"/>
                  <a:ext cx="2170080" cy="6645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467880" y="1349280"/>
                  <a:ext cx="28296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54800" y="1373400"/>
                  <a:ext cx="0" cy="31572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7800" y="1373400"/>
                  <a:ext cx="277200" cy="3279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1621440" y="1389960"/>
                <a:ext cx="180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Natura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Character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012400" y="4373640"/>
                <a:ext cx="1612800" cy="6300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53040" y="4464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685" name=""/>
              <p:cNvCxnSpPr>
                <a:stCxn id="683" idx="0"/>
                <a:endCxn id="686" idx="2"/>
              </p:cNvCxnSpPr>
              <p:nvPr/>
            </p:nvCxnSpPr>
            <p:spPr>
              <a:xfrm flipH="1" flipV="1" rot="5400000">
                <a:off x="2122920" y="3664080"/>
                <a:ext cx="1395720" cy="4680"/>
              </a:xfrm>
              <a:prstGeom prst="bentConnector3">
                <a:avLst>
                  <a:gd name="adj1" fmla="val 49948"/>
                </a:avLst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7" name=""/>
              <p:cNvCxnSpPr>
                <a:stCxn id="683" idx="1"/>
                <a:endCxn id="669" idx="0"/>
              </p:cNvCxnSpPr>
              <p:nvPr/>
            </p:nvCxnSpPr>
            <p:spPr>
              <a:xfrm flipH="1">
                <a:off x="1472400" y="4689000"/>
                <a:ext cx="531720" cy="183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</a:ln>
            </p:spPr>
          </p:cxnSp>
          <p:sp>
            <p:nvSpPr>
              <p:cNvPr id="686" name=""/>
              <p:cNvSpPr/>
              <p:nvPr/>
            </p:nvSpPr>
            <p:spPr>
              <a:xfrm>
                <a:off x="2319840" y="2516040"/>
                <a:ext cx="1005840" cy="44316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388240" y="2477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510560" y="2275200"/>
                <a:ext cx="801000" cy="463680"/>
                <a:chOff x="1510560" y="2275200"/>
                <a:chExt cx="801000" cy="463680"/>
              </a:xfrm>
            </p:grpSpPr>
            <p:cxnSp>
              <p:nvCxnSpPr>
                <p:cNvPr id="689" name=""/>
                <p:cNvCxnSpPr>
                  <a:stCxn id="665" idx="0"/>
                  <a:endCxn id="686" idx="1"/>
                </p:cNvCxnSpPr>
                <p:nvPr/>
              </p:nvCxnSpPr>
              <p:spPr>
                <a:xfrm>
                  <a:off x="1510560" y="2722680"/>
                  <a:ext cx="801360" cy="16560"/>
                </a:xfrm>
                <a:prstGeom prst="straightConnector1">
                  <a:avLst/>
                </a:prstGeom>
                <a:ln cap="sq" w="19080">
                  <a:solidFill>
                    <a:srgbClr val="eaeaea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1617840" y="22752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c1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1" name=""/>
            <p:cNvSpPr/>
            <p:nvPr/>
          </p:nvSpPr>
          <p:spPr>
            <a:xfrm>
              <a:off x="2919240" y="34628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79600" y="478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65000" y="31899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mplicit signal lists on gates and channe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mplicit g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roduced for conn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roduced for unconnected channel endpo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gnal lists derived from channel signal li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mplicit channe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roduced for unconnected g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ates have to have matching constra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695880" y="363600"/>
            <a:ext cx="8105400" cy="4575240"/>
            <a:chOff x="695880" y="363600"/>
            <a:chExt cx="8105400" cy="4575240"/>
          </a:xfrm>
        </p:grpSpPr>
        <p:grpSp>
          <p:nvGrpSpPr>
            <p:cNvPr id="697" name=""/>
            <p:cNvGrpSpPr/>
            <p:nvPr/>
          </p:nvGrpSpPr>
          <p:grpSpPr>
            <a:xfrm>
              <a:off x="851040" y="977760"/>
              <a:ext cx="3250800" cy="3443400"/>
              <a:chOff x="851040" y="977760"/>
              <a:chExt cx="3250800" cy="344340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851040" y="977760"/>
                <a:ext cx="3240000" cy="34434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70840" y="99864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958680" y="1463760"/>
                <a:ext cx="2664000" cy="502200"/>
                <a:chOff x="958680" y="1463760"/>
                <a:chExt cx="2664000" cy="5022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958680" y="1467360"/>
                  <a:ext cx="2664000" cy="49860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270240" y="1463760"/>
                  <a:ext cx="34740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622680" y="1481760"/>
                  <a:ext cx="0" cy="23688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58360" y="1481760"/>
                  <a:ext cx="340200" cy="24588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960120" y="1470240"/>
                <a:ext cx="18068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i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Natura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Character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1430640" y="3694320"/>
                <a:ext cx="1978920" cy="4726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2097720" y="3716280"/>
                <a:ext cx="90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Loc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708" name=""/>
              <p:cNvCxnSpPr>
                <a:stCxn id="706" idx="0"/>
                <a:endCxn id="709" idx="2"/>
              </p:cNvCxnSpPr>
              <p:nvPr/>
            </p:nvCxnSpPr>
            <p:spPr>
              <a:xfrm flipH="1" flipV="1" rot="5400000">
                <a:off x="1906560" y="3164040"/>
                <a:ext cx="1036800" cy="7920"/>
              </a:xfrm>
              <a:prstGeom prst="bentConnector3">
                <a:avLst>
                  <a:gd name="adj1" fmla="val 49913"/>
                </a:avLst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10" name=""/>
              <p:cNvCxnSpPr>
                <a:stCxn id="706" idx="3"/>
              </p:cNvCxnSpPr>
              <p:nvPr/>
            </p:nvCxnSpPr>
            <p:spPr>
              <a:xfrm>
                <a:off x="3421440" y="3929760"/>
                <a:ext cx="653040" cy="1368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</a:ln>
            </p:spPr>
          </p:cxnSp>
          <p:sp>
            <p:nvSpPr>
              <p:cNvPr id="709" name=""/>
              <p:cNvSpPr/>
              <p:nvPr/>
            </p:nvSpPr>
            <p:spPr>
              <a:xfrm flipH="1">
                <a:off x="1810800" y="2311560"/>
                <a:ext cx="1234440" cy="33156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454120" y="22244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712" name=""/>
              <p:cNvCxnSpPr>
                <a:stCxn id="698" idx="3"/>
              </p:cNvCxnSpPr>
              <p:nvPr/>
            </p:nvCxnSpPr>
            <p:spPr>
              <a:xfrm flipH="1" flipV="1">
                <a:off x="3056760" y="2477160"/>
                <a:ext cx="1045440" cy="2217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13" name=""/>
              <p:cNvSpPr/>
              <p:nvPr/>
            </p:nvSpPr>
            <p:spPr>
              <a:xfrm flipH="1">
                <a:off x="3366000" y="201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714" name=""/>
              <p:cNvCxnSpPr>
                <a:stCxn id="706" idx="0"/>
                <a:endCxn id="698" idx="3"/>
              </p:cNvCxnSpPr>
              <p:nvPr/>
            </p:nvCxnSpPr>
            <p:spPr>
              <a:xfrm flipV="1">
                <a:off x="2421360" y="2698200"/>
                <a:ext cx="1680840" cy="98784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  <p:cxnSp>
          <p:nvCxnSpPr>
            <p:cNvPr id="715" name=""/>
            <p:cNvCxnSpPr>
              <a:stCxn id="698" idx="3"/>
              <a:endCxn id="716" idx="1"/>
            </p:cNvCxnSpPr>
            <p:nvPr/>
          </p:nvCxnSpPr>
          <p:spPr>
            <a:xfrm>
              <a:off x="4102200" y="2698920"/>
              <a:ext cx="1210320" cy="216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16" name=""/>
            <p:cNvSpPr/>
            <p:nvPr/>
          </p:nvSpPr>
          <p:spPr>
            <a:xfrm>
              <a:off x="5321160" y="977760"/>
              <a:ext cx="3240360" cy="34434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89640" y="96876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462640" y="1433520"/>
              <a:ext cx="2665080" cy="502920"/>
              <a:chOff x="5462640" y="1433520"/>
              <a:chExt cx="2665080" cy="502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62640" y="1437120"/>
                <a:ext cx="2665080" cy="4993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75280" y="1433520"/>
                <a:ext cx="34740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27720" y="1451520"/>
                <a:ext cx="0" cy="23724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63040" y="1451520"/>
                <a:ext cx="340200" cy="24624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5508360" y="1441800"/>
              <a:ext cx="1806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dc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i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Natura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c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Character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89680" y="3705120"/>
              <a:ext cx="1979640" cy="4716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18440" y="37170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726" name=""/>
            <p:cNvCxnSpPr>
              <a:stCxn id="724" idx="1"/>
            </p:cNvCxnSpPr>
            <p:nvPr/>
          </p:nvCxnSpPr>
          <p:spPr>
            <a:xfrm flipH="1">
              <a:off x="5327280" y="3941640"/>
              <a:ext cx="653040" cy="1368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727" name=""/>
            <p:cNvSpPr/>
            <p:nvPr/>
          </p:nvSpPr>
          <p:spPr>
            <a:xfrm>
              <a:off x="6365880" y="2311560"/>
              <a:ext cx="1235160" cy="33156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09440" y="2224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729" name=""/>
            <p:cNvCxnSpPr>
              <a:stCxn id="716" idx="1"/>
            </p:cNvCxnSpPr>
            <p:nvPr/>
          </p:nvCxnSpPr>
          <p:spPr>
            <a:xfrm flipV="1">
              <a:off x="5311440" y="2476080"/>
              <a:ext cx="1043640" cy="22464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30" name=""/>
            <p:cNvSpPr/>
            <p:nvPr/>
          </p:nvSpPr>
          <p:spPr>
            <a:xfrm>
              <a:off x="5643720" y="2073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16" idx="1"/>
              <a:endCxn id="724" idx="1"/>
            </p:cNvCxnSpPr>
            <p:nvPr/>
          </p:nvCxnSpPr>
          <p:spPr>
            <a:xfrm>
              <a:off x="5311800" y="2700360"/>
              <a:ext cx="668880" cy="12420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732" name=""/>
            <p:cNvSpPr/>
            <p:nvPr/>
          </p:nvSpPr>
          <p:spPr>
            <a:xfrm>
              <a:off x="698400" y="363600"/>
              <a:ext cx="8102880" cy="45752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5880" y="397440"/>
              <a:ext cx="25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system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aSyste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591240" y="5815440"/>
            <a:ext cx="1603440" cy="377280"/>
          </a:xfrm>
          <a:prstGeom prst="borderCallout2">
            <a:avLst>
              <a:gd name="adj1" fmla="val 18750"/>
              <a:gd name="adj2" fmla="val -8333"/>
              <a:gd name="adj3" fmla="val 29509"/>
              <a:gd name="adj4" fmla="val -75245"/>
              <a:gd name="adj5" fmla="val -837750"/>
              <a:gd name="adj6" fmla="val -90388"/>
            </a:avLst>
          </a:prstGeom>
          <a:noFill/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mplicit g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01840" y="2696760"/>
            <a:ext cx="1206360" cy="10080"/>
            <a:chOff x="4101840" y="2696760"/>
            <a:chExt cx="1206360" cy="10080"/>
          </a:xfrm>
        </p:grpSpPr>
        <p:sp>
          <p:nvSpPr>
            <p:cNvPr id="736" name=""/>
            <p:cNvSpPr/>
            <p:nvPr/>
          </p:nvSpPr>
          <p:spPr>
            <a:xfrm flipH="1" flipV="1">
              <a:off x="4101840" y="2696760"/>
              <a:ext cx="323640" cy="396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984560" y="2697120"/>
              <a:ext cx="323640" cy="972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103280" y="3951360"/>
            <a:ext cx="1209960" cy="4680"/>
            <a:chOff x="4103280" y="3951360"/>
            <a:chExt cx="1209960" cy="4680"/>
          </a:xfrm>
        </p:grpSpPr>
        <p:sp>
          <p:nvSpPr>
            <p:cNvPr id="739" name=""/>
            <p:cNvSpPr/>
            <p:nvPr/>
          </p:nvSpPr>
          <p:spPr>
            <a:xfrm flipH="1">
              <a:off x="4103280" y="3951360"/>
              <a:ext cx="322200" cy="144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987800" y="3951360"/>
              <a:ext cx="325440" cy="468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441680" y="3952800"/>
              <a:ext cx="811440" cy="180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 flipH="1">
            <a:off x="1363680" y="5974200"/>
            <a:ext cx="2868480" cy="377280"/>
          </a:xfrm>
          <a:prstGeom prst="borderCallout2">
            <a:avLst>
              <a:gd name="adj1" fmla="val 18750"/>
              <a:gd name="adj2" fmla="val -8333"/>
              <a:gd name="adj3" fmla="val 29504"/>
              <a:gd name="adj4" fmla="val -13726"/>
              <a:gd name="adj5" fmla="val -532694"/>
              <a:gd name="adj6" fmla="val -31708"/>
            </a:avLst>
          </a:prstGeom>
          <a:noFill/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mplicit g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7800" y="5299560"/>
            <a:ext cx="3164040" cy="398880"/>
          </a:xfrm>
          <a:prstGeom prst="borderCallout2">
            <a:avLst>
              <a:gd name="adj1" fmla="val 18750"/>
              <a:gd name="adj2" fmla="val -8333"/>
              <a:gd name="adj3" fmla="val 28125"/>
              <a:gd name="adj4" fmla="val 117861"/>
              <a:gd name="adj5" fmla="val -333722"/>
              <a:gd name="adj6" fmla="val 133351"/>
            </a:avLst>
          </a:prstGeom>
          <a:noFill/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mplicit cha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61320" y="3268800"/>
            <a:ext cx="0" cy="43488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41920" y="5153400"/>
            <a:ext cx="2401920" cy="37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85" y="6374"/>
                </a:moveTo>
                <a:lnTo>
                  <a:pt x="-5339" y="6374"/>
                </a:lnTo>
                <a:lnTo>
                  <a:pt x="-5339" y="-45148"/>
                </a:lnTo>
                <a:lnTo>
                  <a:pt x="3580" y="-99352"/>
                </a:lnTo>
              </a:path>
            </a:pathLst>
          </a:custGeom>
          <a:noFill/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unconnected g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56280" y="3267000"/>
            <a:ext cx="3240" cy="44136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DL-2000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0440" y="172548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s a major revision of S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emoval of outdated conce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ignment of existing conce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troduction of new conce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s completely based on object-ori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as a new formal seman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s accompanied by a new standard Z.109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DL-UML-Prof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dvanced Communic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wo-way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icitly mapped onto signal exchan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variab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ead access to variables of other ag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no containment relation requir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proced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xecution of a procedure by a different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mote procedure and and remote variables can be mentioned in signalli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imple State Machin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26680" y="16938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ehaviour of an agen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s specified by a state machine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wo main constituen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articular condition in which an agent may consume a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equence of activities triggered by the consumption of a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Transition Action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eneration and adressing of signals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identification of receiver or communication path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quence of simple or compound 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formal tex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ranching a transition into a series of alternative path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1470600" y="1498680"/>
            <a:ext cx="4082040" cy="3733560"/>
            <a:chOff x="1470600" y="1498680"/>
            <a:chExt cx="4082040" cy="3733560"/>
          </a:xfrm>
        </p:grpSpPr>
        <p:cxnSp>
          <p:nvCxnSpPr>
            <p:cNvPr id="754" name=""/>
            <p:cNvCxnSpPr>
              <a:stCxn id="755" idx="2"/>
              <a:endCxn id="756" idx="2"/>
            </p:cNvCxnSpPr>
            <p:nvPr/>
          </p:nvCxnSpPr>
          <p:spPr>
            <a:xfrm flipH="1" rot="16200000">
              <a:off x="2533680" y="435600"/>
              <a:ext cx="481680" cy="2607480"/>
            </a:xfrm>
            <a:prstGeom prst="bentConnector3">
              <a:avLst>
                <a:gd name="adj1" fmla="val 49813"/>
              </a:avLst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757" name=""/>
            <p:cNvGrpSpPr/>
            <p:nvPr/>
          </p:nvGrpSpPr>
          <p:grpSpPr>
            <a:xfrm>
              <a:off x="3237480" y="1985760"/>
              <a:ext cx="1585080" cy="493560"/>
              <a:chOff x="3237480" y="1985760"/>
              <a:chExt cx="1585080" cy="493560"/>
            </a:xfrm>
          </p:grpSpPr>
          <p:sp>
            <p:nvSpPr>
              <p:cNvPr id="756" name=""/>
              <p:cNvSpPr/>
              <p:nvPr/>
            </p:nvSpPr>
            <p:spPr>
              <a:xfrm rot="10800000">
                <a:off x="3334680" y="1988640"/>
                <a:ext cx="1484280" cy="483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200000">
                <a:off x="4373640" y="2027880"/>
                <a:ext cx="473400" cy="40824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4817880" y="1985760"/>
                <a:ext cx="4680" cy="48924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237480" y="2019600"/>
                <a:ext cx="114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2(x)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560400" y="2762280"/>
              <a:ext cx="975240" cy="623880"/>
            </a:xfrm>
            <a:prstGeom prst="diamond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710160" y="281520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x&gt;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427840" y="4705200"/>
              <a:ext cx="1370880" cy="527040"/>
              <a:chOff x="2427840" y="4705200"/>
              <a:chExt cx="1370880" cy="527040"/>
            </a:xfrm>
          </p:grpSpPr>
          <p:sp>
            <p:nvSpPr>
              <p:cNvPr id="764" name=""/>
              <p:cNvSpPr/>
              <p:nvPr/>
            </p:nvSpPr>
            <p:spPr>
              <a:xfrm>
                <a:off x="2427840" y="4705200"/>
                <a:ext cx="1370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587320" y="47376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4182120" y="4705200"/>
              <a:ext cx="1370520" cy="527040"/>
              <a:chOff x="4182120" y="4705200"/>
              <a:chExt cx="1370520" cy="527040"/>
            </a:xfrm>
          </p:grpSpPr>
          <p:sp>
            <p:nvSpPr>
              <p:cNvPr id="767" name=""/>
              <p:cNvSpPr/>
              <p:nvPr/>
            </p:nvSpPr>
            <p:spPr>
              <a:xfrm>
                <a:off x="4182120" y="4705200"/>
                <a:ext cx="137052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341600" y="47376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769" name=""/>
            <p:cNvCxnSpPr>
              <a:stCxn id="761" idx="1"/>
              <a:endCxn id="764" idx="0"/>
            </p:cNvCxnSpPr>
            <p:nvPr/>
          </p:nvCxnSpPr>
          <p:spPr>
            <a:xfrm flipV="1" rot="10800000">
              <a:off x="3112560" y="3074760"/>
              <a:ext cx="438480" cy="162144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1" idx="3"/>
              <a:endCxn id="767" idx="0"/>
            </p:cNvCxnSpPr>
            <p:nvPr/>
          </p:nvCxnSpPr>
          <p:spPr>
            <a:xfrm>
              <a:off x="4544640" y="3075120"/>
              <a:ext cx="322920" cy="162144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56" idx="0"/>
            </p:cNvCxnSpPr>
            <p:nvPr/>
          </p:nvCxnSpPr>
          <p:spPr>
            <a:xfrm>
              <a:off x="4078440" y="2479680"/>
              <a:ext cx="3600" cy="2484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2725560" y="268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05760" y="26931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422880" y="5542200"/>
            <a:ext cx="84060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78703"/>
              <a:gd name="adj5" fmla="val -361111"/>
              <a:gd name="adj6" fmla="val -155263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35400" y="4611960"/>
            <a:ext cx="134676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47101"/>
              <a:gd name="adj5" fmla="val -298981"/>
              <a:gd name="adj6" fmla="val -186074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13520" y="671040"/>
            <a:ext cx="3566880" cy="378864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tate State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nput Sig1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task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{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:=x+5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(y&gt;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:=y-10;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nextstate State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nput Sig2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ecision (x&gt;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true: nextstate State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alse: nextstate State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enddecis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endstat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88960" y="961920"/>
            <a:ext cx="1766880" cy="5222880"/>
            <a:chOff x="588960" y="961920"/>
            <a:chExt cx="1766880" cy="5222880"/>
          </a:xfrm>
        </p:grpSpPr>
        <p:cxnSp>
          <p:nvCxnSpPr>
            <p:cNvPr id="778" name=""/>
            <p:cNvCxnSpPr>
              <a:stCxn id="779" idx="0"/>
              <a:endCxn id="780" idx="0"/>
            </p:cNvCxnSpPr>
            <p:nvPr/>
          </p:nvCxnSpPr>
          <p:spPr>
            <a:xfrm>
              <a:off x="1464840" y="2494080"/>
              <a:ext cx="1080" cy="4356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781" name=""/>
            <p:cNvGrpSpPr/>
            <p:nvPr/>
          </p:nvGrpSpPr>
          <p:grpSpPr>
            <a:xfrm>
              <a:off x="730440" y="961920"/>
              <a:ext cx="1469880" cy="527040"/>
              <a:chOff x="730440" y="961920"/>
              <a:chExt cx="1469880" cy="527040"/>
            </a:xfrm>
          </p:grpSpPr>
          <p:sp>
            <p:nvSpPr>
              <p:cNvPr id="755" name=""/>
              <p:cNvSpPr/>
              <p:nvPr/>
            </p:nvSpPr>
            <p:spPr>
              <a:xfrm>
                <a:off x="730440" y="96192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93880" y="99252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52320" y="5657760"/>
              <a:ext cx="1469880" cy="527040"/>
              <a:chOff x="652320" y="5657760"/>
              <a:chExt cx="1469880" cy="527040"/>
            </a:xfrm>
          </p:grpSpPr>
          <p:sp>
            <p:nvSpPr>
              <p:cNvPr id="784" name=""/>
              <p:cNvSpPr/>
              <p:nvPr/>
            </p:nvSpPr>
            <p:spPr>
              <a:xfrm>
                <a:off x="652320" y="565776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1840" y="569016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786" name=""/>
            <p:cNvCxnSpPr>
              <a:stCxn id="755" idx="2"/>
              <a:endCxn id="779" idx="2"/>
            </p:cNvCxnSpPr>
            <p:nvPr/>
          </p:nvCxnSpPr>
          <p:spPr>
            <a:xfrm>
              <a:off x="1464840" y="1498680"/>
              <a:ext cx="1080" cy="49608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787" name=""/>
            <p:cNvGrpSpPr/>
            <p:nvPr/>
          </p:nvGrpSpPr>
          <p:grpSpPr>
            <a:xfrm>
              <a:off x="604080" y="1999800"/>
              <a:ext cx="1659600" cy="493560"/>
              <a:chOff x="604080" y="1999800"/>
              <a:chExt cx="1659600" cy="493560"/>
            </a:xfrm>
          </p:grpSpPr>
          <p:sp>
            <p:nvSpPr>
              <p:cNvPr id="779" name=""/>
              <p:cNvSpPr/>
              <p:nvPr/>
            </p:nvSpPr>
            <p:spPr>
              <a:xfrm rot="10800000">
                <a:off x="667800" y="2002680"/>
                <a:ext cx="1592280" cy="483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200000">
                <a:off x="1799640" y="2027160"/>
                <a:ext cx="473400" cy="4381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2258640" y="1999800"/>
                <a:ext cx="5040" cy="48924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4080" y="2033640"/>
                <a:ext cx="114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1(x)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588960" y="2938320"/>
              <a:ext cx="1751040" cy="11890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120" y="3031200"/>
              <a:ext cx="1547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y:=x+5;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if(y&gt;10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y:=y-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440" y="4170240"/>
              <a:ext cx="0" cy="4892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90680" y="5289480"/>
              <a:ext cx="0" cy="3859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604800" y="4697280"/>
              <a:ext cx="1751040" cy="579600"/>
              <a:chOff x="604800" y="4697280"/>
              <a:chExt cx="1751040" cy="579600"/>
            </a:xfrm>
          </p:grpSpPr>
          <p:sp>
            <p:nvSpPr>
              <p:cNvPr id="795" name=""/>
              <p:cNvSpPr/>
              <p:nvPr/>
            </p:nvSpPr>
            <p:spPr>
              <a:xfrm>
                <a:off x="604800" y="4697280"/>
                <a:ext cx="1751040" cy="579600"/>
              </a:xfrm>
              <a:custGeom>
                <a:avLst/>
                <a:gdLst>
                  <a:gd name="textAreaLeft" fmla="*/ 0 w 1751040"/>
                  <a:gd name="textAreaRight" fmla="*/ 1751400 w 175104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8040" y="4777200"/>
                <a:ext cx="146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3(x, y)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7" name=""/>
          <p:cNvSpPr/>
          <p:nvPr/>
        </p:nvSpPr>
        <p:spPr>
          <a:xfrm>
            <a:off x="3319560" y="6120000"/>
            <a:ext cx="111132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49712"/>
              <a:gd name="adj5" fmla="val -198981"/>
              <a:gd name="adj6" fmla="val -94134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lgorithmic Not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tement lists provide a means for a concise textual notation of algorith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pplicable 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procedure 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operation 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ogramming-language like syn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mpound 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f-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cision-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loop-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break-stat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xception-statements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utput, export, return, create,set/reset, raise, call, assig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51280" y="1881360"/>
            <a:ext cx="423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(  dcl P Pid :=self, not(P=null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cl i Natural:=0,,i+1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{ P:=create Proc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f(newP=null) break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lse output Sig(P,i) to paren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Create and Stop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erformance of a create-request action results in the existence of a new agent instance in the indicated agent s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eators implicit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offspring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expression refers  to new creat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eatee´s implicit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paren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expression refers to cre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730080" y="549360"/>
            <a:ext cx="6372000" cy="3786840"/>
            <a:chOff x="730080" y="549360"/>
            <a:chExt cx="6372000" cy="3786840"/>
          </a:xfrm>
        </p:grpSpPr>
        <p:sp>
          <p:nvSpPr>
            <p:cNvPr id="806" name=""/>
            <p:cNvSpPr/>
            <p:nvPr/>
          </p:nvSpPr>
          <p:spPr>
            <a:xfrm>
              <a:off x="3678120" y="2390760"/>
              <a:ext cx="97632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782280" y="957960"/>
              <a:ext cx="2903760" cy="3378240"/>
              <a:chOff x="782280" y="957960"/>
              <a:chExt cx="2903760" cy="3378240"/>
            </a:xfrm>
          </p:grpSpPr>
          <p:sp>
            <p:nvSpPr>
              <p:cNvPr id="808" name=""/>
              <p:cNvSpPr/>
              <p:nvPr/>
            </p:nvSpPr>
            <p:spPr>
              <a:xfrm>
                <a:off x="782280" y="972720"/>
                <a:ext cx="2895840" cy="28080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5400" y="957960"/>
                <a:ext cx="99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867960" y="1290240"/>
                <a:ext cx="1656000" cy="580680"/>
                <a:chOff x="867960" y="1290240"/>
                <a:chExt cx="1656000" cy="58068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867960" y="1311480"/>
                  <a:ext cx="1577520" cy="495720"/>
                  <a:chOff x="867960" y="1311480"/>
                  <a:chExt cx="1577520" cy="4957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867960" y="1315080"/>
                    <a:ext cx="1577520" cy="49212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236680" y="1311480"/>
                    <a:ext cx="205560" cy="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45480" y="1329120"/>
                    <a:ext cx="0" cy="23364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229480" y="1329120"/>
                    <a:ext cx="201240" cy="242640"/>
                  </a:xfrm>
                  <a:prstGeom prst="rtTriangle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"/>
                <p:cNvSpPr/>
                <p:nvPr/>
              </p:nvSpPr>
              <p:spPr>
                <a:xfrm>
                  <a:off x="900000" y="1290240"/>
                  <a:ext cx="1623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dcl</a:t>
                  </a: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 i </a:t>
                  </a:r>
                  <a:r>
                    <a:rPr b="1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Natural</a:t>
                  </a: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,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     </a:t>
                  </a: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c </a:t>
                  </a:r>
                  <a:r>
                    <a:rPr b="1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Character</a:t>
                  </a:r>
                  <a:r>
                    <a:rPr b="0" lang="en-GB" sz="1600" spc="-1" strike="noStrike">
                      <a:solidFill>
                        <a:srgbClr val="eaeaea"/>
                      </a:solidFill>
                      <a:latin typeface="Arial"/>
                    </a:rPr>
                    <a:t>;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921960" y="2629440"/>
                <a:ext cx="2565000" cy="960840"/>
                <a:chOff x="921960" y="2629440"/>
                <a:chExt cx="2565000" cy="9608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921960" y="2632320"/>
                  <a:ext cx="1171440" cy="3855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315520" y="3204720"/>
                  <a:ext cx="1171440" cy="3855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123200" y="26294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B1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80920" y="319392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B2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22" name=""/>
              <p:cNvCxnSpPr/>
              <p:nvPr/>
            </p:nvCxnSpPr>
            <p:spPr>
              <a:xfrm flipH="1" rot="16200000">
                <a:off x="1721520" y="2811240"/>
                <a:ext cx="373320" cy="8006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823" name=""/>
              <p:cNvCxnSpPr/>
              <p:nvPr/>
            </p:nvCxnSpPr>
            <p:spPr>
              <a:xfrm flipV="1" rot="10800000">
                <a:off x="1507320" y="2189160"/>
                <a:ext cx="749880" cy="43524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824" name=""/>
              <p:cNvCxnSpPr/>
              <p:nvPr/>
            </p:nvCxnSpPr>
            <p:spPr>
              <a:xfrm>
                <a:off x="3003480" y="2189880"/>
                <a:ext cx="682920" cy="1875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825" name=""/>
              <p:cNvCxnSpPr/>
              <p:nvPr/>
            </p:nvCxnSpPr>
            <p:spPr>
              <a:xfrm flipH="1">
                <a:off x="2230920" y="3596400"/>
                <a:ext cx="670680" cy="19260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826" name=""/>
              <p:cNvSpPr/>
              <p:nvPr/>
            </p:nvSpPr>
            <p:spPr>
              <a:xfrm>
                <a:off x="2236680" y="3798360"/>
                <a:ext cx="0" cy="53784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2265120" y="1992600"/>
                <a:ext cx="730080" cy="368280"/>
                <a:chOff x="2265120" y="1992600"/>
                <a:chExt cx="730080" cy="3682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2265120" y="2054160"/>
                  <a:ext cx="730080" cy="270360"/>
                </a:xfrm>
                <a:prstGeom prst="roundRect">
                  <a:avLst>
                    <a:gd name="adj" fmla="val 28569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424960" y="199260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0" name=""/>
            <p:cNvSpPr/>
            <p:nvPr/>
          </p:nvSpPr>
          <p:spPr>
            <a:xfrm>
              <a:off x="730080" y="549360"/>
              <a:ext cx="6372000" cy="33638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76400" y="1173240"/>
              <a:ext cx="2214720" cy="23760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02120" y="12196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     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A(1,1)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05160" y="2286000"/>
              <a:ext cx="947880" cy="381960"/>
            </a:xfrm>
            <a:prstGeom prst="roundRect">
              <a:avLst>
                <a:gd name="adj" fmla="val 29894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79840" y="2247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32120" y="2403360"/>
              <a:ext cx="482400" cy="932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80120" y="55404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contain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322520" y="4124160"/>
            <a:ext cx="1518840" cy="2467080"/>
            <a:chOff x="4322520" y="4124160"/>
            <a:chExt cx="1518840" cy="2467080"/>
          </a:xfrm>
        </p:grpSpPr>
        <p:grpSp>
          <p:nvGrpSpPr>
            <p:cNvPr id="838" name=""/>
            <p:cNvGrpSpPr/>
            <p:nvPr/>
          </p:nvGrpSpPr>
          <p:grpSpPr>
            <a:xfrm>
              <a:off x="4322520" y="4124160"/>
              <a:ext cx="1518840" cy="2467080"/>
              <a:chOff x="4322520" y="4124160"/>
              <a:chExt cx="1518840" cy="2467080"/>
            </a:xfrm>
          </p:grpSpPr>
          <p:cxnSp>
            <p:nvCxnSpPr>
              <p:cNvPr id="839" name=""/>
              <p:cNvCxnSpPr>
                <a:stCxn id="840" idx="2"/>
                <a:endCxn id="841" idx="0"/>
              </p:cNvCxnSpPr>
              <p:nvPr/>
            </p:nvCxnSpPr>
            <p:spPr>
              <a:xfrm>
                <a:off x="5081400" y="5765760"/>
                <a:ext cx="1080" cy="40536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842" name=""/>
              <p:cNvGrpSpPr/>
              <p:nvPr/>
            </p:nvGrpSpPr>
            <p:grpSpPr>
              <a:xfrm>
                <a:off x="4381560" y="4124160"/>
                <a:ext cx="1400400" cy="411120"/>
                <a:chOff x="4381560" y="4124160"/>
                <a:chExt cx="1400400" cy="4111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4381560" y="4124160"/>
                  <a:ext cx="1400400" cy="4111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585320" y="412704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4381560" y="6179760"/>
                <a:ext cx="1400400" cy="411480"/>
                <a:chOff x="4381560" y="6179760"/>
                <a:chExt cx="1400400" cy="41148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381560" y="6179760"/>
                  <a:ext cx="1400400" cy="41148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629240" y="618552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47" name=""/>
              <p:cNvCxnSpPr>
                <a:stCxn id="843" idx="2"/>
                <a:endCxn id="848" idx="2"/>
              </p:cNvCxnSpPr>
              <p:nvPr/>
            </p:nvCxnSpPr>
            <p:spPr>
              <a:xfrm>
                <a:off x="5081400" y="4544640"/>
                <a:ext cx="1080" cy="1612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849" name=""/>
              <p:cNvGrpSpPr/>
              <p:nvPr/>
            </p:nvGrpSpPr>
            <p:grpSpPr>
              <a:xfrm>
                <a:off x="4322520" y="4714200"/>
                <a:ext cx="1518840" cy="404640"/>
                <a:chOff x="4322520" y="4714200"/>
                <a:chExt cx="1518840" cy="404640"/>
              </a:xfrm>
            </p:grpSpPr>
            <p:sp>
              <p:nvSpPr>
                <p:cNvPr id="848" name=""/>
                <p:cNvSpPr/>
                <p:nvPr/>
              </p:nvSpPr>
              <p:spPr>
                <a:xfrm rot="10800000">
                  <a:off x="4322520" y="4716360"/>
                  <a:ext cx="1515960" cy="3772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6200000">
                  <a:off x="5440680" y="4698360"/>
                  <a:ext cx="369360" cy="4168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5836680" y="4714200"/>
                  <a:ext cx="4680" cy="38196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461840" y="4719960"/>
                  <a:ext cx="689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ig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853" name=""/>
            <p:cNvCxnSpPr>
              <a:stCxn id="848" idx="0"/>
              <a:endCxn id="840" idx="0"/>
            </p:cNvCxnSpPr>
            <p:nvPr/>
          </p:nvCxnSpPr>
          <p:spPr>
            <a:xfrm>
              <a:off x="5081400" y="5101560"/>
              <a:ext cx="1080" cy="1753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854" name=""/>
            <p:cNvGrpSpPr/>
            <p:nvPr/>
          </p:nvGrpSpPr>
          <p:grpSpPr>
            <a:xfrm>
              <a:off x="4329360" y="5286240"/>
              <a:ext cx="1504800" cy="475920"/>
              <a:chOff x="4329360" y="5286240"/>
              <a:chExt cx="1504800" cy="475920"/>
            </a:xfrm>
          </p:grpSpPr>
          <p:grpSp>
            <p:nvGrpSpPr>
              <p:cNvPr id="855" name=""/>
              <p:cNvGrpSpPr/>
              <p:nvPr/>
            </p:nvGrpSpPr>
            <p:grpSpPr>
              <a:xfrm>
                <a:off x="4329360" y="5286240"/>
                <a:ext cx="1504800" cy="469800"/>
                <a:chOff x="4329360" y="5286240"/>
                <a:chExt cx="1504800" cy="4698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329360" y="5286240"/>
                  <a:ext cx="1504800" cy="46980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329360" y="5344920"/>
                  <a:ext cx="1504800" cy="3524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4875480" y="5302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923760" y="2186640"/>
            <a:ext cx="2764080" cy="1599120"/>
            <a:chOff x="923760" y="2186640"/>
            <a:chExt cx="2764080" cy="1599120"/>
          </a:xfrm>
        </p:grpSpPr>
        <p:sp>
          <p:nvSpPr>
            <p:cNvPr id="859" name=""/>
            <p:cNvSpPr/>
            <p:nvPr/>
          </p:nvSpPr>
          <p:spPr>
            <a:xfrm>
              <a:off x="923760" y="2628720"/>
              <a:ext cx="1171800" cy="38556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17680" y="3201840"/>
              <a:ext cx="1171440" cy="38556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25720" y="26262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83080" y="31914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863" name=""/>
            <p:cNvCxnSpPr/>
            <p:nvPr/>
          </p:nvCxnSpPr>
          <p:spPr>
            <a:xfrm flipH="1" rot="16200000">
              <a:off x="1723320" y="2808360"/>
              <a:ext cx="373320" cy="800640"/>
            </a:xfrm>
            <a:prstGeom prst="bentConnector2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64" name=""/>
            <p:cNvCxnSpPr/>
            <p:nvPr/>
          </p:nvCxnSpPr>
          <p:spPr>
            <a:xfrm flipV="1" rot="10800000">
              <a:off x="1509120" y="2186640"/>
              <a:ext cx="749880" cy="435240"/>
            </a:xfrm>
            <a:prstGeom prst="bentConnector2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65" name=""/>
            <p:cNvCxnSpPr/>
            <p:nvPr/>
          </p:nvCxnSpPr>
          <p:spPr>
            <a:xfrm>
              <a:off x="3005280" y="2187360"/>
              <a:ext cx="682920" cy="18756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66" name=""/>
            <p:cNvCxnSpPr/>
            <p:nvPr/>
          </p:nvCxnSpPr>
          <p:spPr>
            <a:xfrm flipH="1">
              <a:off x="2232720" y="3593520"/>
              <a:ext cx="670680" cy="192600"/>
            </a:xfrm>
            <a:prstGeom prst="straightConnector1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867" name=""/>
          <p:cNvGrpSpPr/>
          <p:nvPr/>
        </p:nvGrpSpPr>
        <p:grpSpPr>
          <a:xfrm>
            <a:off x="784080" y="959760"/>
            <a:ext cx="2895840" cy="2822760"/>
            <a:chOff x="784080" y="959760"/>
            <a:chExt cx="2895840" cy="2822760"/>
          </a:xfrm>
        </p:grpSpPr>
        <p:sp>
          <p:nvSpPr>
            <p:cNvPr id="868" name=""/>
            <p:cNvSpPr/>
            <p:nvPr/>
          </p:nvSpPr>
          <p:spPr>
            <a:xfrm>
              <a:off x="784080" y="974520"/>
              <a:ext cx="2895840" cy="2808000"/>
            </a:xfrm>
            <a:prstGeom prst="rect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8640" y="959760"/>
              <a:ext cx="15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B </a:t>
              </a:r>
              <a:r>
                <a:rPr b="0" lang="en-GB" sz="1800" spc="-1" strike="noStrike">
                  <a:solidFill>
                    <a:srgbClr val="006699"/>
                  </a:solidFill>
                  <a:latin typeface="Arial"/>
                </a:rPr>
                <a:t>(1,5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69760" y="1315800"/>
              <a:ext cx="1578240" cy="493200"/>
            </a:xfrm>
            <a:prstGeom prst="rect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39920" y="1312560"/>
              <a:ext cx="204840" cy="0"/>
            </a:xfrm>
            <a:prstGeom prst="line">
              <a:avLst/>
            </a:prstGeom>
            <a:ln cap="sq"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48000" y="1330200"/>
              <a:ext cx="0" cy="234360"/>
            </a:xfrm>
            <a:prstGeom prst="line">
              <a:avLst/>
            </a:prstGeom>
            <a:ln cap="sq"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32000" y="1330200"/>
              <a:ext cx="201600" cy="242280"/>
            </a:xfrm>
            <a:prstGeom prst="rtTriangle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0360" y="1292040"/>
              <a:ext cx="138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dcl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 i </a:t>
              </a: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Natural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c </a:t>
              </a: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Char</a:t>
              </a:r>
              <a:r>
                <a:rPr b="0" lang="en-GB" sz="16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266920" y="1994400"/>
              <a:ext cx="730080" cy="368280"/>
              <a:chOff x="2266920" y="1994400"/>
              <a:chExt cx="730080" cy="368280"/>
            </a:xfrm>
          </p:grpSpPr>
          <p:sp>
            <p:nvSpPr>
              <p:cNvPr id="876" name=""/>
              <p:cNvSpPr/>
              <p:nvPr/>
            </p:nvSpPr>
            <p:spPr>
              <a:xfrm>
                <a:off x="2266920" y="2055240"/>
                <a:ext cx="730080" cy="271080"/>
              </a:xfrm>
              <a:prstGeom prst="roundRect">
                <a:avLst>
                  <a:gd name="adj" fmla="val 28569"/>
                </a:avLst>
              </a:prstGeom>
              <a:solidFill>
                <a:srgbClr val="ff3300">
                  <a:alpha val="50000"/>
                </a:srgbClr>
              </a:solidFill>
              <a:ln cap="sq"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27480" y="19944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4322880" y="2611440"/>
            <a:ext cx="1716840" cy="3971880"/>
            <a:chOff x="4322880" y="2611440"/>
            <a:chExt cx="1716840" cy="3971880"/>
          </a:xfrm>
        </p:grpSpPr>
        <p:sp>
          <p:nvSpPr>
            <p:cNvPr id="879" name=""/>
            <p:cNvSpPr/>
            <p:nvPr/>
          </p:nvSpPr>
          <p:spPr>
            <a:xfrm flipH="1">
              <a:off x="4322880" y="2611440"/>
              <a:ext cx="769680" cy="171108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41360" y="2611440"/>
              <a:ext cx="198360" cy="397188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1681200" y="957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(1,5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4348080" y="5302080"/>
            <a:ext cx="1504800" cy="475920"/>
            <a:chOff x="4348080" y="5302080"/>
            <a:chExt cx="1504800" cy="475920"/>
          </a:xfrm>
        </p:grpSpPr>
        <p:grpSp>
          <p:nvGrpSpPr>
            <p:cNvPr id="883" name=""/>
            <p:cNvGrpSpPr/>
            <p:nvPr/>
          </p:nvGrpSpPr>
          <p:grpSpPr>
            <a:xfrm>
              <a:off x="4348080" y="5302080"/>
              <a:ext cx="1504800" cy="469800"/>
              <a:chOff x="4348080" y="5302080"/>
              <a:chExt cx="1504800" cy="469800"/>
            </a:xfrm>
          </p:grpSpPr>
          <p:sp>
            <p:nvSpPr>
              <p:cNvPr id="884" name=""/>
              <p:cNvSpPr/>
              <p:nvPr/>
            </p:nvSpPr>
            <p:spPr>
              <a:xfrm>
                <a:off x="4348080" y="5302080"/>
                <a:ext cx="1504800" cy="4698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348080" y="5360760"/>
                <a:ext cx="1504800" cy="3524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4894200" y="5318280"/>
              <a:ext cx="383400" cy="45972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073240" y="1142640"/>
            <a:ext cx="3648600" cy="1682640"/>
            <a:chOff x="2073240" y="1142640"/>
            <a:chExt cx="3648600" cy="1682640"/>
          </a:xfrm>
        </p:grpSpPr>
        <p:sp>
          <p:nvSpPr>
            <p:cNvPr id="888" name=""/>
            <p:cNvSpPr/>
            <p:nvPr/>
          </p:nvSpPr>
          <p:spPr>
            <a:xfrm>
              <a:off x="4666320" y="154836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ff00"/>
                  </a:solidFill>
                  <a:latin typeface="Arial"/>
                </a:rPr>
                <a:t>offspr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889" name=""/>
            <p:cNvCxnSpPr>
              <a:stCxn id="888" idx="1"/>
              <a:endCxn id="881" idx="3"/>
            </p:cNvCxnSpPr>
            <p:nvPr/>
          </p:nvCxnSpPr>
          <p:spPr>
            <a:xfrm rot="10800000">
              <a:off x="2332800" y="1142280"/>
              <a:ext cx="2331000" cy="591120"/>
            </a:xfrm>
            <a:prstGeom prst="curvedConnector5">
              <a:avLst>
                <a:gd name="adj1" fmla="val 50000"/>
                <a:gd name="adj2" fmla="val 49969"/>
                <a:gd name="adj3" fmla="val 50000"/>
              </a:avLst>
            </a:prstGeom>
            <a:ln cap="sq" w="1908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890" name=""/>
            <p:cNvSpPr/>
            <p:nvPr/>
          </p:nvSpPr>
          <p:spPr>
            <a:xfrm>
              <a:off x="2073240" y="2320560"/>
              <a:ext cx="606240" cy="504720"/>
            </a:xfrm>
            <a:custGeom>
              <a:avLst/>
              <a:gdLst/>
              <a:ahLst/>
              <a:rect l="l" t="t" r="r" b="b"/>
              <a:pathLst>
                <a:path w="382" h="318">
                  <a:moveTo>
                    <a:pt x="0" y="318"/>
                  </a:moveTo>
                  <a:cubicBezTo>
                    <a:pt x="54" y="298"/>
                    <a:pt x="266" y="251"/>
                    <a:pt x="324" y="198"/>
                  </a:cubicBezTo>
                  <a:cubicBezTo>
                    <a:pt x="382" y="145"/>
                    <a:pt x="343" y="41"/>
                    <a:pt x="348" y="0"/>
                  </a:cubicBezTo>
                </a:path>
              </a:pathLst>
            </a:custGeom>
            <a:noFill/>
            <a:ln cap="sq" w="19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063880" y="1555200"/>
            <a:ext cx="2590200" cy="1641600"/>
            <a:chOff x="2063880" y="1555200"/>
            <a:chExt cx="2590200" cy="1641600"/>
          </a:xfrm>
        </p:grpSpPr>
        <p:sp>
          <p:nvSpPr>
            <p:cNvPr id="892" name=""/>
            <p:cNvSpPr/>
            <p:nvPr/>
          </p:nvSpPr>
          <p:spPr>
            <a:xfrm>
              <a:off x="2605680" y="15552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ar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06680" y="1768320"/>
              <a:ext cx="1247400" cy="293400"/>
            </a:xfrm>
            <a:custGeom>
              <a:avLst/>
              <a:gdLst/>
              <a:ahLst/>
              <a:rect l="l" t="t" r="r" b="b"/>
              <a:pathLst>
                <a:path w="786" h="185">
                  <a:moveTo>
                    <a:pt x="0" y="0"/>
                  </a:moveTo>
                  <a:cubicBezTo>
                    <a:pt x="68" y="27"/>
                    <a:pt x="277" y="139"/>
                    <a:pt x="408" y="162"/>
                  </a:cubicBezTo>
                  <a:cubicBezTo>
                    <a:pt x="539" y="185"/>
                    <a:pt x="707" y="143"/>
                    <a:pt x="786" y="138"/>
                  </a:cubicBezTo>
                </a:path>
              </a:pathLst>
            </a:custGeom>
            <a:noFill/>
            <a:ln cap="sq"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84160" y="2320560"/>
              <a:ext cx="550800" cy="876240"/>
            </a:xfrm>
            <a:custGeom>
              <a:avLst/>
              <a:gdLst/>
              <a:ahLst/>
              <a:rect l="l" t="t" r="r" b="b"/>
              <a:pathLst>
                <a:path w="347" h="552">
                  <a:moveTo>
                    <a:pt x="347" y="552"/>
                  </a:moveTo>
                  <a:cubicBezTo>
                    <a:pt x="220" y="409"/>
                    <a:pt x="94" y="266"/>
                    <a:pt x="47" y="174"/>
                  </a:cubicBezTo>
                  <a:cubicBezTo>
                    <a:pt x="0" y="82"/>
                    <a:pt x="61" y="32"/>
                    <a:pt x="65" y="0"/>
                  </a:cubicBezTo>
                </a:path>
              </a:pathLst>
            </a:custGeom>
            <a:noFill/>
            <a:ln cap="sq"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63880" y="2282760"/>
              <a:ext cx="612360" cy="628200"/>
            </a:xfrm>
            <a:custGeom>
              <a:avLst/>
              <a:gdLst/>
              <a:ahLst/>
              <a:rect l="l" t="t" r="r" b="b"/>
              <a:pathLst>
                <a:path w="386" h="396">
                  <a:moveTo>
                    <a:pt x="0" y="396"/>
                  </a:moveTo>
                  <a:cubicBezTo>
                    <a:pt x="55" y="383"/>
                    <a:pt x="274" y="384"/>
                    <a:pt x="330" y="318"/>
                  </a:cubicBezTo>
                  <a:cubicBezTo>
                    <a:pt x="386" y="252"/>
                    <a:pt x="335" y="66"/>
                    <a:pt x="336" y="0"/>
                  </a:cubicBezTo>
                </a:path>
              </a:pathLst>
            </a:custGeom>
            <a:noFill/>
            <a:ln cap="sq"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176640" y="4600440"/>
            <a:ext cx="1905120" cy="1756080"/>
            <a:chOff x="3176640" y="4600440"/>
            <a:chExt cx="1905120" cy="1756080"/>
          </a:xfrm>
        </p:grpSpPr>
        <p:grpSp>
          <p:nvGrpSpPr>
            <p:cNvPr id="897" name=""/>
            <p:cNvGrpSpPr/>
            <p:nvPr/>
          </p:nvGrpSpPr>
          <p:grpSpPr>
            <a:xfrm>
              <a:off x="3176640" y="5848560"/>
              <a:ext cx="507960" cy="507960"/>
              <a:chOff x="3176640" y="5848560"/>
              <a:chExt cx="507960" cy="507960"/>
            </a:xfrm>
          </p:grpSpPr>
          <p:sp>
            <p:nvSpPr>
              <p:cNvPr id="898" name=""/>
              <p:cNvSpPr/>
              <p:nvPr/>
            </p:nvSpPr>
            <p:spPr>
              <a:xfrm>
                <a:off x="3176640" y="5873400"/>
                <a:ext cx="507960" cy="45468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204360" y="5848560"/>
                <a:ext cx="454680" cy="50796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 flipV="1">
              <a:off x="3435480" y="4619160"/>
              <a:ext cx="0" cy="148140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35480" y="4600440"/>
              <a:ext cx="16462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3696840" y="2997360"/>
            <a:ext cx="939960" cy="0"/>
          </a:xfrm>
          <a:prstGeom prst="line">
            <a:avLst/>
          </a:prstGeom>
          <a:ln w="284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40280" y="4648680"/>
            <a:ext cx="889560" cy="398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9134"/>
              <a:gd name="adj5" fmla="val 170333"/>
              <a:gd name="adj6" fmla="val -196722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57600" y="5256720"/>
            <a:ext cx="662400" cy="39888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226759"/>
              <a:gd name="adj5" fmla="val 209194"/>
              <a:gd name="adj6" fmla="val 353662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reate request can also be based on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ype defin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w instance will either be created i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isting instance set based on that type and defined in the same agent as the cre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or implicit instance set based on that type and located in the same agent as the cre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22520" y="4124160"/>
            <a:ext cx="1518840" cy="2467080"/>
            <a:chOff x="4322520" y="4124160"/>
            <a:chExt cx="1518840" cy="2467080"/>
          </a:xfrm>
        </p:grpSpPr>
        <p:grpSp>
          <p:nvGrpSpPr>
            <p:cNvPr id="908" name=""/>
            <p:cNvGrpSpPr/>
            <p:nvPr/>
          </p:nvGrpSpPr>
          <p:grpSpPr>
            <a:xfrm>
              <a:off x="4322520" y="4124160"/>
              <a:ext cx="1518840" cy="2467080"/>
              <a:chOff x="4322520" y="4124160"/>
              <a:chExt cx="1518840" cy="2467080"/>
            </a:xfrm>
          </p:grpSpPr>
          <p:cxnSp>
            <p:nvCxnSpPr>
              <p:cNvPr id="909" name=""/>
              <p:cNvCxnSpPr>
                <a:stCxn id="910" idx="2"/>
                <a:endCxn id="911" idx="0"/>
              </p:cNvCxnSpPr>
              <p:nvPr/>
            </p:nvCxnSpPr>
            <p:spPr>
              <a:xfrm>
                <a:off x="5081400" y="5765760"/>
                <a:ext cx="1080" cy="40536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912" name=""/>
              <p:cNvGrpSpPr/>
              <p:nvPr/>
            </p:nvGrpSpPr>
            <p:grpSpPr>
              <a:xfrm>
                <a:off x="4381560" y="4124160"/>
                <a:ext cx="1400400" cy="411120"/>
                <a:chOff x="4381560" y="4124160"/>
                <a:chExt cx="1400400" cy="4111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381560" y="4124160"/>
                  <a:ext cx="1400400" cy="4111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585320" y="412704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4381560" y="6179760"/>
                <a:ext cx="1400400" cy="411480"/>
                <a:chOff x="4381560" y="6179760"/>
                <a:chExt cx="1400400" cy="41148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4381560" y="6179760"/>
                  <a:ext cx="1400400" cy="41148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629240" y="618552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917" name=""/>
              <p:cNvCxnSpPr>
                <a:stCxn id="913" idx="2"/>
                <a:endCxn id="918" idx="2"/>
              </p:cNvCxnSpPr>
              <p:nvPr/>
            </p:nvCxnSpPr>
            <p:spPr>
              <a:xfrm>
                <a:off x="5081400" y="4544640"/>
                <a:ext cx="1080" cy="1612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919" name=""/>
              <p:cNvGrpSpPr/>
              <p:nvPr/>
            </p:nvGrpSpPr>
            <p:grpSpPr>
              <a:xfrm>
                <a:off x="4322520" y="4714200"/>
                <a:ext cx="1518840" cy="404640"/>
                <a:chOff x="4322520" y="4714200"/>
                <a:chExt cx="1518840" cy="404640"/>
              </a:xfrm>
            </p:grpSpPr>
            <p:sp>
              <p:nvSpPr>
                <p:cNvPr id="918" name=""/>
                <p:cNvSpPr/>
                <p:nvPr/>
              </p:nvSpPr>
              <p:spPr>
                <a:xfrm rot="10800000">
                  <a:off x="4322520" y="4716360"/>
                  <a:ext cx="1515960" cy="3772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16200000">
                  <a:off x="5440680" y="4698360"/>
                  <a:ext cx="369360" cy="4168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>
                  <a:off x="5836680" y="4714200"/>
                  <a:ext cx="4680" cy="38196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461840" y="4719960"/>
                  <a:ext cx="689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ig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923" name=""/>
            <p:cNvCxnSpPr>
              <a:stCxn id="918" idx="0"/>
              <a:endCxn id="910" idx="0"/>
            </p:cNvCxnSpPr>
            <p:nvPr/>
          </p:nvCxnSpPr>
          <p:spPr>
            <a:xfrm>
              <a:off x="5081400" y="5101560"/>
              <a:ext cx="1080" cy="1753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924" name=""/>
            <p:cNvGrpSpPr/>
            <p:nvPr/>
          </p:nvGrpSpPr>
          <p:grpSpPr>
            <a:xfrm>
              <a:off x="4329360" y="5286240"/>
              <a:ext cx="1504800" cy="475920"/>
              <a:chOff x="4329360" y="5286240"/>
              <a:chExt cx="1504800" cy="47592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4329360" y="5286240"/>
                <a:ext cx="1504800" cy="469800"/>
                <a:chOff x="4329360" y="5286240"/>
                <a:chExt cx="1504800" cy="46980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4329360" y="5286240"/>
                  <a:ext cx="1504800" cy="46980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329360" y="5344920"/>
                  <a:ext cx="1504800" cy="3524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4699800" y="5302440"/>
                <a:ext cx="73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T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2769840" y="2611440"/>
            <a:ext cx="3270240" cy="3971880"/>
            <a:chOff x="2769840" y="2611440"/>
            <a:chExt cx="3270240" cy="3971880"/>
          </a:xfrm>
        </p:grpSpPr>
        <p:sp>
          <p:nvSpPr>
            <p:cNvPr id="929" name=""/>
            <p:cNvSpPr/>
            <p:nvPr/>
          </p:nvSpPr>
          <p:spPr>
            <a:xfrm flipH="1">
              <a:off x="2769840" y="2611440"/>
              <a:ext cx="2322360" cy="154620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841720" y="2611440"/>
              <a:ext cx="198360" cy="397188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665080" y="4124160"/>
            <a:ext cx="1518840" cy="2467080"/>
            <a:chOff x="2665080" y="4124160"/>
            <a:chExt cx="1518840" cy="2467080"/>
          </a:xfrm>
        </p:grpSpPr>
        <p:grpSp>
          <p:nvGrpSpPr>
            <p:cNvPr id="932" name=""/>
            <p:cNvGrpSpPr/>
            <p:nvPr/>
          </p:nvGrpSpPr>
          <p:grpSpPr>
            <a:xfrm>
              <a:off x="2665080" y="4124160"/>
              <a:ext cx="1518840" cy="2467080"/>
              <a:chOff x="2665080" y="4124160"/>
              <a:chExt cx="1518840" cy="2467080"/>
            </a:xfrm>
          </p:grpSpPr>
          <p:cxnSp>
            <p:nvCxnSpPr>
              <p:cNvPr id="933" name=""/>
              <p:cNvCxnSpPr>
                <a:stCxn id="934" idx="2"/>
                <a:endCxn id="935" idx="0"/>
              </p:cNvCxnSpPr>
              <p:nvPr/>
            </p:nvCxnSpPr>
            <p:spPr>
              <a:xfrm>
                <a:off x="3423960" y="5765760"/>
                <a:ext cx="1080" cy="40536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936" name=""/>
              <p:cNvGrpSpPr/>
              <p:nvPr/>
            </p:nvGrpSpPr>
            <p:grpSpPr>
              <a:xfrm>
                <a:off x="2724120" y="4124160"/>
                <a:ext cx="1400400" cy="411120"/>
                <a:chOff x="2724120" y="4124160"/>
                <a:chExt cx="1400400" cy="4111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2724120" y="4124160"/>
                  <a:ext cx="1400400" cy="4111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927880" y="412704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724120" y="6179760"/>
                <a:ext cx="1400400" cy="411480"/>
                <a:chOff x="2724120" y="6179760"/>
                <a:chExt cx="1400400" cy="4114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724120" y="6179760"/>
                  <a:ext cx="1400400" cy="41148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971800" y="6185520"/>
                  <a:ext cx="91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ate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941" name=""/>
              <p:cNvCxnSpPr>
                <a:stCxn id="937" idx="2"/>
                <a:endCxn id="942" idx="2"/>
              </p:cNvCxnSpPr>
              <p:nvPr/>
            </p:nvCxnSpPr>
            <p:spPr>
              <a:xfrm>
                <a:off x="3423960" y="4544640"/>
                <a:ext cx="1080" cy="1612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943" name=""/>
              <p:cNvGrpSpPr/>
              <p:nvPr/>
            </p:nvGrpSpPr>
            <p:grpSpPr>
              <a:xfrm>
                <a:off x="2665080" y="4714200"/>
                <a:ext cx="1518840" cy="404640"/>
                <a:chOff x="2665080" y="4714200"/>
                <a:chExt cx="1518840" cy="404640"/>
              </a:xfrm>
            </p:grpSpPr>
            <p:sp>
              <p:nvSpPr>
                <p:cNvPr id="942" name=""/>
                <p:cNvSpPr/>
                <p:nvPr/>
              </p:nvSpPr>
              <p:spPr>
                <a:xfrm rot="10800000">
                  <a:off x="2665080" y="4716360"/>
                  <a:ext cx="1515960" cy="3772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rot="16200000">
                  <a:off x="3783240" y="4698360"/>
                  <a:ext cx="369360" cy="4168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>
                  <a:off x="4179240" y="4714200"/>
                  <a:ext cx="4680" cy="38196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804400" y="4719960"/>
                  <a:ext cx="689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ig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947" name=""/>
            <p:cNvCxnSpPr>
              <a:stCxn id="942" idx="0"/>
              <a:endCxn id="934" idx="0"/>
            </p:cNvCxnSpPr>
            <p:nvPr/>
          </p:nvCxnSpPr>
          <p:spPr>
            <a:xfrm>
              <a:off x="3423960" y="5101560"/>
              <a:ext cx="1080" cy="1753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948" name=""/>
            <p:cNvGrpSpPr/>
            <p:nvPr/>
          </p:nvGrpSpPr>
          <p:grpSpPr>
            <a:xfrm>
              <a:off x="2671920" y="5286240"/>
              <a:ext cx="1504800" cy="475920"/>
              <a:chOff x="2671920" y="5286240"/>
              <a:chExt cx="1504800" cy="47592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2671920" y="5286240"/>
                <a:ext cx="1504800" cy="469800"/>
                <a:chOff x="2671920" y="5286240"/>
                <a:chExt cx="1504800" cy="46980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671920" y="5286240"/>
                  <a:ext cx="1504800" cy="46980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671920" y="5344920"/>
                  <a:ext cx="1504800" cy="3524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1" name=""/>
              <p:cNvSpPr/>
              <p:nvPr/>
            </p:nvSpPr>
            <p:spPr>
              <a:xfrm>
                <a:off x="3042360" y="5302440"/>
                <a:ext cx="73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T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730080" y="549360"/>
            <a:ext cx="6372360" cy="3363840"/>
            <a:chOff x="730080" y="549360"/>
            <a:chExt cx="6372360" cy="3363840"/>
          </a:xfrm>
        </p:grpSpPr>
        <p:grpSp>
          <p:nvGrpSpPr>
            <p:cNvPr id="953" name=""/>
            <p:cNvGrpSpPr/>
            <p:nvPr/>
          </p:nvGrpSpPr>
          <p:grpSpPr>
            <a:xfrm>
              <a:off x="901800" y="2066760"/>
              <a:ext cx="2895480" cy="608040"/>
              <a:chOff x="901800" y="2066760"/>
              <a:chExt cx="2895480" cy="608040"/>
            </a:xfrm>
          </p:grpSpPr>
          <p:sp>
            <p:nvSpPr>
              <p:cNvPr id="954" name=""/>
              <p:cNvSpPr/>
              <p:nvPr/>
            </p:nvSpPr>
            <p:spPr>
              <a:xfrm>
                <a:off x="901800" y="2066760"/>
                <a:ext cx="2895480" cy="608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709280" y="2169360"/>
                <a:ext cx="88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B :BT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730080" y="549360"/>
              <a:ext cx="6372360" cy="33638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6760" y="1666800"/>
              <a:ext cx="2214720" cy="14954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765320" y="1702800"/>
              <a:ext cx="15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A(1,1)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05520" y="2286000"/>
              <a:ext cx="947520" cy="382680"/>
            </a:xfrm>
            <a:prstGeom prst="roundRect">
              <a:avLst>
                <a:gd name="adj" fmla="val 29894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0200" y="2248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32480" y="2403360"/>
              <a:ext cx="482400" cy="9360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21600" y="1485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contain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2240" y="1515960"/>
              <a:ext cx="6185160" cy="22240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8360" y="58320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system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MySyste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3692520" y="735120"/>
              <a:ext cx="1035000" cy="610920"/>
              <a:chOff x="3692520" y="735120"/>
              <a:chExt cx="1035000" cy="61092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3692520" y="735120"/>
                <a:ext cx="1035000" cy="610920"/>
                <a:chOff x="3692520" y="735120"/>
                <a:chExt cx="1035000" cy="6109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692520" y="735120"/>
                  <a:ext cx="1035000" cy="61092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732120" y="774360"/>
                  <a:ext cx="955800" cy="5313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3840840" y="811080"/>
                <a:ext cx="73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T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4834080" y="733320"/>
            <a:ext cx="1035000" cy="611280"/>
            <a:chOff x="4834080" y="733320"/>
            <a:chExt cx="1035000" cy="611280"/>
          </a:xfrm>
        </p:grpSpPr>
        <p:grpSp>
          <p:nvGrpSpPr>
            <p:cNvPr id="971" name=""/>
            <p:cNvGrpSpPr/>
            <p:nvPr/>
          </p:nvGrpSpPr>
          <p:grpSpPr>
            <a:xfrm>
              <a:off x="4834080" y="733320"/>
              <a:ext cx="1035000" cy="611280"/>
              <a:chOff x="4834080" y="733320"/>
              <a:chExt cx="1035000" cy="611280"/>
            </a:xfrm>
          </p:grpSpPr>
          <p:sp>
            <p:nvSpPr>
              <p:cNvPr id="972" name=""/>
              <p:cNvSpPr/>
              <p:nvPr/>
            </p:nvSpPr>
            <p:spPr>
              <a:xfrm>
                <a:off x="4834080" y="733320"/>
                <a:ext cx="1035000" cy="6112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873680" y="772920"/>
                <a:ext cx="955800" cy="5317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4982400" y="8100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T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912960" y="2854440"/>
            <a:ext cx="2895480" cy="608040"/>
            <a:chOff x="912960" y="2854440"/>
            <a:chExt cx="2895480" cy="608040"/>
          </a:xfrm>
        </p:grpSpPr>
        <p:sp>
          <p:nvSpPr>
            <p:cNvPr id="976" name=""/>
            <p:cNvSpPr/>
            <p:nvPr/>
          </p:nvSpPr>
          <p:spPr>
            <a:xfrm>
              <a:off x="912960" y="2854440"/>
              <a:ext cx="2895480" cy="608040"/>
            </a:xfrm>
            <a:prstGeom prst="rect">
              <a:avLst/>
            </a:prstGeom>
            <a:noFill/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85640" y="29678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implicitname</a:t>
              </a: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 :BT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Arial Black"/>
              </a:rPr>
              <a:t>Differences to SDL-92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0440" y="17366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67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ocument structure of standard has been reorganiz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 algn="just">
              <a:spcBef>
                <a:spcPts val="67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DL-2000 is case-sensi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 algn="just">
              <a:spcBef>
                <a:spcPts val="675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two spellings for keywords all uppercase or all lowerc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67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moved keywords </a:t>
            </a:r>
            <a:br>
              <a:rPr sz="2000"/>
            </a:br>
            <a:r>
              <a:rPr b="1" sz="1800" spc="-1" strike="noStrike">
                <a:solidFill>
                  <a:srgbClr val="eaeaea"/>
                </a:solidFill>
                <a:latin typeface="Arial"/>
              </a:rPr>
              <a:t>all, axioms, constant, endgenerator,endnewtype, endrefinement, endservice, error, fpar, generator, imported, literal, map, newtype, noequal, ordering, refinement, returns, reveal, reverse, service, signalroute, view, view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67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new  keywords in SDL-2000</a:t>
            </a:r>
            <a:br>
              <a:rPr sz="2000"/>
            </a:br>
            <a:r>
              <a:rPr b="1" sz="1800" spc="-1" strike="noStrike">
                <a:solidFill>
                  <a:srgbClr val="eaeaea"/>
                </a:solidFill>
                <a:latin typeface="Arial"/>
              </a:rPr>
              <a:t>abstract, aggregation, association, break, choice, composition, continue, endexceptionhandler, endmethod, endobject, endvalue, exception, exceptionhandler, handle, method, object, onexception, ordered, private, protected, public, raise, valu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he execution of a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stop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sults in entering a special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plicit stopping-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further execution of 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f agent contains no further agent instances,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t will cease to ex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wise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t will the access to the agents variab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Object-Orientation in SDL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26880" y="1822320"/>
            <a:ext cx="859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ructural typing concepts allow to define the properties of a set  of specification el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kinds of structural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gent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at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gnal (typ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cedures (typ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types  and interfa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ype concept corresponds to class concept in other OO languages and no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irt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stance definition &amp; cre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ll instance definitions in SDL are either explicitly or implicitly based on a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nheritance allows the definition of a type basing on another (super-) type of the same ki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dition of new structural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dition of new behavioural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definition of virtual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ngle inheritance supported by all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ultiple inheritance supported by interf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30040" y="444600"/>
            <a:ext cx="4137120" cy="2695320"/>
            <a:chOff x="230040" y="444600"/>
            <a:chExt cx="4137120" cy="2695320"/>
          </a:xfrm>
        </p:grpSpPr>
        <p:sp>
          <p:nvSpPr>
            <p:cNvPr id="987" name=""/>
            <p:cNvSpPr/>
            <p:nvPr/>
          </p:nvSpPr>
          <p:spPr>
            <a:xfrm>
              <a:off x="3849840" y="2273400"/>
              <a:ext cx="51732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230040" y="444600"/>
              <a:ext cx="3620160" cy="2695320"/>
              <a:chOff x="230040" y="444600"/>
              <a:chExt cx="3620160" cy="2695320"/>
            </a:xfrm>
          </p:grpSpPr>
          <p:sp>
            <p:nvSpPr>
              <p:cNvPr id="989" name=""/>
              <p:cNvSpPr/>
              <p:nvPr/>
            </p:nvSpPr>
            <p:spPr>
              <a:xfrm>
                <a:off x="230040" y="444600"/>
                <a:ext cx="3540240" cy="26953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2800" y="47376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</a:t>
                </a: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type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285840" y="991440"/>
                <a:ext cx="1928520" cy="642600"/>
                <a:chOff x="285840" y="991440"/>
                <a:chExt cx="1928520" cy="64260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285840" y="992160"/>
                  <a:ext cx="1928520" cy="588600"/>
                  <a:chOff x="285840" y="992160"/>
                  <a:chExt cx="1928520" cy="58860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285840" y="996480"/>
                    <a:ext cx="1928520" cy="584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959480" y="992160"/>
                    <a:ext cx="251280" cy="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214360" y="1013400"/>
                    <a:ext cx="0" cy="27756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950480" y="1013400"/>
                    <a:ext cx="246240" cy="288360"/>
                  </a:xfrm>
                  <a:prstGeom prst="rtTriangle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"/>
                <p:cNvSpPr/>
                <p:nvPr/>
              </p:nvSpPr>
              <p:spPr>
                <a:xfrm>
                  <a:off x="318960" y="991440"/>
                  <a:ext cx="154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dcl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i </a:t>
                  </a:r>
                  <a:r>
                    <a:rPr b="1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Natural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;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    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8" name=""/>
              <p:cNvSpPr/>
              <p:nvPr/>
            </p:nvSpPr>
            <p:spPr>
              <a:xfrm>
                <a:off x="2093760" y="249084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80960" y="252144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I2: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000" name=""/>
              <p:cNvCxnSpPr/>
              <p:nvPr/>
            </p:nvCxnSpPr>
            <p:spPr>
              <a:xfrm>
                <a:off x="2944800" y="1920600"/>
                <a:ext cx="905760" cy="3531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01" name=""/>
              <p:cNvSpPr/>
              <p:nvPr/>
            </p:nvSpPr>
            <p:spPr>
              <a:xfrm flipV="1">
                <a:off x="3527280" y="2308320"/>
                <a:ext cx="243000" cy="42840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002" name=""/>
              <p:cNvGrpSpPr/>
              <p:nvPr/>
            </p:nvGrpSpPr>
            <p:grpSpPr>
              <a:xfrm>
                <a:off x="2041560" y="1673640"/>
                <a:ext cx="893880" cy="459720"/>
                <a:chOff x="2041560" y="1673640"/>
                <a:chExt cx="893880" cy="45972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2041560" y="1725480"/>
                  <a:ext cx="893880" cy="388800"/>
                </a:xfrm>
                <a:prstGeom prst="roundRect">
                  <a:avLst>
                    <a:gd name="adj" fmla="val 28569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249640" y="1673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5" name=""/>
          <p:cNvGrpSpPr/>
          <p:nvPr/>
        </p:nvGrpSpPr>
        <p:grpSpPr>
          <a:xfrm>
            <a:off x="5313240" y="79200"/>
            <a:ext cx="2292480" cy="2024280"/>
            <a:chOff x="5313240" y="79200"/>
            <a:chExt cx="2292480" cy="2024280"/>
          </a:xfrm>
        </p:grpSpPr>
        <p:sp>
          <p:nvSpPr>
            <p:cNvPr id="1006" name=""/>
            <p:cNvSpPr/>
            <p:nvPr/>
          </p:nvSpPr>
          <p:spPr>
            <a:xfrm>
              <a:off x="5313240" y="79200"/>
              <a:ext cx="2292480" cy="20242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19600" y="27936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94400" y="1442880"/>
              <a:ext cx="765360" cy="41148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18160" y="144792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5673600" y="893520"/>
              <a:ext cx="654120" cy="252360"/>
              <a:chOff x="5673600" y="893520"/>
              <a:chExt cx="654120" cy="252360"/>
            </a:xfrm>
          </p:grpSpPr>
          <p:sp>
            <p:nvSpPr>
              <p:cNvPr id="1011" name=""/>
              <p:cNvSpPr/>
              <p:nvPr/>
            </p:nvSpPr>
            <p:spPr>
              <a:xfrm rot="10800000">
                <a:off x="5673600" y="89604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6200000">
                <a:off x="6110640" y="93168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>
                <a:off x="6326280" y="89352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6537240" y="882360"/>
              <a:ext cx="654120" cy="252360"/>
              <a:chOff x="6537240" y="882360"/>
              <a:chExt cx="654120" cy="252360"/>
            </a:xfrm>
          </p:grpSpPr>
          <p:sp>
            <p:nvSpPr>
              <p:cNvPr id="1015" name=""/>
              <p:cNvSpPr/>
              <p:nvPr/>
            </p:nvSpPr>
            <p:spPr>
              <a:xfrm rot="10800000">
                <a:off x="6537240" y="88488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200000">
                <a:off x="6974280" y="92052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189920" y="88236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5983200" y="684360"/>
              <a:ext cx="3240" cy="191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994000" y="1141560"/>
              <a:ext cx="1800" cy="3124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85000" y="793800"/>
              <a:ext cx="76500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53240" y="793800"/>
              <a:ext cx="0" cy="921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69080" y="1136520"/>
              <a:ext cx="0" cy="3142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948200" y="2131560"/>
            <a:ext cx="2657520" cy="1707120"/>
            <a:chOff x="4948200" y="2131560"/>
            <a:chExt cx="2657520" cy="1707120"/>
          </a:xfrm>
        </p:grpSpPr>
        <p:grpSp>
          <p:nvGrpSpPr>
            <p:cNvPr id="1024" name=""/>
            <p:cNvGrpSpPr/>
            <p:nvPr/>
          </p:nvGrpSpPr>
          <p:grpSpPr>
            <a:xfrm>
              <a:off x="5295600" y="2131560"/>
              <a:ext cx="2310120" cy="1707120"/>
              <a:chOff x="5295600" y="2131560"/>
              <a:chExt cx="2310120" cy="1707120"/>
            </a:xfrm>
          </p:grpSpPr>
          <p:sp>
            <p:nvSpPr>
              <p:cNvPr id="1025" name=""/>
              <p:cNvSpPr/>
              <p:nvPr/>
            </p:nvSpPr>
            <p:spPr>
              <a:xfrm>
                <a:off x="5326200" y="2214720"/>
                <a:ext cx="2279520" cy="16239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915160" y="2473200"/>
                <a:ext cx="822240" cy="4129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607080" y="3319560"/>
                <a:ext cx="822600" cy="4111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028" name=""/>
              <p:cNvCxnSpPr>
                <a:stCxn id="1025" idx="1"/>
                <a:endCxn id="1026" idx="2"/>
              </p:cNvCxnSpPr>
              <p:nvPr/>
            </p:nvCxnSpPr>
            <p:spPr>
              <a:xfrm flipV="1">
                <a:off x="5315400" y="2895120"/>
                <a:ext cx="1010520" cy="132480"/>
              </a:xfrm>
              <a:prstGeom prst="bentConnector4">
                <a:avLst>
                  <a:gd name="adj1" fmla="val 30470"/>
                  <a:gd name="adj2" fmla="val -245776"/>
                </a:avLst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029" name=""/>
              <p:cNvCxnSpPr>
                <a:stCxn id="1026" idx="3"/>
                <a:endCxn id="1027" idx="0"/>
              </p:cNvCxnSpPr>
              <p:nvPr/>
            </p:nvCxnSpPr>
            <p:spPr>
              <a:xfrm>
                <a:off x="6746760" y="2679840"/>
                <a:ext cx="272160" cy="63072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30" name=""/>
              <p:cNvSpPr/>
              <p:nvPr/>
            </p:nvSpPr>
            <p:spPr>
              <a:xfrm>
                <a:off x="5295600" y="2131560"/>
                <a:ext cx="145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1600" spc="-1" strike="noStrike">
                    <a:solidFill>
                      <a:srgbClr val="eaeaea"/>
                    </a:solidFill>
                    <a:latin typeface="Arial"/>
                  </a:rPr>
                  <a:t> type B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01560" y="2490480"/>
                <a:ext cx="5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eaeaea"/>
                    </a:solidFill>
                    <a:latin typeface="Arial"/>
                  </a:rPr>
                  <a:t>I2-1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766920" y="3357360"/>
                <a:ext cx="5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eaeaea"/>
                    </a:solidFill>
                    <a:latin typeface="Arial"/>
                  </a:rPr>
                  <a:t>I2-1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flipH="1">
              <a:off x="4948200" y="3025800"/>
              <a:ext cx="365040" cy="93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103480" y="69480"/>
            <a:ext cx="5491080" cy="2062440"/>
            <a:chOff x="2103480" y="69480"/>
            <a:chExt cx="5491080" cy="2062440"/>
          </a:xfrm>
        </p:grpSpPr>
        <p:sp>
          <p:nvSpPr>
            <p:cNvPr id="1035" name=""/>
            <p:cNvSpPr/>
            <p:nvPr/>
          </p:nvSpPr>
          <p:spPr>
            <a:xfrm flipV="1">
              <a:off x="2103480" y="69480"/>
              <a:ext cx="3209760" cy="165564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820960" y="2092320"/>
              <a:ext cx="4773600" cy="39600"/>
            </a:xfrm>
            <a:prstGeom prst="line">
              <a:avLst/>
            </a:prstGeom>
            <a:ln cap="rnd" w="32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093760" y="2212920"/>
            <a:ext cx="5511960" cy="1622520"/>
            <a:chOff x="2093760" y="2212920"/>
            <a:chExt cx="5511960" cy="1622520"/>
          </a:xfrm>
        </p:grpSpPr>
        <p:sp>
          <p:nvSpPr>
            <p:cNvPr id="1038" name=""/>
            <p:cNvSpPr/>
            <p:nvPr/>
          </p:nvSpPr>
          <p:spPr>
            <a:xfrm flipV="1">
              <a:off x="2151000" y="2212920"/>
              <a:ext cx="3200400" cy="26208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93760" y="3054240"/>
              <a:ext cx="3210120" cy="78120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490920" y="2273040"/>
              <a:ext cx="4114800" cy="20628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27280" y="3054240"/>
              <a:ext cx="4046760" cy="757440"/>
            </a:xfrm>
            <a:prstGeom prst="line">
              <a:avLst/>
            </a:prstGeom>
            <a:ln cap="rnd" w="324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41200" y="3632400"/>
            <a:ext cx="3540240" cy="2763720"/>
            <a:chOff x="241200" y="3632400"/>
            <a:chExt cx="3540240" cy="2763720"/>
          </a:xfrm>
        </p:grpSpPr>
        <p:sp>
          <p:nvSpPr>
            <p:cNvPr id="1043" name=""/>
            <p:cNvSpPr/>
            <p:nvPr/>
          </p:nvSpPr>
          <p:spPr>
            <a:xfrm>
              <a:off x="241200" y="3700440"/>
              <a:ext cx="3540240" cy="26956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3720" y="3632400"/>
              <a:ext cx="26542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type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new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inherits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 </a:t>
              </a: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addin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07800" y="4331520"/>
            <a:ext cx="1928520" cy="642600"/>
            <a:chOff x="307800" y="4331520"/>
            <a:chExt cx="1928520" cy="642600"/>
          </a:xfrm>
        </p:grpSpPr>
        <p:grpSp>
          <p:nvGrpSpPr>
            <p:cNvPr id="1046" name=""/>
            <p:cNvGrpSpPr/>
            <p:nvPr/>
          </p:nvGrpSpPr>
          <p:grpSpPr>
            <a:xfrm>
              <a:off x="307800" y="4332240"/>
              <a:ext cx="1928520" cy="588600"/>
              <a:chOff x="307800" y="4332240"/>
              <a:chExt cx="1928520" cy="588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307800" y="4336560"/>
                <a:ext cx="1928520" cy="5842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981440" y="4332240"/>
                <a:ext cx="25128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36320" y="4353480"/>
                <a:ext cx="0" cy="2775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72440" y="4353480"/>
                <a:ext cx="246240" cy="28836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340560" y="4331520"/>
              <a:ext cx="160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dcl</a:t>
              </a: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 c 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Natura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2104920" y="5757840"/>
            <a:ext cx="1433520" cy="554040"/>
            <a:chOff x="2104920" y="5757840"/>
            <a:chExt cx="1433520" cy="554040"/>
          </a:xfrm>
        </p:grpSpPr>
        <p:sp>
          <p:nvSpPr>
            <p:cNvPr id="1053" name=""/>
            <p:cNvSpPr/>
            <p:nvPr/>
          </p:nvSpPr>
          <p:spPr>
            <a:xfrm>
              <a:off x="2104920" y="5757840"/>
              <a:ext cx="1433520" cy="554040"/>
            </a:xfrm>
            <a:prstGeom prst="rect">
              <a:avLst/>
            </a:prstGeom>
            <a:noFill/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19280" y="5766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I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322360" y="4894920"/>
            <a:ext cx="893880" cy="459720"/>
            <a:chOff x="2322360" y="4894920"/>
            <a:chExt cx="893880" cy="459720"/>
          </a:xfrm>
        </p:grpSpPr>
        <p:sp>
          <p:nvSpPr>
            <p:cNvPr id="1056" name=""/>
            <p:cNvSpPr/>
            <p:nvPr/>
          </p:nvSpPr>
          <p:spPr>
            <a:xfrm>
              <a:off x="2322360" y="4946760"/>
              <a:ext cx="893880" cy="3888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30440" y="4894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720" y="5140800"/>
            <a:ext cx="1943280" cy="894960"/>
            <a:chOff x="369720" y="5140800"/>
            <a:chExt cx="1943280" cy="894960"/>
          </a:xfrm>
        </p:grpSpPr>
        <p:grpSp>
          <p:nvGrpSpPr>
            <p:cNvPr id="1059" name=""/>
            <p:cNvGrpSpPr/>
            <p:nvPr/>
          </p:nvGrpSpPr>
          <p:grpSpPr>
            <a:xfrm>
              <a:off x="369720" y="5311800"/>
              <a:ext cx="1433520" cy="554040"/>
              <a:chOff x="369720" y="5311800"/>
              <a:chExt cx="1433520" cy="554040"/>
            </a:xfrm>
          </p:grpSpPr>
          <p:sp>
            <p:nvSpPr>
              <p:cNvPr id="1060" name=""/>
              <p:cNvSpPr/>
              <p:nvPr/>
            </p:nvSpPr>
            <p:spPr>
              <a:xfrm>
                <a:off x="369720" y="5311800"/>
                <a:ext cx="1433520" cy="554040"/>
              </a:xfrm>
              <a:prstGeom prst="rect">
                <a:avLst/>
              </a:prstGeom>
              <a:noFill/>
              <a:ln cap="sq"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41160" y="535824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Arial"/>
                  </a:rPr>
                  <a:t>I1:B3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062" name=""/>
            <p:cNvCxnSpPr>
              <a:stCxn id="1056" idx="1"/>
              <a:endCxn id="1060" idx="0"/>
            </p:cNvCxnSpPr>
            <p:nvPr/>
          </p:nvCxnSpPr>
          <p:spPr>
            <a:xfrm flipV="1" rot="10800000">
              <a:off x="1086840" y="5140800"/>
              <a:ext cx="1226160" cy="160920"/>
            </a:xfrm>
            <a:prstGeom prst="bentConnector2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63" name=""/>
            <p:cNvCxnSpPr>
              <a:stCxn id="1053" idx="1"/>
              <a:endCxn id="1060" idx="2"/>
            </p:cNvCxnSpPr>
            <p:nvPr/>
          </p:nvCxnSpPr>
          <p:spPr>
            <a:xfrm rot="10800000">
              <a:off x="1086840" y="5874480"/>
              <a:ext cx="1008720" cy="161280"/>
            </a:xfrm>
            <a:prstGeom prst="bentConnector2">
              <a:avLst/>
            </a:prstGeom>
            <a:ln cap="sq"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064" name=""/>
          <p:cNvGrpSpPr/>
          <p:nvPr/>
        </p:nvGrpSpPr>
        <p:grpSpPr>
          <a:xfrm>
            <a:off x="5113440" y="4121280"/>
            <a:ext cx="3867120" cy="2023920"/>
            <a:chOff x="5113440" y="4121280"/>
            <a:chExt cx="3867120" cy="2023920"/>
          </a:xfrm>
        </p:grpSpPr>
        <p:sp>
          <p:nvSpPr>
            <p:cNvPr id="1065" name=""/>
            <p:cNvSpPr/>
            <p:nvPr/>
          </p:nvSpPr>
          <p:spPr>
            <a:xfrm>
              <a:off x="5113440" y="4121280"/>
              <a:ext cx="3867120" cy="20239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02080" y="4332240"/>
              <a:ext cx="765360" cy="41148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76880" y="549612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00640" y="5500800"/>
              <a:ext cx="76536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5356080" y="4946400"/>
              <a:ext cx="654120" cy="252360"/>
              <a:chOff x="5356080" y="4946400"/>
              <a:chExt cx="654120" cy="252360"/>
            </a:xfrm>
          </p:grpSpPr>
          <p:sp>
            <p:nvSpPr>
              <p:cNvPr id="1070" name=""/>
              <p:cNvSpPr/>
              <p:nvPr/>
            </p:nvSpPr>
            <p:spPr>
              <a:xfrm rot="10800000">
                <a:off x="5356080" y="494892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6200000">
                <a:off x="5793120" y="498456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6008760" y="494640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219720" y="4935240"/>
              <a:ext cx="654120" cy="252360"/>
              <a:chOff x="6219720" y="4935240"/>
              <a:chExt cx="654120" cy="252360"/>
            </a:xfrm>
          </p:grpSpPr>
          <p:sp>
            <p:nvSpPr>
              <p:cNvPr id="1074" name=""/>
              <p:cNvSpPr/>
              <p:nvPr/>
            </p:nvSpPr>
            <p:spPr>
              <a:xfrm rot="10800000">
                <a:off x="6219720" y="4937760"/>
                <a:ext cx="650880" cy="249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656760" y="4973400"/>
                <a:ext cx="244800" cy="1789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6872400" y="4935240"/>
                <a:ext cx="1440" cy="2523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5665680" y="4737240"/>
              <a:ext cx="3240" cy="191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676480" y="5194440"/>
              <a:ext cx="1800" cy="3128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67480" y="4846680"/>
              <a:ext cx="76500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35720" y="4846680"/>
              <a:ext cx="0" cy="9216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51560" y="5189760"/>
              <a:ext cx="0" cy="3142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442200" y="4330800"/>
            <a:ext cx="2328840" cy="1585440"/>
            <a:chOff x="6442200" y="4330800"/>
            <a:chExt cx="2328840" cy="1585440"/>
          </a:xfrm>
        </p:grpSpPr>
        <p:sp>
          <p:nvSpPr>
            <p:cNvPr id="1083" name=""/>
            <p:cNvSpPr/>
            <p:nvPr/>
          </p:nvSpPr>
          <p:spPr>
            <a:xfrm>
              <a:off x="7081920" y="5505120"/>
              <a:ext cx="765000" cy="41112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0800000">
              <a:off x="7122960" y="4946400"/>
              <a:ext cx="650880" cy="249120"/>
            </a:xfrm>
            <a:prstGeom prst="flowChartProcess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7560720" y="4982040"/>
              <a:ext cx="244080" cy="179280"/>
            </a:xfrm>
            <a:prstGeom prst="flowChartExtract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7775640" y="4942800"/>
              <a:ext cx="1440" cy="252360"/>
            </a:xfrm>
            <a:prstGeom prst="line">
              <a:avLst/>
            </a:prstGeom>
            <a:ln cap="sq"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42200" y="4856040"/>
              <a:ext cx="895320" cy="10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340760" y="4856040"/>
              <a:ext cx="1440" cy="9180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56600" y="5198760"/>
              <a:ext cx="1440" cy="3142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005680" y="4330800"/>
              <a:ext cx="765360" cy="41076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004240" y="5499000"/>
              <a:ext cx="765000" cy="410760"/>
            </a:xfrm>
            <a:prstGeom prst="roundRect">
              <a:avLst>
                <a:gd name="adj" fmla="val 16667"/>
              </a:avLst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0800000">
              <a:off x="8058240" y="4946400"/>
              <a:ext cx="650880" cy="249120"/>
            </a:xfrm>
            <a:prstGeom prst="flowChartProcess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6200000">
              <a:off x="8495640" y="4982040"/>
              <a:ext cx="244080" cy="179280"/>
            </a:xfrm>
            <a:prstGeom prst="flowChartExtract">
              <a:avLst/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8710200" y="4942800"/>
              <a:ext cx="1800" cy="252360"/>
            </a:xfrm>
            <a:prstGeom prst="line">
              <a:avLst/>
            </a:prstGeom>
            <a:ln cap="sq"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69280" y="4735440"/>
              <a:ext cx="3240" cy="1915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8380440" y="5192640"/>
              <a:ext cx="1440" cy="3121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2387520" y="4137120"/>
            <a:ext cx="2739960" cy="2000160"/>
            <a:chOff x="2387520" y="4137120"/>
            <a:chExt cx="2739960" cy="2000160"/>
          </a:xfrm>
        </p:grpSpPr>
        <p:sp>
          <p:nvSpPr>
            <p:cNvPr id="1098" name=""/>
            <p:cNvSpPr/>
            <p:nvPr/>
          </p:nvSpPr>
          <p:spPr>
            <a:xfrm>
              <a:off x="2397240" y="5337360"/>
              <a:ext cx="2730240" cy="79992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387520" y="4137120"/>
              <a:ext cx="2727360" cy="81288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330280" y="4902840"/>
            <a:ext cx="893520" cy="459720"/>
            <a:chOff x="2330280" y="4902840"/>
            <a:chExt cx="893520" cy="459720"/>
          </a:xfrm>
        </p:grpSpPr>
        <p:sp>
          <p:nvSpPr>
            <p:cNvPr id="1101" name=""/>
            <p:cNvSpPr/>
            <p:nvPr/>
          </p:nvSpPr>
          <p:spPr>
            <a:xfrm>
              <a:off x="2330280" y="4954680"/>
              <a:ext cx="893520" cy="3888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38360" y="4902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Type References and Relation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50440" y="17366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UML-like class symbols can be used to refer to type definitions and diagr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artial specificatio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 n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 attribu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 behaviour proper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ultiple references are allow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must all be consistent with type 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lations between types can be depicted 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ssociations (binary relation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no predefined semantics impl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special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st be consistent wit a specialization in the type definition (</a:t>
            </a:r>
            <a:r>
              <a:rPr b="0" i="1" lang="en-GB" sz="2400" spc="-1" strike="noStrike">
                <a:solidFill>
                  <a:srgbClr val="eaeaea"/>
                </a:solidFill>
                <a:latin typeface="Arial"/>
              </a:rPr>
              <a:t>inherits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-clau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2685960" y="2622600"/>
            <a:ext cx="258840" cy="1280880"/>
            <a:chOff x="2685960" y="2622600"/>
            <a:chExt cx="258840" cy="1280880"/>
          </a:xfrm>
        </p:grpSpPr>
        <p:sp>
          <p:nvSpPr>
            <p:cNvPr id="1108" name=""/>
            <p:cNvSpPr/>
            <p:nvPr/>
          </p:nvSpPr>
          <p:spPr>
            <a:xfrm>
              <a:off x="2685960" y="2622600"/>
              <a:ext cx="258840" cy="328680"/>
            </a:xfrm>
            <a:prstGeom prst="flowChartExtra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2814120" y="2951280"/>
              <a:ext cx="1800" cy="95220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5003640" y="1181160"/>
            <a:ext cx="1563840" cy="739800"/>
            <a:chOff x="5003640" y="1181160"/>
            <a:chExt cx="1563840" cy="739800"/>
          </a:xfrm>
        </p:grpSpPr>
        <p:grpSp>
          <p:nvGrpSpPr>
            <p:cNvPr id="1111" name=""/>
            <p:cNvGrpSpPr/>
            <p:nvPr/>
          </p:nvGrpSpPr>
          <p:grpSpPr>
            <a:xfrm>
              <a:off x="5003640" y="1181160"/>
              <a:ext cx="1563840" cy="739800"/>
              <a:chOff x="5003640" y="1181160"/>
              <a:chExt cx="1563840" cy="739800"/>
            </a:xfrm>
          </p:grpSpPr>
          <p:sp>
            <p:nvSpPr>
              <p:cNvPr id="1112" name=""/>
              <p:cNvSpPr/>
              <p:nvPr/>
            </p:nvSpPr>
            <p:spPr>
              <a:xfrm>
                <a:off x="5091120" y="1254240"/>
                <a:ext cx="1377720" cy="5936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03640" y="1181160"/>
                <a:ext cx="1563840" cy="739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5509080" y="1321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991040" y="4462560"/>
            <a:ext cx="1563840" cy="739800"/>
            <a:chOff x="4991040" y="4462560"/>
            <a:chExt cx="1563840" cy="739800"/>
          </a:xfrm>
        </p:grpSpPr>
        <p:grpSp>
          <p:nvGrpSpPr>
            <p:cNvPr id="1116" name=""/>
            <p:cNvGrpSpPr/>
            <p:nvPr/>
          </p:nvGrpSpPr>
          <p:grpSpPr>
            <a:xfrm>
              <a:off x="4991040" y="4462560"/>
              <a:ext cx="1563840" cy="739800"/>
              <a:chOff x="4991040" y="4462560"/>
              <a:chExt cx="1563840" cy="739800"/>
            </a:xfrm>
          </p:grpSpPr>
          <p:sp>
            <p:nvSpPr>
              <p:cNvPr id="1117" name=""/>
              <p:cNvSpPr/>
              <p:nvPr/>
            </p:nvSpPr>
            <p:spPr>
              <a:xfrm>
                <a:off x="5078520" y="4535640"/>
                <a:ext cx="1377720" cy="5936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991040" y="4462560"/>
                <a:ext cx="1563840" cy="739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5496480" y="4602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>
            <a:off x="3727080" y="1528920"/>
            <a:ext cx="125748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679920" y="4879800"/>
            <a:ext cx="125712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946520" y="621000"/>
            <a:ext cx="1788480" cy="1990080"/>
            <a:chOff x="1946520" y="621000"/>
            <a:chExt cx="1788480" cy="1990080"/>
          </a:xfrm>
        </p:grpSpPr>
        <p:grpSp>
          <p:nvGrpSpPr>
            <p:cNvPr id="1123" name=""/>
            <p:cNvGrpSpPr/>
            <p:nvPr/>
          </p:nvGrpSpPr>
          <p:grpSpPr>
            <a:xfrm>
              <a:off x="1962000" y="621000"/>
              <a:ext cx="1704960" cy="1990080"/>
              <a:chOff x="1962000" y="621000"/>
              <a:chExt cx="1704960" cy="199008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1962000" y="684360"/>
                <a:ext cx="1704960" cy="1926720"/>
                <a:chOff x="1962000" y="684360"/>
                <a:chExt cx="1704960" cy="19267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1962000" y="684360"/>
                  <a:ext cx="1704960" cy="6386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962000" y="1972440"/>
                  <a:ext cx="1704960" cy="6386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962000" y="1333440"/>
                  <a:ext cx="1704960" cy="6386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2165400" y="621000"/>
                <a:ext cx="12294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«block»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977840" y="14641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- i Natural;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1946520" y="205164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ignal s1,s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947960" y="3854520"/>
            <a:ext cx="1788480" cy="1990080"/>
            <a:chOff x="1947960" y="3854520"/>
            <a:chExt cx="1788480" cy="1990080"/>
          </a:xfrm>
        </p:grpSpPr>
        <p:grpSp>
          <p:nvGrpSpPr>
            <p:cNvPr id="1132" name=""/>
            <p:cNvGrpSpPr/>
            <p:nvPr/>
          </p:nvGrpSpPr>
          <p:grpSpPr>
            <a:xfrm>
              <a:off x="1947960" y="3854520"/>
              <a:ext cx="1788480" cy="1990080"/>
              <a:chOff x="1947960" y="3854520"/>
              <a:chExt cx="1788480" cy="199008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1950480" y="3854520"/>
                <a:ext cx="1730880" cy="1990080"/>
                <a:chOff x="1950480" y="3854520"/>
                <a:chExt cx="1730880" cy="1990080"/>
              </a:xfrm>
            </p:grpSpPr>
            <p:grpSp>
              <p:nvGrpSpPr>
                <p:cNvPr id="1134" name=""/>
                <p:cNvGrpSpPr/>
                <p:nvPr/>
              </p:nvGrpSpPr>
              <p:grpSpPr>
                <a:xfrm>
                  <a:off x="1976400" y="3917880"/>
                  <a:ext cx="1704960" cy="1926720"/>
                  <a:chOff x="1976400" y="3917880"/>
                  <a:chExt cx="1704960" cy="192672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>
                    <a:off x="1976400" y="3917880"/>
                    <a:ext cx="1704960" cy="63864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976400" y="5205960"/>
                    <a:ext cx="1704960" cy="63864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976400" y="4566960"/>
                    <a:ext cx="1704960" cy="63864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8" name=""/>
                <p:cNvSpPr/>
                <p:nvPr/>
              </p:nvSpPr>
              <p:spPr>
                <a:xfrm>
                  <a:off x="2298960" y="3854520"/>
                  <a:ext cx="99144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BNew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950480" y="4697640"/>
                  <a:ext cx="1672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- c Natural;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1947960" y="5309280"/>
                <a:ext cx="178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nal s3,s4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2935440" y="3936960"/>
              <a:ext cx="669600" cy="311040"/>
              <a:chOff x="2935440" y="3936960"/>
              <a:chExt cx="669600" cy="311040"/>
            </a:xfrm>
          </p:grpSpPr>
          <p:sp>
            <p:nvSpPr>
              <p:cNvPr id="1142" name=""/>
              <p:cNvSpPr/>
              <p:nvPr/>
            </p:nvSpPr>
            <p:spPr>
              <a:xfrm>
                <a:off x="2972880" y="3967560"/>
                <a:ext cx="590040" cy="249480"/>
              </a:xfrm>
              <a:prstGeom prst="rect">
                <a:avLst/>
              </a:prstGeom>
              <a:noFill/>
              <a:ln cap="sq"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35440" y="3936960"/>
                <a:ext cx="669600" cy="311040"/>
              </a:xfrm>
              <a:prstGeom prst="rect">
                <a:avLst/>
              </a:prstGeom>
              <a:noFill/>
              <a:ln cap="sq"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9280" y="160488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ype definitions for an element can be given 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scope unit where the entity can be giv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y surrounding scope unit 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y type definition for such a scope un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 pack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nstances of such a type can be defin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ere the type is visible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element is allow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bstract and Virtual Typ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85360" y="144612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ypes marked with the keyword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i="1" lang="en-GB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 not directly have insta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ure classif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d as super-type in an inheritance hierarch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virtual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types local to another type may be redefined in a specialisation of that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st be contained in a type 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definition can be constrain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ystem type can not be abstract or virt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50800" y="1881360"/>
            <a:ext cx="846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available constructs in SDL-2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ignal rout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ted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(no-delay-channel concept)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view express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ated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(import concept, “global” variab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tor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generalized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y templates (data types with context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parameter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lock substructur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generalized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 by nested age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hannel substructur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ignal refinemen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xiomatic definition of dat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75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macro diagram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&gt; dele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dvanced State Machin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50440" y="1614240"/>
            <a:ext cx="8496360" cy="43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ceptions are used to denote and handle unexpected or exceptional behavi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eption: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type of ca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eption handl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behaviour to occur after an exception (handle-claus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xception: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ttaches exception handler to a behaviour un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se: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ces a transition to throw an excep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"/>
          <p:cNvGrpSpPr/>
          <p:nvPr/>
        </p:nvGrpSpPr>
        <p:grpSpPr>
          <a:xfrm>
            <a:off x="277920" y="1639800"/>
            <a:ext cx="1751040" cy="3692520"/>
            <a:chOff x="277920" y="1639800"/>
            <a:chExt cx="1751040" cy="3692520"/>
          </a:xfrm>
        </p:grpSpPr>
        <p:cxnSp>
          <p:nvCxnSpPr>
            <p:cNvPr id="1151" name=""/>
            <p:cNvCxnSpPr>
              <a:stCxn id="1152" idx="0"/>
              <a:endCxn id="1153" idx="0"/>
            </p:cNvCxnSpPr>
            <p:nvPr/>
          </p:nvCxnSpPr>
          <p:spPr>
            <a:xfrm>
              <a:off x="1153800" y="3171960"/>
              <a:ext cx="1080" cy="4356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154" name=""/>
            <p:cNvGrpSpPr/>
            <p:nvPr/>
          </p:nvGrpSpPr>
          <p:grpSpPr>
            <a:xfrm>
              <a:off x="419400" y="1639800"/>
              <a:ext cx="1469880" cy="527040"/>
              <a:chOff x="419400" y="1639800"/>
              <a:chExt cx="1469880" cy="527040"/>
            </a:xfrm>
          </p:grpSpPr>
          <p:sp>
            <p:nvSpPr>
              <p:cNvPr id="1155" name=""/>
              <p:cNvSpPr/>
              <p:nvPr/>
            </p:nvSpPr>
            <p:spPr>
              <a:xfrm>
                <a:off x="419400" y="163980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2840" y="16704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419400" y="4805280"/>
              <a:ext cx="1469880" cy="527040"/>
              <a:chOff x="419400" y="4805280"/>
              <a:chExt cx="1469880" cy="527040"/>
            </a:xfrm>
          </p:grpSpPr>
          <p:sp>
            <p:nvSpPr>
              <p:cNvPr id="1158" name=""/>
              <p:cNvSpPr/>
              <p:nvPr/>
            </p:nvSpPr>
            <p:spPr>
              <a:xfrm>
                <a:off x="419400" y="480528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28920" y="483768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160" name=""/>
            <p:cNvCxnSpPr>
              <a:stCxn id="1155" idx="2"/>
              <a:endCxn id="1152" idx="2"/>
            </p:cNvCxnSpPr>
            <p:nvPr/>
          </p:nvCxnSpPr>
          <p:spPr>
            <a:xfrm>
              <a:off x="1153800" y="2176560"/>
              <a:ext cx="1080" cy="49608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161" name=""/>
            <p:cNvGrpSpPr/>
            <p:nvPr/>
          </p:nvGrpSpPr>
          <p:grpSpPr>
            <a:xfrm>
              <a:off x="293400" y="2677680"/>
              <a:ext cx="1659600" cy="493560"/>
              <a:chOff x="293400" y="2677680"/>
              <a:chExt cx="1659600" cy="493560"/>
            </a:xfrm>
          </p:grpSpPr>
          <p:sp>
            <p:nvSpPr>
              <p:cNvPr id="1152" name=""/>
              <p:cNvSpPr/>
              <p:nvPr/>
            </p:nvSpPr>
            <p:spPr>
              <a:xfrm rot="10800000">
                <a:off x="357120" y="2680560"/>
                <a:ext cx="1592280" cy="483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16200000">
                <a:off x="1488960" y="2705040"/>
                <a:ext cx="473400" cy="4381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1947960" y="2677680"/>
                <a:ext cx="5040" cy="48924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93400" y="2711520"/>
                <a:ext cx="114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1(x)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277920" y="3616200"/>
              <a:ext cx="1751040" cy="6937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165" name=""/>
            <p:cNvCxnSpPr>
              <a:stCxn id="1153" idx="2"/>
              <a:endCxn id="1158" idx="0"/>
            </p:cNvCxnSpPr>
            <p:nvPr/>
          </p:nvCxnSpPr>
          <p:spPr>
            <a:xfrm>
              <a:off x="1153800" y="4319280"/>
              <a:ext cx="1080" cy="4770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166" name=""/>
            <p:cNvSpPr/>
            <p:nvPr/>
          </p:nvSpPr>
          <p:spPr>
            <a:xfrm>
              <a:off x="558000" y="3800880"/>
              <a:ext cx="1003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y:=5/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1154160" y="2176560"/>
            <a:ext cx="4192200" cy="3733560"/>
            <a:chOff x="1154160" y="2176560"/>
            <a:chExt cx="4192200" cy="3733560"/>
          </a:xfrm>
        </p:grpSpPr>
        <p:cxnSp>
          <p:nvCxnSpPr>
            <p:cNvPr id="1168" name=""/>
            <p:cNvCxnSpPr>
              <a:stCxn id="1155" idx="2"/>
              <a:endCxn id="1169" idx="2"/>
            </p:cNvCxnSpPr>
            <p:nvPr/>
          </p:nvCxnSpPr>
          <p:spPr>
            <a:xfrm flipH="1" rot="16200000">
              <a:off x="2220120" y="1110240"/>
              <a:ext cx="481680" cy="2613600"/>
            </a:xfrm>
            <a:prstGeom prst="bentConnector3">
              <a:avLst>
                <a:gd name="adj1" fmla="val 49813"/>
              </a:avLst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170" name=""/>
            <p:cNvGrpSpPr/>
            <p:nvPr/>
          </p:nvGrpSpPr>
          <p:grpSpPr>
            <a:xfrm>
              <a:off x="3024000" y="2663640"/>
              <a:ext cx="1486800" cy="493560"/>
              <a:chOff x="3024000" y="2663640"/>
              <a:chExt cx="1486800" cy="493560"/>
            </a:xfrm>
          </p:grpSpPr>
          <p:sp>
            <p:nvSpPr>
              <p:cNvPr id="1169" name=""/>
              <p:cNvSpPr/>
              <p:nvPr/>
            </p:nvSpPr>
            <p:spPr>
              <a:xfrm rot="10800000">
                <a:off x="3024000" y="2666520"/>
                <a:ext cx="1483920" cy="4838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6200000">
                <a:off x="4062240" y="2705760"/>
                <a:ext cx="473400" cy="40824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4506120" y="2663640"/>
                <a:ext cx="4680" cy="48924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02480" y="269748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ig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3154320" y="3440160"/>
              <a:ext cx="1245600" cy="623880"/>
            </a:xfrm>
            <a:prstGeom prst="diamond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56920" y="349308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end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2116080" y="5383080"/>
              <a:ext cx="1371240" cy="527040"/>
              <a:chOff x="2116080" y="5383080"/>
              <a:chExt cx="1371240" cy="527040"/>
            </a:xfrm>
          </p:grpSpPr>
          <p:sp>
            <p:nvSpPr>
              <p:cNvPr id="1177" name=""/>
              <p:cNvSpPr/>
              <p:nvPr/>
            </p:nvSpPr>
            <p:spPr>
              <a:xfrm>
                <a:off x="2116080" y="5383080"/>
                <a:ext cx="137124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275920" y="541548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179" name=""/>
            <p:cNvCxnSpPr>
              <a:stCxn id="1174" idx="1"/>
              <a:endCxn id="1177" idx="0"/>
            </p:cNvCxnSpPr>
            <p:nvPr/>
          </p:nvCxnSpPr>
          <p:spPr>
            <a:xfrm flipV="1" rot="10800000">
              <a:off x="2801160" y="3752640"/>
              <a:ext cx="342720" cy="162144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180" name=""/>
            <p:cNvCxnSpPr>
              <a:stCxn id="1174" idx="3"/>
            </p:cNvCxnSpPr>
            <p:nvPr/>
          </p:nvCxnSpPr>
          <p:spPr>
            <a:xfrm>
              <a:off x="4409640" y="3752640"/>
              <a:ext cx="181080" cy="75132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181" name=""/>
            <p:cNvCxnSpPr>
              <a:stCxn id="1169" idx="0"/>
            </p:cNvCxnSpPr>
            <p:nvPr/>
          </p:nvCxnSpPr>
          <p:spPr>
            <a:xfrm>
              <a:off x="3767040" y="3157560"/>
              <a:ext cx="3600" cy="2484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>
              <a:off x="2400840" y="33598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els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931200" y="337104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paren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4038480" y="4519800"/>
              <a:ext cx="1307880" cy="568080"/>
              <a:chOff x="4038480" y="4519800"/>
              <a:chExt cx="1307880" cy="568080"/>
            </a:xfrm>
          </p:grpSpPr>
          <p:sp>
            <p:nvSpPr>
              <p:cNvPr id="1185" name=""/>
              <p:cNvSpPr/>
              <p:nvPr/>
            </p:nvSpPr>
            <p:spPr>
              <a:xfrm>
                <a:off x="4041720" y="4535640"/>
                <a:ext cx="1304640" cy="53964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4052520" y="4522680"/>
                <a:ext cx="271440" cy="56520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038480" y="4519800"/>
                <a:ext cx="271440" cy="56484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131720" y="4620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omerror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9" name=""/>
          <p:cNvGrpSpPr/>
          <p:nvPr/>
        </p:nvGrpSpPr>
        <p:grpSpPr>
          <a:xfrm>
            <a:off x="1901880" y="1643040"/>
            <a:ext cx="2810880" cy="504720"/>
            <a:chOff x="1901880" y="1643040"/>
            <a:chExt cx="2810880" cy="504720"/>
          </a:xfrm>
        </p:grpSpPr>
        <p:grpSp>
          <p:nvGrpSpPr>
            <p:cNvPr id="1190" name=""/>
            <p:cNvGrpSpPr/>
            <p:nvPr/>
          </p:nvGrpSpPr>
          <p:grpSpPr>
            <a:xfrm>
              <a:off x="3230280" y="1643040"/>
              <a:ext cx="1482480" cy="504720"/>
              <a:chOff x="3230280" y="1643040"/>
              <a:chExt cx="1482480" cy="50472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3230280" y="1643040"/>
                <a:ext cx="1482480" cy="504720"/>
                <a:chOff x="3230280" y="1643040"/>
                <a:chExt cx="1482480" cy="504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3230280" y="1643040"/>
                  <a:ext cx="1482480" cy="50472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3477240" y="1644480"/>
                  <a:ext cx="231480" cy="5000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484080" y="1643040"/>
                  <a:ext cx="223200" cy="5014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4251960" y="1646280"/>
                  <a:ext cx="231480" cy="5000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258800" y="1644480"/>
                  <a:ext cx="223200" cy="5018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3725640" y="1670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eh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1901880" y="1889280"/>
              <a:ext cx="133956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231880" y="1682640"/>
            <a:ext cx="2085840" cy="2590920"/>
            <a:chOff x="5231880" y="1682640"/>
            <a:chExt cx="2085840" cy="2590920"/>
          </a:xfrm>
        </p:grpSpPr>
        <p:grpSp>
          <p:nvGrpSpPr>
            <p:cNvPr id="1200" name=""/>
            <p:cNvGrpSpPr/>
            <p:nvPr/>
          </p:nvGrpSpPr>
          <p:grpSpPr>
            <a:xfrm>
              <a:off x="5530680" y="1682640"/>
              <a:ext cx="1482840" cy="504720"/>
              <a:chOff x="5530680" y="1682640"/>
              <a:chExt cx="1482840" cy="50472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5530680" y="1682640"/>
                <a:ext cx="1482840" cy="504720"/>
                <a:chOff x="5530680" y="1682640"/>
                <a:chExt cx="1482840" cy="50472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530680" y="1682640"/>
                  <a:ext cx="1482840" cy="50472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5778360" y="1684080"/>
                  <a:ext cx="231840" cy="5000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784840" y="1682640"/>
                  <a:ext cx="223560" cy="5014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6553080" y="1685880"/>
                  <a:ext cx="231840" cy="5000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559560" y="1684080"/>
                  <a:ext cx="223560" cy="5018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"/>
              <p:cNvSpPr/>
              <p:nvPr/>
            </p:nvSpPr>
            <p:spPr>
              <a:xfrm>
                <a:off x="6026760" y="1710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eh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208" name=""/>
            <p:cNvCxnSpPr/>
            <p:nvPr/>
          </p:nvCxnSpPr>
          <p:spPr>
            <a:xfrm>
              <a:off x="6268680" y="3243240"/>
              <a:ext cx="5400" cy="80064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209" name=""/>
            <p:cNvCxnSpPr>
              <a:stCxn id="1202" idx="2"/>
              <a:endCxn id="1210" idx="2"/>
            </p:cNvCxnSpPr>
            <p:nvPr/>
          </p:nvCxnSpPr>
          <p:spPr>
            <a:xfrm>
              <a:off x="6271920" y="2196720"/>
              <a:ext cx="5400" cy="53388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211" name=""/>
            <p:cNvGrpSpPr/>
            <p:nvPr/>
          </p:nvGrpSpPr>
          <p:grpSpPr>
            <a:xfrm>
              <a:off x="5231880" y="2727360"/>
              <a:ext cx="2085840" cy="504720"/>
              <a:chOff x="5231880" y="2727360"/>
              <a:chExt cx="2085840" cy="504720"/>
            </a:xfrm>
          </p:grpSpPr>
          <p:sp>
            <p:nvSpPr>
              <p:cNvPr id="1210" name=""/>
              <p:cNvSpPr/>
              <p:nvPr/>
            </p:nvSpPr>
            <p:spPr>
              <a:xfrm rot="10800000">
                <a:off x="5236920" y="2739960"/>
                <a:ext cx="2077920" cy="48240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6200000">
                <a:off x="6906960" y="2817360"/>
                <a:ext cx="473400" cy="33012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 flipV="1">
                <a:off x="7313040" y="2736720"/>
                <a:ext cx="4680" cy="4888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342040" y="2804400"/>
                <a:ext cx="168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DivisionbyZero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5231880" y="2727360"/>
                <a:ext cx="258840" cy="5047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43400" y="2727360"/>
                <a:ext cx="247680" cy="49356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51520" y="3897360"/>
              <a:ext cx="611280" cy="376200"/>
              <a:chOff x="5951520" y="3897360"/>
              <a:chExt cx="611280" cy="376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5951520" y="3897360"/>
                <a:ext cx="611280" cy="37620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5951520" y="3897360"/>
                <a:ext cx="611280" cy="37620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6271200" y="2197080"/>
            <a:ext cx="2669760" cy="3112920"/>
            <a:chOff x="6271200" y="2197080"/>
            <a:chExt cx="2669760" cy="3112920"/>
          </a:xfrm>
        </p:grpSpPr>
        <p:grpSp>
          <p:nvGrpSpPr>
            <p:cNvPr id="1221" name=""/>
            <p:cNvGrpSpPr/>
            <p:nvPr/>
          </p:nvGrpSpPr>
          <p:grpSpPr>
            <a:xfrm>
              <a:off x="7310520" y="4782960"/>
              <a:ext cx="1469880" cy="527040"/>
              <a:chOff x="7310520" y="4782960"/>
              <a:chExt cx="1469880" cy="527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7310520" y="478296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20040" y="481536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224" name=""/>
            <p:cNvCxnSpPr>
              <a:stCxn id="1225" idx="2"/>
              <a:endCxn id="1222" idx="0"/>
            </p:cNvCxnSpPr>
            <p:nvPr/>
          </p:nvCxnSpPr>
          <p:spPr>
            <a:xfrm>
              <a:off x="8038800" y="4019040"/>
              <a:ext cx="6840" cy="75492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226" name=""/>
            <p:cNvGrpSpPr/>
            <p:nvPr/>
          </p:nvGrpSpPr>
          <p:grpSpPr>
            <a:xfrm>
              <a:off x="7434000" y="2710800"/>
              <a:ext cx="1506960" cy="510120"/>
              <a:chOff x="7434000" y="2710800"/>
              <a:chExt cx="1506960" cy="510120"/>
            </a:xfrm>
          </p:grpSpPr>
          <p:sp>
            <p:nvSpPr>
              <p:cNvPr id="1227" name=""/>
              <p:cNvSpPr/>
              <p:nvPr/>
            </p:nvSpPr>
            <p:spPr>
              <a:xfrm rot="10800000">
                <a:off x="7434000" y="2728440"/>
                <a:ext cx="1469880" cy="48276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6200000">
                <a:off x="8538840" y="2782080"/>
                <a:ext cx="473400" cy="3304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54240" y="2793240"/>
                <a:ext cx="109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comerror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7446600" y="2716200"/>
                <a:ext cx="258840" cy="5047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458120" y="2716200"/>
                <a:ext cx="247680" cy="49356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 flipV="1">
                <a:off x="8924760" y="2725560"/>
                <a:ext cx="4680" cy="4888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233" name=""/>
            <p:cNvCxnSpPr>
              <a:stCxn id="1202" idx="2"/>
              <a:endCxn id="1227" idx="2"/>
            </p:cNvCxnSpPr>
            <p:nvPr/>
          </p:nvCxnSpPr>
          <p:spPr>
            <a:xfrm flipH="1" rot="16200000">
              <a:off x="6958080" y="1510200"/>
              <a:ext cx="522720" cy="1896120"/>
            </a:xfrm>
            <a:prstGeom prst="bentConnector3">
              <a:avLst>
                <a:gd name="adj1" fmla="val 49827"/>
              </a:avLst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234" name=""/>
            <p:cNvSpPr/>
            <p:nvPr/>
          </p:nvSpPr>
          <p:spPr>
            <a:xfrm>
              <a:off x="7478640" y="3538440"/>
              <a:ext cx="1292400" cy="434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73240" y="3459960"/>
              <a:ext cx="1131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error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to sende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031240" y="3209760"/>
              <a:ext cx="0" cy="3286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11120" y="682560"/>
            <a:ext cx="2926440" cy="560160"/>
            <a:chOff x="411120" y="682560"/>
            <a:chExt cx="2926440" cy="560160"/>
          </a:xfrm>
        </p:grpSpPr>
        <p:sp>
          <p:nvSpPr>
            <p:cNvPr id="1237" name=""/>
            <p:cNvSpPr/>
            <p:nvPr/>
          </p:nvSpPr>
          <p:spPr>
            <a:xfrm flipV="1">
              <a:off x="411120" y="682200"/>
              <a:ext cx="2917800" cy="560160"/>
            </a:xfrm>
            <a:prstGeom prst="foldedCorner">
              <a:avLst>
                <a:gd name="adj" fmla="val 23000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62240" y="751320"/>
              <a:ext cx="28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exception comerror;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4172760" y="378360"/>
            <a:ext cx="213156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35546"/>
              <a:gd name="adj5" fmla="val 119722"/>
              <a:gd name="adj6" fmla="val -69875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exception defini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011360" y="826200"/>
            <a:ext cx="197892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17037"/>
              <a:gd name="adj5" fmla="val 225291"/>
              <a:gd name="adj6" fmla="val -31884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958720" y="5999760"/>
            <a:ext cx="174132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39981"/>
              <a:gd name="adj5" fmla="val -247458"/>
              <a:gd name="adj6" fmla="val -78129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raise stateme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612960" y="1200960"/>
            <a:ext cx="267696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24236"/>
              <a:gd name="adj5" fmla="val 183199"/>
              <a:gd name="adj6" fmla="val -49199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on exception associ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26680" y="16574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ception handlers can be attached to all kinds of behaviour by an onexcep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plete state machine, state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put transition, transition/algorithm a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rminator, connect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ingle procedure, single ope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ingle remote proced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ception handler, handle tran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n case of an exception the most local active exception handler will be selec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55120" y="523440"/>
            <a:ext cx="839484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Procedur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39840" y="1681200"/>
            <a:ext cx="859320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ocedures are a means to group and name recurrent behavi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otation corresponds to agent 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ocal states, inputs and 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ocal variables, parame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ocedures are a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ceptions raise but not handled in a procedure are mentioned explicit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Remote Procedur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50440" y="1681200"/>
            <a:ext cx="843300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n agent can make its procedures available for other ag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proced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alized by two-way communication between caller and ser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fter a call to a remote procedure the caller is blocked until he receives the procedure return from the serv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539280" y="15876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remote procedure call may dead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be prevented by an associated timer, which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aises an exception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server accepts calls for remote procedures in any 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xecution may be deferred by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xecution may be rejected by </a:t>
            </a:r>
            <a:br>
              <a:rPr sz="2800"/>
            </a:b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input &lt;p&gt;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raise &lt;deny&gt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xceptions raised by the remote procedure are raised at client and server s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"/>
          <p:cNvGrpSpPr/>
          <p:nvPr/>
        </p:nvGrpSpPr>
        <p:grpSpPr>
          <a:xfrm>
            <a:off x="4573080" y="757800"/>
            <a:ext cx="4397760" cy="5322240"/>
            <a:chOff x="4573080" y="757800"/>
            <a:chExt cx="4397760" cy="5322240"/>
          </a:xfrm>
        </p:grpSpPr>
        <p:sp>
          <p:nvSpPr>
            <p:cNvPr id="1252" name=""/>
            <p:cNvSpPr/>
            <p:nvPr/>
          </p:nvSpPr>
          <p:spPr>
            <a:xfrm>
              <a:off x="4573440" y="763560"/>
              <a:ext cx="4397400" cy="53164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3080" y="75780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lock serve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4941360" y="1389240"/>
              <a:ext cx="3432240" cy="3777840"/>
              <a:chOff x="4941360" y="1389240"/>
              <a:chExt cx="3432240" cy="3777840"/>
            </a:xfrm>
          </p:grpSpPr>
          <p:cxnSp>
            <p:nvCxnSpPr>
              <p:cNvPr id="1255" name=""/>
              <p:cNvCxnSpPr>
                <a:stCxn id="1256" idx="0"/>
                <a:endCxn id="1257" idx="0"/>
              </p:cNvCxnSpPr>
              <p:nvPr/>
            </p:nvCxnSpPr>
            <p:spPr>
              <a:xfrm flipH="1">
                <a:off x="7512120" y="3298680"/>
                <a:ext cx="2160" cy="375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58" name=""/>
              <p:cNvGrpSpPr/>
              <p:nvPr/>
            </p:nvGrpSpPr>
            <p:grpSpPr>
              <a:xfrm>
                <a:off x="6790320" y="1971720"/>
                <a:ext cx="1446120" cy="455760"/>
                <a:chOff x="6790320" y="1971720"/>
                <a:chExt cx="1446120" cy="45576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90320" y="1971720"/>
                  <a:ext cx="1446120" cy="45576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121160" y="2012040"/>
                  <a:ext cx="71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Initial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6790320" y="4711320"/>
                <a:ext cx="1446120" cy="455760"/>
                <a:chOff x="6790320" y="4711320"/>
                <a:chExt cx="1446120" cy="45576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6790320" y="4711320"/>
                  <a:ext cx="1446120" cy="45576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098840" y="4755600"/>
                  <a:ext cx="84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State2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64" name=""/>
              <p:cNvCxnSpPr>
                <a:stCxn id="1259" idx="2"/>
                <a:endCxn id="1256" idx="2"/>
              </p:cNvCxnSpPr>
              <p:nvPr/>
            </p:nvCxnSpPr>
            <p:spPr>
              <a:xfrm>
                <a:off x="7513920" y="2436120"/>
                <a:ext cx="1080" cy="36864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65" name=""/>
              <p:cNvGrpSpPr/>
              <p:nvPr/>
            </p:nvGrpSpPr>
            <p:grpSpPr>
              <a:xfrm>
                <a:off x="6505560" y="2808360"/>
                <a:ext cx="1792440" cy="484560"/>
                <a:chOff x="6505560" y="2808360"/>
                <a:chExt cx="1792440" cy="484560"/>
              </a:xfrm>
            </p:grpSpPr>
            <p:sp>
              <p:nvSpPr>
                <p:cNvPr id="1256" name=""/>
                <p:cNvSpPr/>
                <p:nvPr/>
              </p:nvSpPr>
              <p:spPr>
                <a:xfrm rot="10800000">
                  <a:off x="6730560" y="2810880"/>
                  <a:ext cx="1564560" cy="47880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rot="16200000">
                  <a:off x="7840440" y="2837160"/>
                  <a:ext cx="468720" cy="43020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 flipV="1">
                  <a:off x="8293320" y="2808360"/>
                  <a:ext cx="4680" cy="48456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505560" y="2885040"/>
                  <a:ext cx="1464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 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ServerStart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"/>
              <p:cNvSpPr/>
              <p:nvPr/>
            </p:nvSpPr>
            <p:spPr>
              <a:xfrm>
                <a:off x="6651360" y="3682080"/>
                <a:ext cx="1722240" cy="6001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269" name=""/>
              <p:cNvCxnSpPr>
                <a:stCxn id="1257" idx="2"/>
                <a:endCxn id="1262" idx="0"/>
              </p:cNvCxnSpPr>
              <p:nvPr/>
            </p:nvCxnSpPr>
            <p:spPr>
              <a:xfrm>
                <a:off x="7512480" y="4290840"/>
                <a:ext cx="2160" cy="4125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270" name=""/>
              <p:cNvSpPr/>
              <p:nvPr/>
            </p:nvSpPr>
            <p:spPr>
              <a:xfrm>
                <a:off x="6823800" y="3853440"/>
                <a:ext cx="15094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´initialization´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4941360" y="2778480"/>
                <a:ext cx="1658160" cy="587160"/>
                <a:chOff x="4941360" y="2778480"/>
                <a:chExt cx="1658160" cy="587160"/>
              </a:xfrm>
            </p:grpSpPr>
            <p:sp>
              <p:nvSpPr>
                <p:cNvPr id="1272" name=""/>
                <p:cNvSpPr/>
                <p:nvPr/>
              </p:nvSpPr>
              <p:spPr>
                <a:xfrm rot="10800000">
                  <a:off x="5033880" y="2813400"/>
                  <a:ext cx="1563120" cy="47844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rot="16200000">
                  <a:off x="6142320" y="2839680"/>
                  <a:ext cx="468360" cy="42984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 flipV="1">
                  <a:off x="6594840" y="2810880"/>
                  <a:ext cx="4680" cy="48420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941360" y="2778480"/>
                  <a:ext cx="11973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 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P raises 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reject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76" name=""/>
              <p:cNvCxnSpPr>
                <a:stCxn id="1259" idx="2"/>
                <a:endCxn id="1272" idx="2"/>
              </p:cNvCxnSpPr>
              <p:nvPr/>
            </p:nvCxnSpPr>
            <p:spPr>
              <a:xfrm rot="5400000">
                <a:off x="6478920" y="1771920"/>
                <a:ext cx="371160" cy="1699200"/>
              </a:xfrm>
              <a:prstGeom prst="bentConnector3">
                <a:avLst>
                  <a:gd name="adj1" fmla="val 49611"/>
                </a:avLst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77" name=""/>
              <p:cNvGrpSpPr/>
              <p:nvPr/>
            </p:nvGrpSpPr>
            <p:grpSpPr>
              <a:xfrm>
                <a:off x="5091480" y="3569760"/>
                <a:ext cx="1446120" cy="455760"/>
                <a:chOff x="5091480" y="3569760"/>
                <a:chExt cx="1446120" cy="4557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091480" y="3569760"/>
                  <a:ext cx="1446120" cy="45576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422320" y="3607920"/>
                  <a:ext cx="71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Initial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80" name=""/>
              <p:cNvCxnSpPr>
                <a:stCxn id="1272" idx="0"/>
                <a:endCxn id="1278" idx="0"/>
              </p:cNvCxnSpPr>
              <p:nvPr/>
            </p:nvCxnSpPr>
            <p:spPr>
              <a:xfrm>
                <a:off x="5815080" y="3301560"/>
                <a:ext cx="1080" cy="25992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81" name=""/>
              <p:cNvGrpSpPr/>
              <p:nvPr/>
            </p:nvGrpSpPr>
            <p:grpSpPr>
              <a:xfrm>
                <a:off x="5009760" y="1389240"/>
                <a:ext cx="1729080" cy="468360"/>
                <a:chOff x="5009760" y="1389240"/>
                <a:chExt cx="1729080" cy="46836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5009760" y="1389240"/>
                  <a:ext cx="1729080" cy="468360"/>
                  <a:chOff x="5009760" y="1389240"/>
                  <a:chExt cx="1729080" cy="4683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5009760" y="1389240"/>
                    <a:ext cx="1729080" cy="468360"/>
                  </a:xfrm>
                  <a:prstGeom prst="octagon">
                    <a:avLst>
                      <a:gd name="adj" fmla="val 29287"/>
                    </a:avLst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5222520" y="1392480"/>
                    <a:ext cx="0" cy="46404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6529320" y="1390680"/>
                    <a:ext cx="0" cy="46440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6" name=""/>
                <p:cNvSpPr/>
                <p:nvPr/>
              </p:nvSpPr>
              <p:spPr>
                <a:xfrm>
                  <a:off x="5618160" y="14018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7" name=""/>
          <p:cNvGrpSpPr/>
          <p:nvPr/>
        </p:nvGrpSpPr>
        <p:grpSpPr>
          <a:xfrm>
            <a:off x="141120" y="405360"/>
            <a:ext cx="4186440" cy="5979600"/>
            <a:chOff x="141120" y="405360"/>
            <a:chExt cx="4186440" cy="5979600"/>
          </a:xfrm>
        </p:grpSpPr>
        <p:grpSp>
          <p:nvGrpSpPr>
            <p:cNvPr id="1288" name=""/>
            <p:cNvGrpSpPr/>
            <p:nvPr/>
          </p:nvGrpSpPr>
          <p:grpSpPr>
            <a:xfrm>
              <a:off x="162360" y="851040"/>
              <a:ext cx="3482280" cy="3044520"/>
              <a:chOff x="162360" y="851040"/>
              <a:chExt cx="3482280" cy="3044520"/>
            </a:xfrm>
          </p:grpSpPr>
          <p:cxnSp>
            <p:nvCxnSpPr>
              <p:cNvPr id="1289" name=""/>
              <p:cNvCxnSpPr>
                <a:stCxn id="1290" idx="0"/>
                <a:endCxn id="1291" idx="0"/>
              </p:cNvCxnSpPr>
              <p:nvPr/>
            </p:nvCxnSpPr>
            <p:spPr>
              <a:xfrm>
                <a:off x="1112040" y="1995840"/>
                <a:ext cx="21960" cy="16956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92" name=""/>
              <p:cNvGrpSpPr/>
              <p:nvPr/>
            </p:nvGrpSpPr>
            <p:grpSpPr>
              <a:xfrm>
                <a:off x="352440" y="851040"/>
                <a:ext cx="1517040" cy="434520"/>
                <a:chOff x="352440" y="851040"/>
                <a:chExt cx="1517040" cy="43452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352440" y="851040"/>
                  <a:ext cx="1517040" cy="4345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6040" y="880920"/>
                  <a:ext cx="71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Initial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301320" y="3461040"/>
                <a:ext cx="1517400" cy="434520"/>
                <a:chOff x="301320" y="3461040"/>
                <a:chExt cx="1517400" cy="43452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301320" y="3461040"/>
                  <a:ext cx="1517400" cy="4345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41880" y="3490920"/>
                  <a:ext cx="84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State2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98" name=""/>
              <p:cNvCxnSpPr>
                <a:stCxn id="1293" idx="2"/>
                <a:endCxn id="1290" idx="2"/>
              </p:cNvCxnSpPr>
              <p:nvPr/>
            </p:nvCxnSpPr>
            <p:spPr>
              <a:xfrm>
                <a:off x="1111680" y="1293120"/>
                <a:ext cx="1080" cy="23220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299" name=""/>
              <p:cNvGrpSpPr/>
              <p:nvPr/>
            </p:nvGrpSpPr>
            <p:grpSpPr>
              <a:xfrm>
                <a:off x="162360" y="1528560"/>
                <a:ext cx="1773360" cy="461880"/>
                <a:chOff x="162360" y="1528560"/>
                <a:chExt cx="1773360" cy="461880"/>
              </a:xfrm>
            </p:grpSpPr>
            <p:sp>
              <p:nvSpPr>
                <p:cNvPr id="1290" name=""/>
                <p:cNvSpPr/>
                <p:nvPr/>
              </p:nvSpPr>
              <p:spPr>
                <a:xfrm rot="10800000">
                  <a:off x="289440" y="1531080"/>
                  <a:ext cx="1642680" cy="4564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16200000">
                  <a:off x="1477800" y="1535040"/>
                  <a:ext cx="446760" cy="45180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 flipV="1">
                  <a:off x="1930680" y="1528560"/>
                  <a:ext cx="5040" cy="461880"/>
                </a:xfrm>
                <a:prstGeom prst="line">
                  <a:avLst/>
                </a:prstGeom>
                <a:ln cap="sq" w="7632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62360" y="1593360"/>
                  <a:ext cx="1322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  </a:t>
                  </a:r>
                  <a:r>
                    <a:rPr b="0" lang="en-GB" sz="1800" spc="-1" strike="noStrike">
                      <a:solidFill>
                        <a:srgbClr val="eaeaea"/>
                      </a:solidFill>
                      <a:latin typeface="Arial"/>
                    </a:rPr>
                    <a:t>Make Call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3" name=""/>
              <p:cNvCxnSpPr>
                <a:stCxn id="1304" idx="2"/>
                <a:endCxn id="1296" idx="0"/>
              </p:cNvCxnSpPr>
              <p:nvPr/>
            </p:nvCxnSpPr>
            <p:spPr>
              <a:xfrm>
                <a:off x="1055160" y="3251160"/>
                <a:ext cx="6480" cy="20196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305" name=""/>
              <p:cNvGrpSpPr/>
              <p:nvPr/>
            </p:nvGrpSpPr>
            <p:grpSpPr>
              <a:xfrm>
                <a:off x="221040" y="2726640"/>
                <a:ext cx="1667880" cy="568080"/>
                <a:chOff x="221040" y="2726640"/>
                <a:chExt cx="1667880" cy="5680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221040" y="2726640"/>
                  <a:ext cx="1667880" cy="5169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76120" y="2727360"/>
                  <a:ext cx="1549440" cy="5133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56760" y="2774520"/>
                  <a:ext cx="1412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P to server</a:t>
                  </a:r>
                  <a:br>
                    <a:rPr sz="2000"/>
                  </a:b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timer t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307080" y="2118240"/>
                <a:ext cx="1651680" cy="398880"/>
                <a:chOff x="307080" y="2118240"/>
                <a:chExt cx="1651680" cy="3988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307080" y="2172960"/>
                  <a:ext cx="1651680" cy="3189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97880" y="2118240"/>
                  <a:ext cx="111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et(10,t)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0" name=""/>
              <p:cNvCxnSpPr>
                <a:stCxn id="1309" idx="2"/>
                <a:endCxn id="1306" idx="0"/>
              </p:cNvCxnSpPr>
              <p:nvPr/>
            </p:nvCxnSpPr>
            <p:spPr>
              <a:xfrm flipH="1">
                <a:off x="1051920" y="2481480"/>
                <a:ext cx="3600" cy="23868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311" name=""/>
              <p:cNvGrpSpPr/>
              <p:nvPr/>
            </p:nvGrpSpPr>
            <p:grpSpPr>
              <a:xfrm>
                <a:off x="2447640" y="865440"/>
                <a:ext cx="1197000" cy="415800"/>
                <a:chOff x="2447640" y="865440"/>
                <a:chExt cx="1197000" cy="41580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2447640" y="865440"/>
                  <a:ext cx="1197000" cy="415800"/>
                  <a:chOff x="2447640" y="865440"/>
                  <a:chExt cx="1197000" cy="41580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2447640" y="865440"/>
                    <a:ext cx="1197000" cy="41580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>
                    <a:off x="2647080" y="866520"/>
                    <a:ext cx="186840" cy="41184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652480" y="865440"/>
                    <a:ext cx="180360" cy="4129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3272400" y="867960"/>
                    <a:ext cx="186840" cy="41184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3278160" y="866520"/>
                    <a:ext cx="180360" cy="41328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2825640" y="8769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eh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>
                <a:off x="1872000" y="1076040"/>
                <a:ext cx="56376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141120" y="495360"/>
              <a:ext cx="4186440" cy="58896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2360" y="40536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lock clien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286920" y="4168800"/>
            <a:ext cx="3510360" cy="2025360"/>
            <a:chOff x="286920" y="4168800"/>
            <a:chExt cx="3510360" cy="2025360"/>
          </a:xfrm>
        </p:grpSpPr>
        <p:grpSp>
          <p:nvGrpSpPr>
            <p:cNvPr id="1323" name=""/>
            <p:cNvGrpSpPr/>
            <p:nvPr/>
          </p:nvGrpSpPr>
          <p:grpSpPr>
            <a:xfrm>
              <a:off x="422280" y="4168800"/>
              <a:ext cx="1332000" cy="463680"/>
              <a:chOff x="422280" y="4168800"/>
              <a:chExt cx="1332000" cy="463680"/>
            </a:xfrm>
          </p:grpSpPr>
          <p:grpSp>
            <p:nvGrpSpPr>
              <p:cNvPr id="1324" name=""/>
              <p:cNvGrpSpPr/>
              <p:nvPr/>
            </p:nvGrpSpPr>
            <p:grpSpPr>
              <a:xfrm>
                <a:off x="422280" y="4168800"/>
                <a:ext cx="1332000" cy="463680"/>
                <a:chOff x="422280" y="4168800"/>
                <a:chExt cx="1332000" cy="4636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422280" y="4168800"/>
                  <a:ext cx="1332000" cy="46368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>
                  <a:off x="644760" y="4169880"/>
                  <a:ext cx="208080" cy="45936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50520" y="4168800"/>
                  <a:ext cx="200520" cy="4604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1340640" y="4171680"/>
                  <a:ext cx="208080" cy="45936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346400" y="4169880"/>
                  <a:ext cx="200520" cy="46080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0" name=""/>
              <p:cNvSpPr/>
              <p:nvPr/>
            </p:nvSpPr>
            <p:spPr>
              <a:xfrm>
                <a:off x="869400" y="42051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eh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331" name=""/>
            <p:cNvCxnSpPr>
              <a:stCxn id="1332" idx="2"/>
              <a:endCxn id="1333" idx="0"/>
            </p:cNvCxnSpPr>
            <p:nvPr/>
          </p:nvCxnSpPr>
          <p:spPr>
            <a:xfrm>
              <a:off x="1030320" y="5389200"/>
              <a:ext cx="8640" cy="34668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334" name=""/>
            <p:cNvCxnSpPr>
              <a:stCxn id="1325" idx="2"/>
              <a:endCxn id="1335" idx="2"/>
            </p:cNvCxnSpPr>
            <p:nvPr/>
          </p:nvCxnSpPr>
          <p:spPr>
            <a:xfrm>
              <a:off x="1088640" y="4641840"/>
              <a:ext cx="5400" cy="31176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36" name=""/>
            <p:cNvGrpSpPr/>
            <p:nvPr/>
          </p:nvGrpSpPr>
          <p:grpSpPr>
            <a:xfrm>
              <a:off x="286920" y="4950000"/>
              <a:ext cx="1616400" cy="463320"/>
              <a:chOff x="286920" y="4950000"/>
              <a:chExt cx="1616400" cy="463320"/>
            </a:xfrm>
          </p:grpSpPr>
          <p:sp>
            <p:nvSpPr>
              <p:cNvPr id="1335" name=""/>
              <p:cNvSpPr/>
              <p:nvPr/>
            </p:nvSpPr>
            <p:spPr>
              <a:xfrm rot="10800000">
                <a:off x="290880" y="4961520"/>
                <a:ext cx="1609920" cy="44280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6200000">
                <a:off x="1550520" y="5055840"/>
                <a:ext cx="434520" cy="25560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flipV="1">
                <a:off x="1899720" y="4958280"/>
                <a:ext cx="3600" cy="44856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7120" y="4991400"/>
                <a:ext cx="80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reject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86920" y="4950000"/>
                <a:ext cx="200520" cy="4633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95920" y="4950000"/>
                <a:ext cx="191880" cy="45288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320760" y="5734440"/>
              <a:ext cx="1434960" cy="459720"/>
              <a:chOff x="320760" y="5734440"/>
              <a:chExt cx="1434960" cy="459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320760" y="5759280"/>
                <a:ext cx="1434960" cy="411120"/>
              </a:xfrm>
              <a:prstGeom prst="roundRect">
                <a:avLst>
                  <a:gd name="adj" fmla="val 3668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0480" y="5734440"/>
                <a:ext cx="87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initi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343" name=""/>
            <p:cNvCxnSpPr>
              <a:stCxn id="1344" idx="2"/>
              <a:endCxn id="1345" idx="0"/>
            </p:cNvCxnSpPr>
            <p:nvPr/>
          </p:nvCxnSpPr>
          <p:spPr>
            <a:xfrm>
              <a:off x="2922480" y="5367240"/>
              <a:ext cx="13680" cy="34704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46" name=""/>
            <p:cNvGrpSpPr/>
            <p:nvPr/>
          </p:nvGrpSpPr>
          <p:grpSpPr>
            <a:xfrm>
              <a:off x="2180880" y="4927680"/>
              <a:ext cx="1616400" cy="463320"/>
              <a:chOff x="2180880" y="4927680"/>
              <a:chExt cx="1616400" cy="463320"/>
            </a:xfrm>
          </p:grpSpPr>
          <p:sp>
            <p:nvSpPr>
              <p:cNvPr id="1347" name=""/>
              <p:cNvSpPr/>
              <p:nvPr/>
            </p:nvSpPr>
            <p:spPr>
              <a:xfrm rot="10800000">
                <a:off x="2184840" y="4939200"/>
                <a:ext cx="1609920" cy="44280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6200000">
                <a:off x="3444480" y="5033520"/>
                <a:ext cx="434520" cy="25560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flipV="1">
                <a:off x="3793680" y="4935960"/>
                <a:ext cx="3600" cy="44856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797200" y="49690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180880" y="4927680"/>
                <a:ext cx="200520" cy="4633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189880" y="4927680"/>
                <a:ext cx="191880" cy="45288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2214720" y="5712480"/>
              <a:ext cx="1434960" cy="459720"/>
              <a:chOff x="2214720" y="5712480"/>
              <a:chExt cx="1434960" cy="45972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14720" y="5737320"/>
                <a:ext cx="1434960" cy="411120"/>
              </a:xfrm>
              <a:prstGeom prst="roundRect">
                <a:avLst>
                  <a:gd name="adj" fmla="val 3668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403000" y="571248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354" name=""/>
            <p:cNvCxnSpPr>
              <a:stCxn id="1325" idx="2"/>
              <a:endCxn id="1347" idx="2"/>
            </p:cNvCxnSpPr>
            <p:nvPr/>
          </p:nvCxnSpPr>
          <p:spPr>
            <a:xfrm flipH="1" rot="16200000">
              <a:off x="1893960" y="3836160"/>
              <a:ext cx="289440" cy="1899360"/>
            </a:xfrm>
            <a:prstGeom prst="bentConnector3">
              <a:avLst>
                <a:gd name="adj1" fmla="val 49439"/>
              </a:avLst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Composite Stat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50800" y="1603080"/>
            <a:ext cx="8593200" cy="43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mposite states are a means to hierarchically structure state machi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sting of st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gent can be in more than one state at a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arel´s state char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mposite state is itself a sub-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ate machine of an agent is in fact a top-level composite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"/>
          <p:cNvGrpSpPr/>
          <p:nvPr/>
        </p:nvGrpSpPr>
        <p:grpSpPr>
          <a:xfrm>
            <a:off x="1126800" y="2003400"/>
            <a:ext cx="1518840" cy="2527200"/>
            <a:chOff x="1126800" y="2003400"/>
            <a:chExt cx="1518840" cy="2527200"/>
          </a:xfrm>
        </p:grpSpPr>
        <p:cxnSp>
          <p:nvCxnSpPr>
            <p:cNvPr id="1358" name=""/>
            <p:cNvCxnSpPr>
              <a:stCxn id="1359" idx="0"/>
              <a:endCxn id="1360" idx="0"/>
            </p:cNvCxnSpPr>
            <p:nvPr/>
          </p:nvCxnSpPr>
          <p:spPr>
            <a:xfrm>
              <a:off x="1885680" y="3373560"/>
              <a:ext cx="1080" cy="6055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61" name=""/>
            <p:cNvGrpSpPr/>
            <p:nvPr/>
          </p:nvGrpSpPr>
          <p:grpSpPr>
            <a:xfrm>
              <a:off x="1185840" y="2003400"/>
              <a:ext cx="1400040" cy="469800"/>
              <a:chOff x="1185840" y="2003400"/>
              <a:chExt cx="1400040" cy="469800"/>
            </a:xfrm>
          </p:grpSpPr>
          <p:sp>
            <p:nvSpPr>
              <p:cNvPr id="1362" name=""/>
              <p:cNvSpPr/>
              <p:nvPr/>
            </p:nvSpPr>
            <p:spPr>
              <a:xfrm>
                <a:off x="1185840" y="2003400"/>
                <a:ext cx="1400040" cy="46980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387800" y="203760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1185840" y="3987720"/>
              <a:ext cx="1400040" cy="542880"/>
              <a:chOff x="1185840" y="3987720"/>
              <a:chExt cx="1400040" cy="542880"/>
            </a:xfrm>
          </p:grpSpPr>
          <p:sp>
            <p:nvSpPr>
              <p:cNvPr id="1360" name=""/>
              <p:cNvSpPr/>
              <p:nvPr/>
            </p:nvSpPr>
            <p:spPr>
              <a:xfrm>
                <a:off x="1185840" y="3987720"/>
                <a:ext cx="1400040" cy="5428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433160" y="405828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366" name=""/>
            <p:cNvCxnSpPr>
              <a:stCxn id="1362" idx="2"/>
              <a:endCxn id="1359" idx="2"/>
            </p:cNvCxnSpPr>
            <p:nvPr/>
          </p:nvCxnSpPr>
          <p:spPr>
            <a:xfrm>
              <a:off x="1885680" y="2482920"/>
              <a:ext cx="1080" cy="4435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67" name=""/>
            <p:cNvGrpSpPr/>
            <p:nvPr/>
          </p:nvGrpSpPr>
          <p:grpSpPr>
            <a:xfrm>
              <a:off x="1126800" y="2930040"/>
              <a:ext cx="1518840" cy="436680"/>
              <a:chOff x="1126800" y="2930040"/>
              <a:chExt cx="1518840" cy="436680"/>
            </a:xfrm>
          </p:grpSpPr>
          <p:sp>
            <p:nvSpPr>
              <p:cNvPr id="1359" name=""/>
              <p:cNvSpPr/>
              <p:nvPr/>
            </p:nvSpPr>
            <p:spPr>
              <a:xfrm rot="10800000">
                <a:off x="1126800" y="2932200"/>
                <a:ext cx="1515960" cy="4316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6200000">
                <a:off x="2218320" y="2941200"/>
                <a:ext cx="42228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 flipV="1">
                <a:off x="2640960" y="2930040"/>
                <a:ext cx="4680" cy="4366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266120" y="29660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1" name=""/>
          <p:cNvGrpSpPr/>
          <p:nvPr/>
        </p:nvGrpSpPr>
        <p:grpSpPr>
          <a:xfrm>
            <a:off x="5397480" y="167040"/>
            <a:ext cx="3076560" cy="2841120"/>
            <a:chOff x="5397480" y="167040"/>
            <a:chExt cx="3076560" cy="2841120"/>
          </a:xfrm>
        </p:grpSpPr>
        <p:sp>
          <p:nvSpPr>
            <p:cNvPr id="1372" name=""/>
            <p:cNvSpPr/>
            <p:nvPr/>
          </p:nvSpPr>
          <p:spPr>
            <a:xfrm>
              <a:off x="5397480" y="204840"/>
              <a:ext cx="3076560" cy="28033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5537160" y="560520"/>
              <a:ext cx="1103400" cy="512640"/>
              <a:chOff x="5537160" y="560520"/>
              <a:chExt cx="1103400" cy="512640"/>
            </a:xfrm>
          </p:grpSpPr>
          <p:sp>
            <p:nvSpPr>
              <p:cNvPr id="1374" name=""/>
              <p:cNvSpPr/>
              <p:nvPr/>
            </p:nvSpPr>
            <p:spPr>
              <a:xfrm>
                <a:off x="5537160" y="560520"/>
                <a:ext cx="1103400" cy="338760"/>
              </a:xfrm>
              <a:prstGeom prst="roundRect">
                <a:avLst>
                  <a:gd name="adj" fmla="val 50000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375" name=""/>
              <p:cNvCxnSpPr>
                <a:stCxn id="1374" idx="2"/>
                <a:endCxn id="1376" idx="0"/>
              </p:cNvCxnSpPr>
              <p:nvPr/>
            </p:nvCxnSpPr>
            <p:spPr>
              <a:xfrm>
                <a:off x="6088320" y="905040"/>
                <a:ext cx="1080" cy="168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  <p:cxnSp>
          <p:nvCxnSpPr>
            <p:cNvPr id="1377" name=""/>
            <p:cNvCxnSpPr>
              <a:stCxn id="1378" idx="0"/>
            </p:cNvCxnSpPr>
            <p:nvPr/>
          </p:nvCxnSpPr>
          <p:spPr>
            <a:xfrm>
              <a:off x="6089400" y="2065320"/>
              <a:ext cx="1080" cy="44064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79" name=""/>
            <p:cNvGrpSpPr/>
            <p:nvPr/>
          </p:nvGrpSpPr>
          <p:grpSpPr>
            <a:xfrm>
              <a:off x="5537160" y="1046880"/>
              <a:ext cx="1103400" cy="398880"/>
              <a:chOff x="5537160" y="1046880"/>
              <a:chExt cx="1103400" cy="398880"/>
            </a:xfrm>
          </p:grpSpPr>
          <p:sp>
            <p:nvSpPr>
              <p:cNvPr id="1376" name=""/>
              <p:cNvSpPr/>
              <p:nvPr/>
            </p:nvSpPr>
            <p:spPr>
              <a:xfrm>
                <a:off x="5537160" y="1078200"/>
                <a:ext cx="1103400" cy="33912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776560" y="1046880"/>
                <a:ext cx="56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381" name=""/>
            <p:cNvCxnSpPr>
              <a:stCxn id="1382" idx="0"/>
            </p:cNvCxnSpPr>
            <p:nvPr/>
          </p:nvCxnSpPr>
          <p:spPr>
            <a:xfrm>
              <a:off x="7402320" y="2076480"/>
              <a:ext cx="3960" cy="4104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383" name=""/>
            <p:cNvGrpSpPr/>
            <p:nvPr/>
          </p:nvGrpSpPr>
          <p:grpSpPr>
            <a:xfrm>
              <a:off x="5491080" y="1423800"/>
              <a:ext cx="1196640" cy="693720"/>
              <a:chOff x="5491080" y="1423800"/>
              <a:chExt cx="1196640" cy="693720"/>
            </a:xfrm>
          </p:grpSpPr>
          <p:grpSp>
            <p:nvGrpSpPr>
              <p:cNvPr id="1384" name=""/>
              <p:cNvGrpSpPr/>
              <p:nvPr/>
            </p:nvGrpSpPr>
            <p:grpSpPr>
              <a:xfrm>
                <a:off x="5491080" y="1747080"/>
                <a:ext cx="1196640" cy="314280"/>
                <a:chOff x="5491080" y="1747080"/>
                <a:chExt cx="1196640" cy="314280"/>
              </a:xfrm>
            </p:grpSpPr>
            <p:sp>
              <p:nvSpPr>
                <p:cNvPr id="1378" name=""/>
                <p:cNvSpPr/>
                <p:nvPr/>
              </p:nvSpPr>
              <p:spPr>
                <a:xfrm rot="10800000">
                  <a:off x="5491080" y="1749240"/>
                  <a:ext cx="1194840" cy="31032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16200000">
                  <a:off x="6365880" y="1741320"/>
                  <a:ext cx="303840" cy="3286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 flipV="1">
                  <a:off x="6684480" y="1747080"/>
                  <a:ext cx="3240" cy="31428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87" name=""/>
              <p:cNvCxnSpPr>
                <a:stCxn id="1376" idx="2"/>
                <a:endCxn id="1378" idx="2"/>
              </p:cNvCxnSpPr>
              <p:nvPr/>
            </p:nvCxnSpPr>
            <p:spPr>
              <a:xfrm>
                <a:off x="6089040" y="1423800"/>
                <a:ext cx="1080" cy="321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388" name=""/>
              <p:cNvSpPr/>
              <p:nvPr/>
            </p:nvSpPr>
            <p:spPr>
              <a:xfrm>
                <a:off x="5528160" y="17186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6088680" y="1424160"/>
              <a:ext cx="1914480" cy="685080"/>
              <a:chOff x="6088680" y="1424160"/>
              <a:chExt cx="1914480" cy="685080"/>
            </a:xfrm>
          </p:grpSpPr>
          <p:grpSp>
            <p:nvGrpSpPr>
              <p:cNvPr id="1390" name=""/>
              <p:cNvGrpSpPr/>
              <p:nvPr/>
            </p:nvGrpSpPr>
            <p:grpSpPr>
              <a:xfrm>
                <a:off x="6806520" y="1755360"/>
                <a:ext cx="1196640" cy="314640"/>
                <a:chOff x="6806520" y="1755360"/>
                <a:chExt cx="1196640" cy="314640"/>
              </a:xfrm>
            </p:grpSpPr>
            <p:sp>
              <p:nvSpPr>
                <p:cNvPr id="1382" name=""/>
                <p:cNvSpPr/>
                <p:nvPr/>
              </p:nvSpPr>
              <p:spPr>
                <a:xfrm rot="10800000">
                  <a:off x="6806520" y="1756800"/>
                  <a:ext cx="1194840" cy="3106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rot="16200000">
                  <a:off x="7681320" y="1749240"/>
                  <a:ext cx="304200" cy="3286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 flipV="1">
                  <a:off x="7999920" y="1755360"/>
                  <a:ext cx="3240" cy="31464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93" name=""/>
              <p:cNvCxnSpPr>
                <a:stCxn id="1376" idx="2"/>
                <a:endCxn id="1382" idx="2"/>
              </p:cNvCxnSpPr>
              <p:nvPr/>
            </p:nvCxnSpPr>
            <p:spPr>
              <a:xfrm flipH="1" rot="16200000">
                <a:off x="6582240" y="930600"/>
                <a:ext cx="329040" cy="1315800"/>
              </a:xfrm>
              <a:prstGeom prst="bentConnector3">
                <a:avLst>
                  <a:gd name="adj1" fmla="val 49616"/>
                </a:avLst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394" name=""/>
              <p:cNvSpPr/>
              <p:nvPr/>
            </p:nvSpPr>
            <p:spPr>
              <a:xfrm>
                <a:off x="6836040" y="171036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4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5878800" y="2533680"/>
              <a:ext cx="384120" cy="363600"/>
              <a:chOff x="5878800" y="2533680"/>
              <a:chExt cx="384120" cy="363600"/>
            </a:xfrm>
          </p:grpSpPr>
          <p:sp>
            <p:nvSpPr>
              <p:cNvPr id="1396" name=""/>
              <p:cNvSpPr/>
              <p:nvPr/>
            </p:nvSpPr>
            <p:spPr>
              <a:xfrm>
                <a:off x="5878800" y="2533680"/>
                <a:ext cx="384120" cy="3636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97" name=""/>
              <p:cNvGrpSpPr/>
              <p:nvPr/>
            </p:nvGrpSpPr>
            <p:grpSpPr>
              <a:xfrm>
                <a:off x="5922720" y="2566080"/>
                <a:ext cx="306000" cy="294120"/>
                <a:chOff x="5922720" y="2566080"/>
                <a:chExt cx="306000" cy="29412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922720" y="2607120"/>
                  <a:ext cx="306000" cy="2113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 flipV="1">
                  <a:off x="5965200" y="2566080"/>
                  <a:ext cx="219960" cy="2941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7207560" y="2509920"/>
              <a:ext cx="384120" cy="363600"/>
              <a:chOff x="7207560" y="2509920"/>
              <a:chExt cx="384120" cy="363600"/>
            </a:xfrm>
          </p:grpSpPr>
          <p:sp>
            <p:nvSpPr>
              <p:cNvPr id="1401" name=""/>
              <p:cNvSpPr/>
              <p:nvPr/>
            </p:nvSpPr>
            <p:spPr>
              <a:xfrm>
                <a:off x="7207560" y="2509920"/>
                <a:ext cx="384120" cy="3636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7251480" y="2542320"/>
                <a:ext cx="306000" cy="294120"/>
                <a:chOff x="7251480" y="2542320"/>
                <a:chExt cx="306000" cy="294120"/>
              </a:xfrm>
            </p:grpSpPr>
            <p:sp>
              <p:nvSpPr>
                <p:cNvPr id="1403" name=""/>
                <p:cNvSpPr/>
                <p:nvPr/>
              </p:nvSpPr>
              <p:spPr>
                <a:xfrm flipV="1">
                  <a:off x="7251480" y="2583360"/>
                  <a:ext cx="306000" cy="2113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 flipV="1">
                  <a:off x="7293960" y="2542320"/>
                  <a:ext cx="219960" cy="2941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5" name=""/>
            <p:cNvSpPr/>
            <p:nvPr/>
          </p:nvSpPr>
          <p:spPr>
            <a:xfrm>
              <a:off x="5416920" y="1670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tate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1254240" y="210600"/>
            <a:ext cx="4152960" cy="2824560"/>
            <a:chOff x="1254240" y="210600"/>
            <a:chExt cx="4152960" cy="2824560"/>
          </a:xfrm>
        </p:grpSpPr>
        <p:sp>
          <p:nvSpPr>
            <p:cNvPr id="1407" name=""/>
            <p:cNvSpPr/>
            <p:nvPr/>
          </p:nvSpPr>
          <p:spPr>
            <a:xfrm flipV="1">
              <a:off x="1255680" y="210600"/>
              <a:ext cx="4103640" cy="180036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54240" y="2457360"/>
              <a:ext cx="4152960" cy="57780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1884960" y="2482560"/>
            <a:ext cx="2532240" cy="2144520"/>
            <a:chOff x="1884960" y="2482560"/>
            <a:chExt cx="2532240" cy="2144520"/>
          </a:xfrm>
        </p:grpSpPr>
        <p:cxnSp>
          <p:nvCxnSpPr>
            <p:cNvPr id="1410" name=""/>
            <p:cNvCxnSpPr>
              <a:stCxn id="1362" idx="2"/>
            </p:cNvCxnSpPr>
            <p:nvPr/>
          </p:nvCxnSpPr>
          <p:spPr>
            <a:xfrm flipH="1" rot="16200000">
              <a:off x="2563560" y="1803960"/>
              <a:ext cx="415080" cy="1772280"/>
            </a:xfrm>
            <a:prstGeom prst="bentConnector3">
              <a:avLst>
                <a:gd name="adj1" fmla="val 50520"/>
              </a:avLst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12" idx="0"/>
              <a:endCxn id="1413" idx="0"/>
            </p:cNvCxnSpPr>
            <p:nvPr/>
          </p:nvCxnSpPr>
          <p:spPr>
            <a:xfrm>
              <a:off x="3657240" y="3373560"/>
              <a:ext cx="1080" cy="6210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414" name=""/>
            <p:cNvGrpSpPr/>
            <p:nvPr/>
          </p:nvGrpSpPr>
          <p:grpSpPr>
            <a:xfrm>
              <a:off x="2957400" y="3923280"/>
              <a:ext cx="1400400" cy="703800"/>
              <a:chOff x="2957400" y="3923280"/>
              <a:chExt cx="1400400" cy="70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2957400" y="4003560"/>
                <a:ext cx="1400400" cy="54432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205080" y="3923280"/>
                <a:ext cx="915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via P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898360" y="2930040"/>
              <a:ext cx="1518840" cy="436680"/>
              <a:chOff x="2898360" y="2930040"/>
              <a:chExt cx="1518840" cy="436680"/>
            </a:xfrm>
          </p:grpSpPr>
          <p:sp>
            <p:nvSpPr>
              <p:cNvPr id="1412" name=""/>
              <p:cNvSpPr/>
              <p:nvPr/>
            </p:nvSpPr>
            <p:spPr>
              <a:xfrm rot="10800000">
                <a:off x="2898360" y="2932200"/>
                <a:ext cx="1515960" cy="4316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6200000">
                <a:off x="3989880" y="2941200"/>
                <a:ext cx="42228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flipV="1">
                <a:off x="4412520" y="2930040"/>
                <a:ext cx="4680" cy="4366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037680" y="29660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0" name=""/>
          <p:cNvGrpSpPr/>
          <p:nvPr/>
        </p:nvGrpSpPr>
        <p:grpSpPr>
          <a:xfrm>
            <a:off x="1305000" y="3234960"/>
            <a:ext cx="4105080" cy="3399120"/>
            <a:chOff x="1305000" y="3234960"/>
            <a:chExt cx="4105080" cy="3399120"/>
          </a:xfrm>
        </p:grpSpPr>
        <p:sp>
          <p:nvSpPr>
            <p:cNvPr id="1421" name=""/>
            <p:cNvSpPr/>
            <p:nvPr/>
          </p:nvSpPr>
          <p:spPr>
            <a:xfrm flipV="1">
              <a:off x="1305000" y="3234960"/>
              <a:ext cx="4044960" cy="76356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05000" y="4518000"/>
              <a:ext cx="4105080" cy="211608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923160" y="3545280"/>
            <a:ext cx="1103400" cy="1841400"/>
            <a:chOff x="6923160" y="3545280"/>
            <a:chExt cx="1103400" cy="1841400"/>
          </a:xfrm>
        </p:grpSpPr>
        <p:sp>
          <p:nvSpPr>
            <p:cNvPr id="1424" name=""/>
            <p:cNvSpPr/>
            <p:nvPr/>
          </p:nvSpPr>
          <p:spPr>
            <a:xfrm>
              <a:off x="6923160" y="3571920"/>
              <a:ext cx="1103400" cy="339840"/>
            </a:xfrm>
            <a:prstGeom prst="roundRect">
              <a:avLst>
                <a:gd name="adj" fmla="val 50000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425" name=""/>
            <p:cNvCxnSpPr>
              <a:stCxn id="1424" idx="2"/>
              <a:endCxn id="1426" idx="0"/>
            </p:cNvCxnSpPr>
            <p:nvPr/>
          </p:nvCxnSpPr>
          <p:spPr>
            <a:xfrm>
              <a:off x="7475040" y="3921120"/>
              <a:ext cx="1080" cy="14659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427" name=""/>
            <p:cNvSpPr/>
            <p:nvPr/>
          </p:nvSpPr>
          <p:spPr>
            <a:xfrm>
              <a:off x="7120440" y="3545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5384880" y="3189960"/>
            <a:ext cx="3076560" cy="3430080"/>
            <a:chOff x="5384880" y="3189960"/>
            <a:chExt cx="3076560" cy="3430080"/>
          </a:xfrm>
        </p:grpSpPr>
        <p:sp>
          <p:nvSpPr>
            <p:cNvPr id="1429" name=""/>
            <p:cNvSpPr/>
            <p:nvPr/>
          </p:nvSpPr>
          <p:spPr>
            <a:xfrm>
              <a:off x="5384880" y="3227400"/>
              <a:ext cx="3076560" cy="33926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5403960" y="3189960"/>
              <a:ext cx="1270800" cy="1794240"/>
              <a:chOff x="5403960" y="3189960"/>
              <a:chExt cx="1270800" cy="179424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5524560" y="3583080"/>
                <a:ext cx="1103400" cy="512640"/>
                <a:chOff x="5524560" y="3583080"/>
                <a:chExt cx="1103400" cy="51264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5524560" y="3583080"/>
                  <a:ext cx="1103400" cy="33876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33" name=""/>
                <p:cNvCxnSpPr>
                  <a:stCxn id="1432" idx="2"/>
                  <a:endCxn id="1434" idx="0"/>
                </p:cNvCxnSpPr>
                <p:nvPr/>
              </p:nvCxnSpPr>
              <p:spPr>
                <a:xfrm>
                  <a:off x="6075720" y="3927600"/>
                  <a:ext cx="1080" cy="168480"/>
                </a:xfrm>
                <a:prstGeom prst="straightConnector1">
                  <a:avLst/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435" name=""/>
              <p:cNvGrpSpPr/>
              <p:nvPr/>
            </p:nvGrpSpPr>
            <p:grpSpPr>
              <a:xfrm>
                <a:off x="5524560" y="4069440"/>
                <a:ext cx="1103400" cy="398880"/>
                <a:chOff x="5524560" y="4069440"/>
                <a:chExt cx="1103400" cy="3988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5524560" y="4101120"/>
                  <a:ext cx="1103400" cy="33876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763960" y="4069440"/>
                  <a:ext cx="56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5478120" y="4614480"/>
                <a:ext cx="1196640" cy="314280"/>
                <a:chOff x="5478120" y="4614480"/>
                <a:chExt cx="1196640" cy="314280"/>
              </a:xfrm>
            </p:grpSpPr>
            <p:sp>
              <p:nvSpPr>
                <p:cNvPr id="1438" name=""/>
                <p:cNvSpPr/>
                <p:nvPr/>
              </p:nvSpPr>
              <p:spPr>
                <a:xfrm rot="10800000">
                  <a:off x="5478120" y="4616640"/>
                  <a:ext cx="1194840" cy="31032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rot="16200000">
                  <a:off x="6352920" y="4608720"/>
                  <a:ext cx="303840" cy="3286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6671520" y="4614480"/>
                  <a:ext cx="3240" cy="31428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41" name=""/>
              <p:cNvCxnSpPr>
                <a:stCxn id="1434" idx="2"/>
                <a:endCxn id="1438" idx="2"/>
              </p:cNvCxnSpPr>
              <p:nvPr/>
            </p:nvCxnSpPr>
            <p:spPr>
              <a:xfrm flipH="1">
                <a:off x="6073560" y="4449240"/>
                <a:ext cx="3600" cy="15804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442" name=""/>
              <p:cNvSpPr/>
              <p:nvPr/>
            </p:nvSpPr>
            <p:spPr>
              <a:xfrm>
                <a:off x="5515200" y="458532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403960" y="318996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6156360" y="4935240"/>
              <a:ext cx="1854000" cy="1605240"/>
              <a:chOff x="6156360" y="4935240"/>
              <a:chExt cx="1854000" cy="1605240"/>
            </a:xfrm>
          </p:grpSpPr>
          <p:cxnSp>
            <p:nvCxnSpPr>
              <p:cNvPr id="1445" name=""/>
              <p:cNvCxnSpPr>
                <a:stCxn id="1446" idx="2"/>
                <a:endCxn id="1447" idx="0"/>
              </p:cNvCxnSpPr>
              <p:nvPr/>
            </p:nvCxnSpPr>
            <p:spPr>
              <a:xfrm flipH="1">
                <a:off x="7473600" y="5829120"/>
                <a:ext cx="2160" cy="33876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448" name=""/>
              <p:cNvGrpSpPr/>
              <p:nvPr/>
            </p:nvGrpSpPr>
            <p:grpSpPr>
              <a:xfrm>
                <a:off x="7281720" y="6176880"/>
                <a:ext cx="384480" cy="363600"/>
                <a:chOff x="7281720" y="6176880"/>
                <a:chExt cx="384480" cy="36360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7281720" y="6176880"/>
                  <a:ext cx="384480" cy="363600"/>
                </a:xfrm>
                <a:prstGeom prst="ellips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9" name=""/>
                <p:cNvGrpSpPr/>
                <p:nvPr/>
              </p:nvGrpSpPr>
              <p:grpSpPr>
                <a:xfrm>
                  <a:off x="7325640" y="6209280"/>
                  <a:ext cx="306360" cy="294120"/>
                  <a:chOff x="7325640" y="6209280"/>
                  <a:chExt cx="306360" cy="294120"/>
                </a:xfrm>
              </p:grpSpPr>
              <p:sp>
                <p:nvSpPr>
                  <p:cNvPr id="1450" name=""/>
                  <p:cNvSpPr/>
                  <p:nvPr/>
                </p:nvSpPr>
                <p:spPr>
                  <a:xfrm flipV="1">
                    <a:off x="7325640" y="6250320"/>
                    <a:ext cx="306360" cy="2113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H="1" flipV="1">
                    <a:off x="7368120" y="6209280"/>
                    <a:ext cx="219960" cy="2941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26" name=""/>
              <p:cNvSpPr/>
              <p:nvPr/>
            </p:nvSpPr>
            <p:spPr>
              <a:xfrm>
                <a:off x="6939000" y="5396040"/>
                <a:ext cx="1071360" cy="4698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939000" y="5467320"/>
                <a:ext cx="1071360" cy="3524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216920" y="538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453" name=""/>
              <p:cNvCxnSpPr/>
              <p:nvPr/>
            </p:nvCxnSpPr>
            <p:spPr>
              <a:xfrm flipH="1" rot="16200000">
                <a:off x="6600600" y="4490640"/>
                <a:ext cx="446760" cy="1335600"/>
              </a:xfrm>
              <a:prstGeom prst="bentConnector3">
                <a:avLst>
                  <a:gd name="adj1" fmla="val 49032"/>
                </a:avLst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454" name=""/>
          <p:cNvGrpSpPr/>
          <p:nvPr/>
        </p:nvGrpSpPr>
        <p:grpSpPr>
          <a:xfrm>
            <a:off x="1246320" y="4538520"/>
            <a:ext cx="1400040" cy="1565280"/>
            <a:chOff x="1246320" y="4538520"/>
            <a:chExt cx="1400040" cy="1565280"/>
          </a:xfrm>
        </p:grpSpPr>
        <p:grpSp>
          <p:nvGrpSpPr>
            <p:cNvPr id="1455" name=""/>
            <p:cNvGrpSpPr/>
            <p:nvPr/>
          </p:nvGrpSpPr>
          <p:grpSpPr>
            <a:xfrm>
              <a:off x="1246320" y="5560920"/>
              <a:ext cx="1400040" cy="542880"/>
              <a:chOff x="1246320" y="5560920"/>
              <a:chExt cx="1400040" cy="542880"/>
            </a:xfrm>
          </p:grpSpPr>
          <p:sp>
            <p:nvSpPr>
              <p:cNvPr id="1456" name=""/>
              <p:cNvSpPr/>
              <p:nvPr/>
            </p:nvSpPr>
            <p:spPr>
              <a:xfrm>
                <a:off x="1246320" y="5560920"/>
                <a:ext cx="1400040" cy="5428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3640" y="563148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>
              <a:off x="1903320" y="4538520"/>
              <a:ext cx="0" cy="102420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1892160" y="4956840"/>
            <a:ext cx="2406240" cy="1112400"/>
            <a:chOff x="1892160" y="4956840"/>
            <a:chExt cx="2406240" cy="1112400"/>
          </a:xfrm>
        </p:grpSpPr>
        <p:sp>
          <p:nvSpPr>
            <p:cNvPr id="1460" name=""/>
            <p:cNvSpPr/>
            <p:nvPr/>
          </p:nvSpPr>
          <p:spPr>
            <a:xfrm>
              <a:off x="1892160" y="4997520"/>
              <a:ext cx="17416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621240" y="4997520"/>
              <a:ext cx="0" cy="6350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3387960" y="5561280"/>
              <a:ext cx="507960" cy="507960"/>
              <a:chOff x="3387960" y="5561280"/>
              <a:chExt cx="507960" cy="507960"/>
            </a:xfrm>
          </p:grpSpPr>
          <p:sp>
            <p:nvSpPr>
              <p:cNvPr id="1463" name=""/>
              <p:cNvSpPr/>
              <p:nvPr/>
            </p:nvSpPr>
            <p:spPr>
              <a:xfrm>
                <a:off x="3387960" y="5586120"/>
                <a:ext cx="507960" cy="45468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3415680" y="5561280"/>
                <a:ext cx="454680" cy="50796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3796200" y="49568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8359920" y="3393000"/>
            <a:ext cx="623520" cy="499680"/>
            <a:chOff x="8359920" y="3393000"/>
            <a:chExt cx="623520" cy="499680"/>
          </a:xfrm>
        </p:grpSpPr>
        <p:grpSp>
          <p:nvGrpSpPr>
            <p:cNvPr id="1467" name=""/>
            <p:cNvGrpSpPr/>
            <p:nvPr/>
          </p:nvGrpSpPr>
          <p:grpSpPr>
            <a:xfrm>
              <a:off x="8359920" y="3809880"/>
              <a:ext cx="623520" cy="82800"/>
              <a:chOff x="8359920" y="3809880"/>
              <a:chExt cx="623520" cy="8280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8453160" y="3844800"/>
                <a:ext cx="53028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359920" y="3809880"/>
                <a:ext cx="82440" cy="828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8425440" y="33930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8453160" y="4742280"/>
            <a:ext cx="624240" cy="501120"/>
            <a:chOff x="8453160" y="4742280"/>
            <a:chExt cx="624240" cy="501120"/>
          </a:xfrm>
        </p:grpSpPr>
        <p:grpSp>
          <p:nvGrpSpPr>
            <p:cNvPr id="1472" name=""/>
            <p:cNvGrpSpPr/>
            <p:nvPr/>
          </p:nvGrpSpPr>
          <p:grpSpPr>
            <a:xfrm>
              <a:off x="8453160" y="5160960"/>
              <a:ext cx="624240" cy="82440"/>
              <a:chOff x="8453160" y="5160960"/>
              <a:chExt cx="624240" cy="82440"/>
            </a:xfrm>
          </p:grpSpPr>
          <p:sp>
            <p:nvSpPr>
              <p:cNvPr id="1473" name=""/>
              <p:cNvSpPr/>
              <p:nvPr/>
            </p:nvSpPr>
            <p:spPr>
              <a:xfrm flipH="1">
                <a:off x="8453160" y="5197320"/>
                <a:ext cx="530280" cy="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994600" y="5160960"/>
                <a:ext cx="82800" cy="8244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8563320" y="4742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5999040" y="5010120"/>
            <a:ext cx="1430280" cy="1471680"/>
            <a:chOff x="5999040" y="5010120"/>
            <a:chExt cx="1430280" cy="1471680"/>
          </a:xfrm>
        </p:grpSpPr>
        <p:grpSp>
          <p:nvGrpSpPr>
            <p:cNvPr id="1477" name=""/>
            <p:cNvGrpSpPr/>
            <p:nvPr/>
          </p:nvGrpSpPr>
          <p:grpSpPr>
            <a:xfrm>
              <a:off x="5999040" y="5010120"/>
              <a:ext cx="1430280" cy="1471680"/>
              <a:chOff x="5999040" y="5010120"/>
              <a:chExt cx="1430280" cy="147168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5999040" y="6118200"/>
                <a:ext cx="371520" cy="363600"/>
                <a:chOff x="5999040" y="6118200"/>
                <a:chExt cx="371520" cy="36360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5999040" y="6118200"/>
                  <a:ext cx="371520" cy="363600"/>
                </a:xfrm>
                <a:prstGeom prst="ellips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6041520" y="6150600"/>
                  <a:ext cx="296280" cy="294120"/>
                  <a:chOff x="6041520" y="6150600"/>
                  <a:chExt cx="296280" cy="2941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 flipV="1">
                    <a:off x="6041520" y="6191640"/>
                    <a:ext cx="296280" cy="2113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H="1" flipV="1">
                    <a:off x="6082560" y="6150600"/>
                    <a:ext cx="212760" cy="2941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83" name=""/>
              <p:cNvSpPr/>
              <p:nvPr/>
            </p:nvSpPr>
            <p:spPr>
              <a:xfrm>
                <a:off x="6166080" y="5010120"/>
                <a:ext cx="0" cy="1069920"/>
              </a:xfrm>
              <a:prstGeom prst="line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6210720" y="5138640"/>
                <a:ext cx="1218600" cy="12960"/>
              </a:xfrm>
              <a:prstGeom prst="line">
                <a:avLst/>
              </a:prstGeom>
              <a:ln cap="sq"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6286680" y="57582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14200" y="1681200"/>
            <a:ext cx="88408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mposite states share agent´s input que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nternal transitions with the same trigger as external transitions have higher prior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cactly one transition is execut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ossibly concatenated with triggerless 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pecial procedures may be used to define initialisation and finalisatio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lled implicitly upon entering/leaving a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mposite 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66560" y="1344600"/>
            <a:ext cx="4408560" cy="1623960"/>
            <a:chOff x="466560" y="1344600"/>
            <a:chExt cx="4408560" cy="1623960"/>
          </a:xfrm>
        </p:grpSpPr>
        <p:grpSp>
          <p:nvGrpSpPr>
            <p:cNvPr id="121" name=""/>
            <p:cNvGrpSpPr/>
            <p:nvPr/>
          </p:nvGrpSpPr>
          <p:grpSpPr>
            <a:xfrm>
              <a:off x="651600" y="1450800"/>
              <a:ext cx="1197360" cy="354960"/>
              <a:chOff x="651600" y="1450800"/>
              <a:chExt cx="1197360" cy="354960"/>
            </a:xfrm>
          </p:grpSpPr>
          <p:sp>
            <p:nvSpPr>
              <p:cNvPr id="122" name=""/>
              <p:cNvSpPr/>
              <p:nvPr/>
            </p:nvSpPr>
            <p:spPr>
              <a:xfrm>
                <a:off x="651600" y="1535760"/>
                <a:ext cx="1197360" cy="27000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1600" y="1450800"/>
                <a:ext cx="554760" cy="8172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6560" y="1344600"/>
              <a:ext cx="4408560" cy="1623960"/>
            </a:xfrm>
            <a:prstGeom prst="rect">
              <a:avLst/>
            </a:prstGeom>
            <a:noFill/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758680" y="1455840"/>
              <a:ext cx="1197000" cy="354960"/>
              <a:chOff x="2758680" y="1455840"/>
              <a:chExt cx="1197000" cy="354960"/>
            </a:xfrm>
          </p:grpSpPr>
          <p:sp>
            <p:nvSpPr>
              <p:cNvPr id="126" name=""/>
              <p:cNvSpPr/>
              <p:nvPr/>
            </p:nvSpPr>
            <p:spPr>
              <a:xfrm>
                <a:off x="2758680" y="1540800"/>
                <a:ext cx="1197000" cy="27000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58680" y="1455840"/>
                <a:ext cx="554400" cy="8172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72840" y="1985760"/>
              <a:ext cx="1197360" cy="354960"/>
              <a:chOff x="672840" y="1985760"/>
              <a:chExt cx="1197360" cy="354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72840" y="2070720"/>
                <a:ext cx="1197360" cy="27000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2840" y="1985760"/>
                <a:ext cx="554760" cy="8172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427840" y="2180160"/>
              <a:ext cx="2013120" cy="55476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37200" y="1815840"/>
              <a:ext cx="102960" cy="36504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425600" y="2350440"/>
              <a:ext cx="981360" cy="24804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415880" y="1801080"/>
              <a:ext cx="0" cy="26244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480" y="143208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asic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5640" y="14479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asic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480" y="197640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peci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2920" y="22053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MySyste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6560" y="2989080"/>
            <a:ext cx="4462200" cy="1683720"/>
            <a:chOff x="466560" y="2989080"/>
            <a:chExt cx="4462200" cy="1683720"/>
          </a:xfrm>
        </p:grpSpPr>
        <p:grpSp>
          <p:nvGrpSpPr>
            <p:cNvPr id="140" name=""/>
            <p:cNvGrpSpPr/>
            <p:nvPr/>
          </p:nvGrpSpPr>
          <p:grpSpPr>
            <a:xfrm>
              <a:off x="466560" y="2989080"/>
              <a:ext cx="1928520" cy="642600"/>
              <a:chOff x="466560" y="2989080"/>
              <a:chExt cx="1928520" cy="6426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466560" y="3064320"/>
                <a:ext cx="1928520" cy="485640"/>
                <a:chOff x="466560" y="3064320"/>
                <a:chExt cx="1928520" cy="485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66560" y="3067560"/>
                  <a:ext cx="1928520" cy="48240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40200" y="3064320"/>
                  <a:ext cx="25128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95080" y="3081600"/>
                  <a:ext cx="0" cy="22932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1200" y="3081600"/>
                  <a:ext cx="246240" cy="2379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477000" y="2989080"/>
                <a:ext cx="144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use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Basic2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use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Special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72680" y="3507840"/>
              <a:ext cx="4456080" cy="1164960"/>
              <a:chOff x="472680" y="3507840"/>
              <a:chExt cx="4456080" cy="11649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72680" y="3507840"/>
                <a:ext cx="4456080" cy="1164960"/>
                <a:chOff x="472680" y="3507840"/>
                <a:chExt cx="4456080" cy="11649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72680" y="3594960"/>
                  <a:ext cx="4456080" cy="10778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3960" y="3507840"/>
                  <a:ext cx="2317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ystem</a:t>
                  </a: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 MySystem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1001160" y="3968640"/>
                <a:ext cx="1433520" cy="4586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64960" y="3987000"/>
                <a:ext cx="1433520" cy="45864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14160" y="3957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01720" y="3966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496800" y="4746960"/>
            <a:ext cx="4432320" cy="581760"/>
            <a:chOff x="496800" y="4746960"/>
            <a:chExt cx="4432320" cy="581760"/>
          </a:xfrm>
        </p:grpSpPr>
        <p:sp>
          <p:nvSpPr>
            <p:cNvPr id="156" name=""/>
            <p:cNvSpPr/>
            <p:nvPr/>
          </p:nvSpPr>
          <p:spPr>
            <a:xfrm>
              <a:off x="496800" y="4784040"/>
              <a:ext cx="4432320" cy="5446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0880" y="474696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package</a:t>
              </a: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 Basic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77360" y="52347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(.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7120" y="1724760"/>
            <a:ext cx="2759040" cy="642600"/>
          </a:xfrm>
          <a:prstGeom prst="borderCallout2">
            <a:avLst>
              <a:gd name="adj1" fmla="val 18750"/>
              <a:gd name="adj2" fmla="val -8333"/>
              <a:gd name="adj3" fmla="val 19407"/>
              <a:gd name="adj4" fmla="val -2763"/>
              <a:gd name="adj5" fmla="val 66569"/>
              <a:gd name="adj6" fmla="val -15587"/>
            </a:avLst>
          </a:prstGeom>
          <a:noFill/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Dependencies betwe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specification compon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040" y="3042360"/>
            <a:ext cx="2585880" cy="368280"/>
          </a:xfrm>
          <a:prstGeom prst="borderCallout2">
            <a:avLst>
              <a:gd name="adj1" fmla="val 18750"/>
              <a:gd name="adj2" fmla="val -8333"/>
              <a:gd name="adj3" fmla="val 33643"/>
              <a:gd name="adj4" fmla="val -2944"/>
              <a:gd name="adj5" fmla="val 135347"/>
              <a:gd name="adj6" fmla="val -21657"/>
            </a:avLst>
          </a:prstGeom>
          <a:noFill/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System specifi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040" y="4749120"/>
            <a:ext cx="275904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763"/>
              <a:gd name="adj5" fmla="val 92870"/>
              <a:gd name="adj6" fmla="val -16907"/>
            </a:avLst>
          </a:prstGeom>
          <a:noFill/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Package specification(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040" y="5983920"/>
            <a:ext cx="275904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763"/>
              <a:gd name="adj5" fmla="val 77046"/>
              <a:gd name="adj6" fmla="val -17361"/>
            </a:avLst>
          </a:prstGeom>
          <a:noFill/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Referenced definition(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06520" y="5792040"/>
            <a:ext cx="4432320" cy="639000"/>
            <a:chOff x="506520" y="5792040"/>
            <a:chExt cx="4432320" cy="639000"/>
          </a:xfrm>
        </p:grpSpPr>
        <p:grpSp>
          <p:nvGrpSpPr>
            <p:cNvPr id="164" name=""/>
            <p:cNvGrpSpPr/>
            <p:nvPr/>
          </p:nvGrpSpPr>
          <p:grpSpPr>
            <a:xfrm>
              <a:off x="506520" y="5792040"/>
              <a:ext cx="4432320" cy="639000"/>
              <a:chOff x="506520" y="5792040"/>
              <a:chExt cx="4432320" cy="639000"/>
            </a:xfrm>
          </p:grpSpPr>
          <p:sp>
            <p:nvSpPr>
              <p:cNvPr id="165" name=""/>
              <p:cNvSpPr/>
              <p:nvPr/>
            </p:nvSpPr>
            <p:spPr>
              <a:xfrm>
                <a:off x="506520" y="5803560"/>
                <a:ext cx="4432320" cy="6274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920" y="5792040"/>
                <a:ext cx="108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 A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384280" y="596628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(...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2880" y="2901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DL-2000 Specification Structur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"/>
          <p:cNvGrpSpPr/>
          <p:nvPr/>
        </p:nvGrpSpPr>
        <p:grpSpPr>
          <a:xfrm>
            <a:off x="704520" y="3348000"/>
            <a:ext cx="1518840" cy="2527200"/>
            <a:chOff x="704520" y="3348000"/>
            <a:chExt cx="1518840" cy="2527200"/>
          </a:xfrm>
        </p:grpSpPr>
        <p:cxnSp>
          <p:nvCxnSpPr>
            <p:cNvPr id="1489" name=""/>
            <p:cNvCxnSpPr>
              <a:stCxn id="1490" idx="0"/>
              <a:endCxn id="1491" idx="0"/>
            </p:cNvCxnSpPr>
            <p:nvPr/>
          </p:nvCxnSpPr>
          <p:spPr>
            <a:xfrm>
              <a:off x="1463400" y="4718160"/>
              <a:ext cx="1080" cy="6055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492" name=""/>
            <p:cNvGrpSpPr/>
            <p:nvPr/>
          </p:nvGrpSpPr>
          <p:grpSpPr>
            <a:xfrm>
              <a:off x="763560" y="3348000"/>
              <a:ext cx="1400040" cy="469800"/>
              <a:chOff x="763560" y="3348000"/>
              <a:chExt cx="1400040" cy="469800"/>
            </a:xfrm>
          </p:grpSpPr>
          <p:sp>
            <p:nvSpPr>
              <p:cNvPr id="1493" name=""/>
              <p:cNvSpPr/>
              <p:nvPr/>
            </p:nvSpPr>
            <p:spPr>
              <a:xfrm>
                <a:off x="763560" y="3348000"/>
                <a:ext cx="1400040" cy="46980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965520" y="338220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763560" y="5332320"/>
              <a:ext cx="1400040" cy="542880"/>
              <a:chOff x="763560" y="5332320"/>
              <a:chExt cx="1400040" cy="542880"/>
            </a:xfrm>
          </p:grpSpPr>
          <p:sp>
            <p:nvSpPr>
              <p:cNvPr id="1491" name=""/>
              <p:cNvSpPr/>
              <p:nvPr/>
            </p:nvSpPr>
            <p:spPr>
              <a:xfrm>
                <a:off x="763560" y="5332320"/>
                <a:ext cx="1400040" cy="5428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334160" y="54028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497" name=""/>
            <p:cNvCxnSpPr>
              <a:stCxn id="1493" idx="2"/>
              <a:endCxn id="1490" idx="2"/>
            </p:cNvCxnSpPr>
            <p:nvPr/>
          </p:nvCxnSpPr>
          <p:spPr>
            <a:xfrm>
              <a:off x="1463400" y="3827520"/>
              <a:ext cx="1080" cy="4435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498" name=""/>
            <p:cNvGrpSpPr/>
            <p:nvPr/>
          </p:nvGrpSpPr>
          <p:grpSpPr>
            <a:xfrm>
              <a:off x="704520" y="4274640"/>
              <a:ext cx="1518840" cy="436680"/>
              <a:chOff x="704520" y="4274640"/>
              <a:chExt cx="1518840" cy="436680"/>
            </a:xfrm>
          </p:grpSpPr>
          <p:sp>
            <p:nvSpPr>
              <p:cNvPr id="1490" name=""/>
              <p:cNvSpPr/>
              <p:nvPr/>
            </p:nvSpPr>
            <p:spPr>
              <a:xfrm rot="10800000">
                <a:off x="704520" y="4276800"/>
                <a:ext cx="1515960" cy="4316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16200000">
                <a:off x="1796040" y="4285800"/>
                <a:ext cx="42228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2218680" y="4274640"/>
                <a:ext cx="4680" cy="4366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43840" y="43106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2" name=""/>
          <p:cNvGrpSpPr/>
          <p:nvPr/>
        </p:nvGrpSpPr>
        <p:grpSpPr>
          <a:xfrm>
            <a:off x="1462680" y="3827160"/>
            <a:ext cx="2532240" cy="2065680"/>
            <a:chOff x="1462680" y="3827160"/>
            <a:chExt cx="2532240" cy="2065680"/>
          </a:xfrm>
        </p:grpSpPr>
        <p:cxnSp>
          <p:nvCxnSpPr>
            <p:cNvPr id="1503" name=""/>
            <p:cNvCxnSpPr>
              <a:stCxn id="1493" idx="2"/>
            </p:cNvCxnSpPr>
            <p:nvPr/>
          </p:nvCxnSpPr>
          <p:spPr>
            <a:xfrm flipH="1" rot="16200000">
              <a:off x="2141280" y="3148560"/>
              <a:ext cx="415080" cy="1772280"/>
            </a:xfrm>
            <a:prstGeom prst="bentConnector3">
              <a:avLst>
                <a:gd name="adj1" fmla="val 50520"/>
              </a:avLst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504" name=""/>
            <p:cNvCxnSpPr>
              <a:stCxn id="1505" idx="0"/>
              <a:endCxn id="1506" idx="0"/>
            </p:cNvCxnSpPr>
            <p:nvPr/>
          </p:nvCxnSpPr>
          <p:spPr>
            <a:xfrm>
              <a:off x="3234960" y="4718160"/>
              <a:ext cx="1080" cy="6210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507" name=""/>
            <p:cNvGrpSpPr/>
            <p:nvPr/>
          </p:nvGrpSpPr>
          <p:grpSpPr>
            <a:xfrm>
              <a:off x="2535120" y="5348160"/>
              <a:ext cx="1400400" cy="544680"/>
              <a:chOff x="2535120" y="5348160"/>
              <a:chExt cx="1400400" cy="544680"/>
            </a:xfrm>
          </p:grpSpPr>
          <p:sp>
            <p:nvSpPr>
              <p:cNvPr id="1506" name=""/>
              <p:cNvSpPr/>
              <p:nvPr/>
            </p:nvSpPr>
            <p:spPr>
              <a:xfrm>
                <a:off x="2535120" y="5348160"/>
                <a:ext cx="1400400" cy="5446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056400" y="5420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-*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476080" y="4274640"/>
              <a:ext cx="1518840" cy="436680"/>
              <a:chOff x="2476080" y="4274640"/>
              <a:chExt cx="1518840" cy="436680"/>
            </a:xfrm>
          </p:grpSpPr>
          <p:sp>
            <p:nvSpPr>
              <p:cNvPr id="1505" name=""/>
              <p:cNvSpPr/>
              <p:nvPr/>
            </p:nvSpPr>
            <p:spPr>
              <a:xfrm rot="10800000">
                <a:off x="2476080" y="4276800"/>
                <a:ext cx="1515960" cy="4316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6200000">
                <a:off x="3567600" y="4285800"/>
                <a:ext cx="42228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flipV="1">
                <a:off x="3990240" y="4274640"/>
                <a:ext cx="4680" cy="4366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615400" y="43106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3" name=""/>
          <p:cNvGrpSpPr/>
          <p:nvPr/>
        </p:nvGrpSpPr>
        <p:grpSpPr>
          <a:xfrm>
            <a:off x="1462680" y="3816360"/>
            <a:ext cx="4097520" cy="2065320"/>
            <a:chOff x="1462680" y="3816360"/>
            <a:chExt cx="4097520" cy="2065320"/>
          </a:xfrm>
        </p:grpSpPr>
        <p:cxnSp>
          <p:nvCxnSpPr>
            <p:cNvPr id="1514" name=""/>
            <p:cNvCxnSpPr>
              <a:stCxn id="1493" idx="2"/>
              <a:endCxn id="1515" idx="2"/>
            </p:cNvCxnSpPr>
            <p:nvPr/>
          </p:nvCxnSpPr>
          <p:spPr>
            <a:xfrm flipH="1" rot="16200000">
              <a:off x="2909880" y="2369160"/>
              <a:ext cx="443520" cy="3337560"/>
            </a:xfrm>
            <a:prstGeom prst="bentConnector3">
              <a:avLst>
                <a:gd name="adj1" fmla="val 49796"/>
              </a:avLst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516" name=""/>
            <p:cNvCxnSpPr>
              <a:stCxn id="1515" idx="0"/>
              <a:endCxn id="1517" idx="0"/>
            </p:cNvCxnSpPr>
            <p:nvPr/>
          </p:nvCxnSpPr>
          <p:spPr>
            <a:xfrm>
              <a:off x="4800240" y="4707000"/>
              <a:ext cx="1080" cy="6210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518" name=""/>
            <p:cNvGrpSpPr/>
            <p:nvPr/>
          </p:nvGrpSpPr>
          <p:grpSpPr>
            <a:xfrm>
              <a:off x="4100400" y="5337000"/>
              <a:ext cx="1400400" cy="544680"/>
              <a:chOff x="4100400" y="5337000"/>
              <a:chExt cx="1400400" cy="544680"/>
            </a:xfrm>
          </p:grpSpPr>
          <p:sp>
            <p:nvSpPr>
              <p:cNvPr id="1517" name=""/>
              <p:cNvSpPr/>
              <p:nvPr/>
            </p:nvSpPr>
            <p:spPr>
              <a:xfrm>
                <a:off x="4100400" y="5337000"/>
                <a:ext cx="1400400" cy="5446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349520" y="540936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4041360" y="4263480"/>
              <a:ext cx="1518840" cy="436680"/>
              <a:chOff x="4041360" y="4263480"/>
              <a:chExt cx="1518840" cy="436680"/>
            </a:xfrm>
          </p:grpSpPr>
          <p:sp>
            <p:nvSpPr>
              <p:cNvPr id="1515" name=""/>
              <p:cNvSpPr/>
              <p:nvPr/>
            </p:nvSpPr>
            <p:spPr>
              <a:xfrm rot="10800000">
                <a:off x="4041360" y="4265640"/>
                <a:ext cx="1515960" cy="43164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6200000">
                <a:off x="5132880" y="4274640"/>
                <a:ext cx="42228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flipV="1">
                <a:off x="5555520" y="4263480"/>
                <a:ext cx="4680" cy="43668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180680" y="429948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4" name=""/>
          <p:cNvGrpSpPr/>
          <p:nvPr/>
        </p:nvGrpSpPr>
        <p:grpSpPr>
          <a:xfrm>
            <a:off x="820800" y="531720"/>
            <a:ext cx="4786200" cy="3304800"/>
            <a:chOff x="820800" y="531720"/>
            <a:chExt cx="4786200" cy="3304800"/>
          </a:xfrm>
        </p:grpSpPr>
        <p:sp>
          <p:nvSpPr>
            <p:cNvPr id="1525" name=""/>
            <p:cNvSpPr/>
            <p:nvPr/>
          </p:nvSpPr>
          <p:spPr>
            <a:xfrm flipV="1">
              <a:off x="820800" y="531720"/>
              <a:ext cx="1763640" cy="281160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936800" y="3344400"/>
              <a:ext cx="3670200" cy="49212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3746520" y="1237320"/>
            <a:ext cx="5114520" cy="2748960"/>
            <a:chOff x="3746520" y="1237320"/>
            <a:chExt cx="5114520" cy="2748960"/>
          </a:xfrm>
        </p:grpSpPr>
        <p:grpSp>
          <p:nvGrpSpPr>
            <p:cNvPr id="1528" name=""/>
            <p:cNvGrpSpPr/>
            <p:nvPr/>
          </p:nvGrpSpPr>
          <p:grpSpPr>
            <a:xfrm>
              <a:off x="7265880" y="1237320"/>
              <a:ext cx="1595160" cy="2748960"/>
              <a:chOff x="7265880" y="1237320"/>
              <a:chExt cx="1595160" cy="2748960"/>
            </a:xfrm>
          </p:grpSpPr>
          <p:sp>
            <p:nvSpPr>
              <p:cNvPr id="1529" name=""/>
              <p:cNvSpPr/>
              <p:nvPr/>
            </p:nvSpPr>
            <p:spPr>
              <a:xfrm>
                <a:off x="7265880" y="1287720"/>
                <a:ext cx="1595160" cy="26985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7383240" y="1619280"/>
                <a:ext cx="927000" cy="479880"/>
                <a:chOff x="7383240" y="1619280"/>
                <a:chExt cx="927000" cy="47988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7383240" y="1619280"/>
                  <a:ext cx="927000" cy="31716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2" name=""/>
                <p:cNvCxnSpPr>
                  <a:stCxn id="1531" idx="2"/>
                  <a:endCxn id="1533" idx="0"/>
                </p:cNvCxnSpPr>
                <p:nvPr/>
              </p:nvCxnSpPr>
              <p:spPr>
                <a:xfrm>
                  <a:off x="7846200" y="1941840"/>
                  <a:ext cx="1080" cy="157680"/>
                </a:xfrm>
                <a:prstGeom prst="straightConnector1">
                  <a:avLst/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534" name=""/>
              <p:cNvGrpSpPr/>
              <p:nvPr/>
            </p:nvGrpSpPr>
            <p:grpSpPr>
              <a:xfrm>
                <a:off x="7383240" y="2061360"/>
                <a:ext cx="927000" cy="398880"/>
                <a:chOff x="7383240" y="2061360"/>
                <a:chExt cx="927000" cy="3988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383240" y="2104200"/>
                  <a:ext cx="927000" cy="31644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7400160" y="2061360"/>
                  <a:ext cx="84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1_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6" name=""/>
              <p:cNvSpPr/>
              <p:nvPr/>
            </p:nvSpPr>
            <p:spPr>
              <a:xfrm>
                <a:off x="7408800" y="123732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7426080" y="2737440"/>
                <a:ext cx="900000" cy="1101240"/>
                <a:chOff x="7426080" y="2737440"/>
                <a:chExt cx="900000" cy="1101240"/>
              </a:xfrm>
            </p:grpSpPr>
            <p:cxnSp>
              <p:nvCxnSpPr>
                <p:cNvPr id="1538" name=""/>
                <p:cNvCxnSpPr>
                  <a:stCxn id="1539" idx="2"/>
                  <a:endCxn id="1540" idx="0"/>
                </p:cNvCxnSpPr>
                <p:nvPr/>
              </p:nvCxnSpPr>
              <p:spPr>
                <a:xfrm flipH="1">
                  <a:off x="7874640" y="3173400"/>
                  <a:ext cx="2160" cy="316800"/>
                </a:xfrm>
                <a:prstGeom prst="straightConnector1">
                  <a:avLst/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541" name=""/>
                <p:cNvGrpSpPr/>
                <p:nvPr/>
              </p:nvGrpSpPr>
              <p:grpSpPr>
                <a:xfrm>
                  <a:off x="7713360" y="3498840"/>
                  <a:ext cx="323280" cy="339840"/>
                  <a:chOff x="7713360" y="3498840"/>
                  <a:chExt cx="323280" cy="33984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7713360" y="3498840"/>
                    <a:ext cx="323280" cy="339840"/>
                  </a:xfrm>
                  <a:prstGeom prst="ellipse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2" name=""/>
                  <p:cNvGrpSpPr/>
                  <p:nvPr/>
                </p:nvGrpSpPr>
                <p:grpSpPr>
                  <a:xfrm>
                    <a:off x="7750440" y="3529080"/>
                    <a:ext cx="257760" cy="274680"/>
                    <a:chOff x="7750440" y="3529080"/>
                    <a:chExt cx="257760" cy="274680"/>
                  </a:xfrm>
                </p:grpSpPr>
                <p:sp>
                  <p:nvSpPr>
                    <p:cNvPr id="1543" name=""/>
                    <p:cNvSpPr/>
                    <p:nvPr/>
                  </p:nvSpPr>
                  <p:spPr>
                    <a:xfrm flipV="1">
                      <a:off x="7750440" y="3567960"/>
                      <a:ext cx="257760" cy="197280"/>
                    </a:xfrm>
                    <a:prstGeom prst="line">
                      <a:avLst/>
                    </a:prstGeom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H="1" flipV="1">
                      <a:off x="7786080" y="3529080"/>
                      <a:ext cx="185400" cy="274680"/>
                    </a:xfrm>
                    <a:prstGeom prst="line">
                      <a:avLst/>
                    </a:prstGeom>
                    <a:ln cap="sq" w="1908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45" name=""/>
                <p:cNvSpPr/>
                <p:nvPr/>
              </p:nvSpPr>
              <p:spPr>
                <a:xfrm>
                  <a:off x="7426080" y="2768760"/>
                  <a:ext cx="900000" cy="43956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426080" y="2835360"/>
                  <a:ext cx="900000" cy="33012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630920" y="2737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47" name=""/>
              <p:cNvCxnSpPr>
                <a:stCxn id="1535" idx="2"/>
                <a:endCxn id="1546" idx="0"/>
              </p:cNvCxnSpPr>
              <p:nvPr/>
            </p:nvCxnSpPr>
            <p:spPr>
              <a:xfrm flipV="1" rot="10800000">
                <a:off x="7822080" y="2458800"/>
                <a:ext cx="1080" cy="280080"/>
              </a:xfrm>
              <a:prstGeom prst="bentConnector2">
                <a:avLst/>
              </a:prstGeom>
              <a:ln cap="sq" w="1908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  <p:sp>
          <p:nvSpPr>
            <p:cNvPr id="1548" name=""/>
            <p:cNvSpPr/>
            <p:nvPr/>
          </p:nvSpPr>
          <p:spPr>
            <a:xfrm flipV="1">
              <a:off x="3746520" y="1287000"/>
              <a:ext cx="3506760" cy="12708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57680" y="1778040"/>
              <a:ext cx="3483000" cy="218916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2575080" y="500400"/>
            <a:ext cx="3076560" cy="2841120"/>
            <a:chOff x="2575080" y="500400"/>
            <a:chExt cx="3076560" cy="2841120"/>
          </a:xfrm>
        </p:grpSpPr>
        <p:grpSp>
          <p:nvGrpSpPr>
            <p:cNvPr id="1551" name=""/>
            <p:cNvGrpSpPr/>
            <p:nvPr/>
          </p:nvGrpSpPr>
          <p:grpSpPr>
            <a:xfrm>
              <a:off x="2575080" y="500400"/>
              <a:ext cx="3076560" cy="2841120"/>
              <a:chOff x="2575080" y="500400"/>
              <a:chExt cx="3076560" cy="284112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75080" y="538200"/>
                <a:ext cx="3076560" cy="28033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2714760" y="893880"/>
                <a:ext cx="1103400" cy="512640"/>
                <a:chOff x="2714760" y="893880"/>
                <a:chExt cx="1103400" cy="51264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2714760" y="893880"/>
                  <a:ext cx="1103400" cy="338760"/>
                </a:xfrm>
                <a:prstGeom prst="roundRect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5" name=""/>
                <p:cNvCxnSpPr>
                  <a:stCxn id="1554" idx="2"/>
                  <a:endCxn id="1556" idx="0"/>
                </p:cNvCxnSpPr>
                <p:nvPr/>
              </p:nvCxnSpPr>
              <p:spPr>
                <a:xfrm>
                  <a:off x="3265920" y="1238400"/>
                  <a:ext cx="1080" cy="168480"/>
                </a:xfrm>
                <a:prstGeom prst="straightConnector1">
                  <a:avLst/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1557" name=""/>
              <p:cNvCxnSpPr>
                <a:stCxn id="1558" idx="0"/>
              </p:cNvCxnSpPr>
              <p:nvPr/>
            </p:nvCxnSpPr>
            <p:spPr>
              <a:xfrm>
                <a:off x="3267000" y="2398680"/>
                <a:ext cx="1080" cy="44064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559" name=""/>
              <p:cNvGrpSpPr/>
              <p:nvPr/>
            </p:nvGrpSpPr>
            <p:grpSpPr>
              <a:xfrm>
                <a:off x="2714760" y="1380240"/>
                <a:ext cx="1103400" cy="398880"/>
                <a:chOff x="2714760" y="1380240"/>
                <a:chExt cx="1103400" cy="3988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2714760" y="1411560"/>
                  <a:ext cx="1103400" cy="339120"/>
                </a:xfrm>
                <a:prstGeom prst="roundRect">
                  <a:avLst>
                    <a:gd name="adj" fmla="val 33611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2954160" y="1380240"/>
                  <a:ext cx="56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t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61" name=""/>
              <p:cNvCxnSpPr>
                <a:stCxn id="1562" idx="0"/>
              </p:cNvCxnSpPr>
              <p:nvPr/>
            </p:nvCxnSpPr>
            <p:spPr>
              <a:xfrm>
                <a:off x="4579920" y="2409840"/>
                <a:ext cx="3960" cy="41040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grpSp>
            <p:nvGrpSpPr>
              <p:cNvPr id="1563" name=""/>
              <p:cNvGrpSpPr/>
              <p:nvPr/>
            </p:nvGrpSpPr>
            <p:grpSpPr>
              <a:xfrm>
                <a:off x="2668680" y="1757160"/>
                <a:ext cx="1196640" cy="693720"/>
                <a:chOff x="2668680" y="1757160"/>
                <a:chExt cx="1196640" cy="693720"/>
              </a:xfrm>
            </p:grpSpPr>
            <p:grpSp>
              <p:nvGrpSpPr>
                <p:cNvPr id="1564" name=""/>
                <p:cNvGrpSpPr/>
                <p:nvPr/>
              </p:nvGrpSpPr>
              <p:grpSpPr>
                <a:xfrm>
                  <a:off x="2668680" y="2080440"/>
                  <a:ext cx="1196640" cy="314280"/>
                  <a:chOff x="2668680" y="2080440"/>
                  <a:chExt cx="1196640" cy="31428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 rot="10800000">
                    <a:off x="2668680" y="2082600"/>
                    <a:ext cx="1194840" cy="310320"/>
                  </a:xfrm>
                  <a:prstGeom prst="flowChartProcess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rot="16200000">
                    <a:off x="3543480" y="2074680"/>
                    <a:ext cx="303840" cy="328680"/>
                  </a:xfrm>
                  <a:prstGeom prst="flowChartExtra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H="1" flipV="1">
                    <a:off x="3862080" y="2080440"/>
                    <a:ext cx="3240" cy="31428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1567" name=""/>
                <p:cNvCxnSpPr>
                  <a:stCxn id="1556" idx="2"/>
                  <a:endCxn id="1558" idx="2"/>
                </p:cNvCxnSpPr>
                <p:nvPr/>
              </p:nvCxnSpPr>
              <p:spPr>
                <a:xfrm>
                  <a:off x="3266640" y="1757160"/>
                  <a:ext cx="1080" cy="321480"/>
                </a:xfrm>
                <a:prstGeom prst="straightConnector1">
                  <a:avLst/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  <p:sp>
              <p:nvSpPr>
                <p:cNvPr id="1568" name=""/>
                <p:cNvSpPr/>
                <p:nvPr/>
              </p:nvSpPr>
              <p:spPr>
                <a:xfrm>
                  <a:off x="2705760" y="2052000"/>
                  <a:ext cx="689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ig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3266280" y="1757520"/>
                <a:ext cx="1914480" cy="685080"/>
                <a:chOff x="3266280" y="1757520"/>
                <a:chExt cx="1914480" cy="685080"/>
              </a:xfrm>
            </p:grpSpPr>
            <p:grpSp>
              <p:nvGrpSpPr>
                <p:cNvPr id="1570" name=""/>
                <p:cNvGrpSpPr/>
                <p:nvPr/>
              </p:nvGrpSpPr>
              <p:grpSpPr>
                <a:xfrm>
                  <a:off x="3984120" y="2088720"/>
                  <a:ext cx="1196640" cy="314640"/>
                  <a:chOff x="3984120" y="2088720"/>
                  <a:chExt cx="1196640" cy="31464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 rot="10800000">
                    <a:off x="3984120" y="2090160"/>
                    <a:ext cx="1194840" cy="310680"/>
                  </a:xfrm>
                  <a:prstGeom prst="flowChartProcess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rot="16200000">
                    <a:off x="4858920" y="2082600"/>
                    <a:ext cx="304200" cy="328680"/>
                  </a:xfrm>
                  <a:prstGeom prst="flowChartExtract">
                    <a:avLst/>
                  </a:prstGeom>
                  <a:noFill/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flipH="1" flipV="1">
                    <a:off x="5177520" y="2088720"/>
                    <a:ext cx="3240" cy="314640"/>
                  </a:xfrm>
                  <a:prstGeom prst="line">
                    <a:avLst/>
                  </a:prstGeom>
                  <a:ln cap="sq" w="381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1573" name=""/>
                <p:cNvCxnSpPr>
                  <a:stCxn id="1556" idx="2"/>
                  <a:endCxn id="1562" idx="2"/>
                </p:cNvCxnSpPr>
                <p:nvPr/>
              </p:nvCxnSpPr>
              <p:spPr>
                <a:xfrm flipH="1" rot="16200000">
                  <a:off x="3759840" y="1263960"/>
                  <a:ext cx="329040" cy="1315800"/>
                </a:xfrm>
                <a:prstGeom prst="bentConnector3">
                  <a:avLst>
                    <a:gd name="adj1" fmla="val 49616"/>
                  </a:avLst>
                </a:prstGeom>
                <a:ln cap="sq" w="12600">
                  <a:solidFill>
                    <a:srgbClr val="eaeaea"/>
                  </a:solidFill>
                  <a:miter/>
                  <a:tailEnd len="med" type="triangle" w="med"/>
                </a:ln>
              </p:spPr>
            </p:cxnSp>
            <p:sp>
              <p:nvSpPr>
                <p:cNvPr id="1574" name=""/>
                <p:cNvSpPr/>
                <p:nvPr/>
              </p:nvSpPr>
              <p:spPr>
                <a:xfrm>
                  <a:off x="4013640" y="2043720"/>
                  <a:ext cx="689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eaeaea"/>
                      </a:solidFill>
                      <a:latin typeface="Arial"/>
                    </a:rPr>
                    <a:t>Sig4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3056400" y="2867040"/>
                <a:ext cx="384120" cy="363600"/>
                <a:chOff x="3056400" y="2867040"/>
                <a:chExt cx="384120" cy="36360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3056400" y="2867040"/>
                  <a:ext cx="384120" cy="363600"/>
                </a:xfrm>
                <a:prstGeom prst="ellips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7" name=""/>
                <p:cNvGrpSpPr/>
                <p:nvPr/>
              </p:nvGrpSpPr>
              <p:grpSpPr>
                <a:xfrm>
                  <a:off x="3100320" y="2899440"/>
                  <a:ext cx="306000" cy="294120"/>
                  <a:chOff x="3100320" y="2899440"/>
                  <a:chExt cx="306000" cy="29412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 flipV="1">
                    <a:off x="3100320" y="2940480"/>
                    <a:ext cx="306000" cy="2113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 flipV="1">
                    <a:off x="3142800" y="2899440"/>
                    <a:ext cx="219960" cy="2941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4385160" y="2843280"/>
                <a:ext cx="384120" cy="363600"/>
                <a:chOff x="4385160" y="2843280"/>
                <a:chExt cx="384120" cy="36360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4385160" y="2843280"/>
                  <a:ext cx="384120" cy="363600"/>
                </a:xfrm>
                <a:prstGeom prst="ellips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4429080" y="2875680"/>
                  <a:ext cx="306000" cy="294120"/>
                  <a:chOff x="4429080" y="2875680"/>
                  <a:chExt cx="306000" cy="2941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 flipV="1">
                    <a:off x="4429080" y="2916720"/>
                    <a:ext cx="306000" cy="2113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flipV="1">
                    <a:off x="4471560" y="2875680"/>
                    <a:ext cx="219960" cy="294120"/>
                  </a:xfrm>
                  <a:prstGeom prst="line">
                    <a:avLst/>
                  </a:prstGeom>
                  <a:ln cap="sq"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5" name=""/>
              <p:cNvSpPr/>
              <p:nvPr/>
            </p:nvSpPr>
            <p:spPr>
              <a:xfrm>
                <a:off x="2594520" y="5004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4384800" y="632160"/>
              <a:ext cx="1163520" cy="408960"/>
              <a:chOff x="4384800" y="632160"/>
              <a:chExt cx="1163520" cy="408960"/>
            </a:xfrm>
          </p:grpSpPr>
          <p:grpSp>
            <p:nvGrpSpPr>
              <p:cNvPr id="1587" name=""/>
              <p:cNvGrpSpPr/>
              <p:nvPr/>
            </p:nvGrpSpPr>
            <p:grpSpPr>
              <a:xfrm>
                <a:off x="4384800" y="672480"/>
                <a:ext cx="1163520" cy="368640"/>
                <a:chOff x="4384800" y="672480"/>
                <a:chExt cx="1163520" cy="36864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4384800" y="672480"/>
                  <a:ext cx="1163520" cy="367200"/>
                </a:xfrm>
                <a:prstGeom prst="octagon">
                  <a:avLst>
                    <a:gd name="adj" fmla="val 29287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4509720" y="672480"/>
                  <a:ext cx="0" cy="3686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5428080" y="672480"/>
                  <a:ext cx="0" cy="36864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1" name=""/>
              <p:cNvSpPr/>
              <p:nvPr/>
            </p:nvSpPr>
            <p:spPr>
              <a:xfrm>
                <a:off x="4583520" y="63216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entry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4384800" y="1113120"/>
              <a:ext cx="1163520" cy="408960"/>
              <a:chOff x="4384800" y="1113120"/>
              <a:chExt cx="1163520" cy="408960"/>
            </a:xfrm>
          </p:grpSpPr>
          <p:grpSp>
            <p:nvGrpSpPr>
              <p:cNvPr id="1593" name=""/>
              <p:cNvGrpSpPr/>
              <p:nvPr/>
            </p:nvGrpSpPr>
            <p:grpSpPr>
              <a:xfrm>
                <a:off x="4384800" y="1153800"/>
                <a:ext cx="1163520" cy="368280"/>
                <a:chOff x="4384800" y="1153800"/>
                <a:chExt cx="1163520" cy="36828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4384800" y="1153800"/>
                  <a:ext cx="1163520" cy="366840"/>
                </a:xfrm>
                <a:prstGeom prst="octagon">
                  <a:avLst>
                    <a:gd name="adj" fmla="val 29287"/>
                  </a:avLst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4509720" y="1153800"/>
                  <a:ext cx="0" cy="3682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428080" y="1153800"/>
                  <a:ext cx="0" cy="36828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4667760" y="11131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exit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"/>
          <p:cNvSpPr/>
          <p:nvPr/>
        </p:nvSpPr>
        <p:spPr>
          <a:xfrm>
            <a:off x="5013720" y="6177600"/>
            <a:ext cx="184356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37629"/>
              <a:gd name="adj5" fmla="val -75000"/>
              <a:gd name="adj6" fmla="val -73523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history nextsta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434640" y="203760"/>
            <a:ext cx="2497320" cy="36828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19333"/>
              <a:gd name="adj5" fmla="val 234375"/>
              <a:gd name="adj6" fmla="val -37111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initialization/finaliz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State Aggreg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aggregations partition the state space of an agents 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partition handles a different set of the input stimu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cactly one partition is executing a transition at any point in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enabled transitions are executed in an interleaved mann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2" name=""/>
          <p:cNvGrpSpPr/>
          <p:nvPr/>
        </p:nvGrpSpPr>
        <p:grpSpPr>
          <a:xfrm>
            <a:off x="5397480" y="167040"/>
            <a:ext cx="3076560" cy="2841120"/>
            <a:chOff x="5397480" y="167040"/>
            <a:chExt cx="3076560" cy="2841120"/>
          </a:xfrm>
        </p:grpSpPr>
        <p:sp>
          <p:nvSpPr>
            <p:cNvPr id="1603" name=""/>
            <p:cNvSpPr/>
            <p:nvPr/>
          </p:nvSpPr>
          <p:spPr>
            <a:xfrm>
              <a:off x="5397480" y="204840"/>
              <a:ext cx="3076560" cy="28033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5537160" y="560520"/>
              <a:ext cx="1103400" cy="512640"/>
              <a:chOff x="5537160" y="560520"/>
              <a:chExt cx="1103400" cy="512640"/>
            </a:xfrm>
          </p:grpSpPr>
          <p:sp>
            <p:nvSpPr>
              <p:cNvPr id="1605" name=""/>
              <p:cNvSpPr/>
              <p:nvPr/>
            </p:nvSpPr>
            <p:spPr>
              <a:xfrm>
                <a:off x="5537160" y="560520"/>
                <a:ext cx="1103400" cy="338760"/>
              </a:xfrm>
              <a:prstGeom prst="roundRect">
                <a:avLst>
                  <a:gd name="adj" fmla="val 50000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606" name=""/>
              <p:cNvCxnSpPr>
                <a:stCxn id="1605" idx="2"/>
                <a:endCxn id="1607" idx="0"/>
              </p:cNvCxnSpPr>
              <p:nvPr/>
            </p:nvCxnSpPr>
            <p:spPr>
              <a:xfrm>
                <a:off x="6088320" y="905040"/>
                <a:ext cx="1080" cy="168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  <p:cxnSp>
          <p:nvCxnSpPr>
            <p:cNvPr id="1608" name=""/>
            <p:cNvCxnSpPr>
              <a:stCxn id="1609" idx="0"/>
            </p:cNvCxnSpPr>
            <p:nvPr/>
          </p:nvCxnSpPr>
          <p:spPr>
            <a:xfrm>
              <a:off x="6089400" y="2065320"/>
              <a:ext cx="1080" cy="44064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610" name=""/>
            <p:cNvGrpSpPr/>
            <p:nvPr/>
          </p:nvGrpSpPr>
          <p:grpSpPr>
            <a:xfrm>
              <a:off x="5537160" y="1046880"/>
              <a:ext cx="1103400" cy="398880"/>
              <a:chOff x="5537160" y="1046880"/>
              <a:chExt cx="1103400" cy="398880"/>
            </a:xfrm>
          </p:grpSpPr>
          <p:sp>
            <p:nvSpPr>
              <p:cNvPr id="1607" name=""/>
              <p:cNvSpPr/>
              <p:nvPr/>
            </p:nvSpPr>
            <p:spPr>
              <a:xfrm>
                <a:off x="5537160" y="1078200"/>
                <a:ext cx="1103400" cy="33912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776560" y="1046880"/>
                <a:ext cx="56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612" name=""/>
            <p:cNvCxnSpPr>
              <a:stCxn id="1613" idx="0"/>
            </p:cNvCxnSpPr>
            <p:nvPr/>
          </p:nvCxnSpPr>
          <p:spPr>
            <a:xfrm>
              <a:off x="7402320" y="2076480"/>
              <a:ext cx="3960" cy="4104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614" name=""/>
            <p:cNvGrpSpPr/>
            <p:nvPr/>
          </p:nvGrpSpPr>
          <p:grpSpPr>
            <a:xfrm>
              <a:off x="5491080" y="1423800"/>
              <a:ext cx="1196640" cy="693720"/>
              <a:chOff x="5491080" y="1423800"/>
              <a:chExt cx="1196640" cy="693720"/>
            </a:xfrm>
          </p:grpSpPr>
          <p:grpSp>
            <p:nvGrpSpPr>
              <p:cNvPr id="1615" name=""/>
              <p:cNvGrpSpPr/>
              <p:nvPr/>
            </p:nvGrpSpPr>
            <p:grpSpPr>
              <a:xfrm>
                <a:off x="5491080" y="1747080"/>
                <a:ext cx="1196640" cy="314280"/>
                <a:chOff x="5491080" y="1747080"/>
                <a:chExt cx="1196640" cy="314280"/>
              </a:xfrm>
            </p:grpSpPr>
            <p:sp>
              <p:nvSpPr>
                <p:cNvPr id="1609" name=""/>
                <p:cNvSpPr/>
                <p:nvPr/>
              </p:nvSpPr>
              <p:spPr>
                <a:xfrm rot="10800000">
                  <a:off x="5491080" y="1749240"/>
                  <a:ext cx="1194840" cy="31032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6200000">
                  <a:off x="6365880" y="1741320"/>
                  <a:ext cx="303840" cy="3286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 flipV="1">
                  <a:off x="6684480" y="1747080"/>
                  <a:ext cx="3240" cy="31428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618" name=""/>
              <p:cNvCxnSpPr>
                <a:stCxn id="1607" idx="2"/>
                <a:endCxn id="1609" idx="2"/>
              </p:cNvCxnSpPr>
              <p:nvPr/>
            </p:nvCxnSpPr>
            <p:spPr>
              <a:xfrm>
                <a:off x="6089040" y="1423800"/>
                <a:ext cx="1080" cy="321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619" name=""/>
              <p:cNvSpPr/>
              <p:nvPr/>
            </p:nvSpPr>
            <p:spPr>
              <a:xfrm>
                <a:off x="5528160" y="171864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6088680" y="1424160"/>
              <a:ext cx="1914480" cy="685080"/>
              <a:chOff x="6088680" y="1424160"/>
              <a:chExt cx="1914480" cy="685080"/>
            </a:xfrm>
          </p:grpSpPr>
          <p:grpSp>
            <p:nvGrpSpPr>
              <p:cNvPr id="1621" name=""/>
              <p:cNvGrpSpPr/>
              <p:nvPr/>
            </p:nvGrpSpPr>
            <p:grpSpPr>
              <a:xfrm>
                <a:off x="6806520" y="1755360"/>
                <a:ext cx="1196640" cy="314640"/>
                <a:chOff x="6806520" y="1755360"/>
                <a:chExt cx="1196640" cy="314640"/>
              </a:xfrm>
            </p:grpSpPr>
            <p:sp>
              <p:nvSpPr>
                <p:cNvPr id="1613" name=""/>
                <p:cNvSpPr/>
                <p:nvPr/>
              </p:nvSpPr>
              <p:spPr>
                <a:xfrm rot="10800000">
                  <a:off x="6806520" y="1756800"/>
                  <a:ext cx="1194840" cy="310680"/>
                </a:xfrm>
                <a:prstGeom prst="flowChartProcess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16200000">
                  <a:off x="7681320" y="1749240"/>
                  <a:ext cx="304200" cy="328680"/>
                </a:xfrm>
                <a:prstGeom prst="flowChartExtra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>
                  <a:off x="7999920" y="1755360"/>
                  <a:ext cx="3240" cy="31464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624" name=""/>
              <p:cNvCxnSpPr>
                <a:stCxn id="1607" idx="2"/>
                <a:endCxn id="1613" idx="2"/>
              </p:cNvCxnSpPr>
              <p:nvPr/>
            </p:nvCxnSpPr>
            <p:spPr>
              <a:xfrm flipH="1" rot="16200000">
                <a:off x="6582240" y="930600"/>
                <a:ext cx="329040" cy="1315800"/>
              </a:xfrm>
              <a:prstGeom prst="bentConnector3">
                <a:avLst>
                  <a:gd name="adj1" fmla="val 49616"/>
                </a:avLst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  <p:sp>
            <p:nvSpPr>
              <p:cNvPr id="1625" name=""/>
              <p:cNvSpPr/>
              <p:nvPr/>
            </p:nvSpPr>
            <p:spPr>
              <a:xfrm>
                <a:off x="6836040" y="171036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5878800" y="2533680"/>
              <a:ext cx="384120" cy="363600"/>
              <a:chOff x="5878800" y="2533680"/>
              <a:chExt cx="384120" cy="363600"/>
            </a:xfrm>
          </p:grpSpPr>
          <p:sp>
            <p:nvSpPr>
              <p:cNvPr id="1627" name=""/>
              <p:cNvSpPr/>
              <p:nvPr/>
            </p:nvSpPr>
            <p:spPr>
              <a:xfrm>
                <a:off x="5878800" y="2533680"/>
                <a:ext cx="384120" cy="3636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5922720" y="2566080"/>
                <a:ext cx="306000" cy="294120"/>
                <a:chOff x="5922720" y="2566080"/>
                <a:chExt cx="306000" cy="294120"/>
              </a:xfrm>
            </p:grpSpPr>
            <p:sp>
              <p:nvSpPr>
                <p:cNvPr id="1629" name=""/>
                <p:cNvSpPr/>
                <p:nvPr/>
              </p:nvSpPr>
              <p:spPr>
                <a:xfrm flipV="1">
                  <a:off x="5922720" y="2607120"/>
                  <a:ext cx="306000" cy="2113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 flipV="1">
                  <a:off x="5965200" y="2566080"/>
                  <a:ext cx="219960" cy="2941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1" name=""/>
            <p:cNvGrpSpPr/>
            <p:nvPr/>
          </p:nvGrpSpPr>
          <p:grpSpPr>
            <a:xfrm>
              <a:off x="7207560" y="2509920"/>
              <a:ext cx="384120" cy="363600"/>
              <a:chOff x="7207560" y="2509920"/>
              <a:chExt cx="384120" cy="3636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207560" y="2509920"/>
                <a:ext cx="384120" cy="3636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633" name=""/>
              <p:cNvGrpSpPr/>
              <p:nvPr/>
            </p:nvGrpSpPr>
            <p:grpSpPr>
              <a:xfrm>
                <a:off x="7251480" y="2542320"/>
                <a:ext cx="306000" cy="294120"/>
                <a:chOff x="7251480" y="2542320"/>
                <a:chExt cx="306000" cy="294120"/>
              </a:xfrm>
            </p:grpSpPr>
            <p:sp>
              <p:nvSpPr>
                <p:cNvPr id="1634" name=""/>
                <p:cNvSpPr/>
                <p:nvPr/>
              </p:nvSpPr>
              <p:spPr>
                <a:xfrm flipV="1">
                  <a:off x="7251480" y="2583360"/>
                  <a:ext cx="306000" cy="2113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 flipV="1">
                  <a:off x="7293960" y="2542320"/>
                  <a:ext cx="219960" cy="2941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6" name=""/>
            <p:cNvSpPr/>
            <p:nvPr/>
          </p:nvSpPr>
          <p:spPr>
            <a:xfrm>
              <a:off x="5416920" y="1670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tate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893880" y="417960"/>
            <a:ext cx="3257280" cy="2417400"/>
            <a:chOff x="893880" y="417960"/>
            <a:chExt cx="3257280" cy="2417400"/>
          </a:xfrm>
        </p:grpSpPr>
        <p:sp>
          <p:nvSpPr>
            <p:cNvPr id="1638" name=""/>
            <p:cNvSpPr/>
            <p:nvPr/>
          </p:nvSpPr>
          <p:spPr>
            <a:xfrm>
              <a:off x="893880" y="460440"/>
              <a:ext cx="3257280" cy="23749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27000" y="41796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tate aggregation s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1420560" y="1074600"/>
              <a:ext cx="1400040" cy="470160"/>
              <a:chOff x="1420560" y="1074600"/>
              <a:chExt cx="1400040" cy="470160"/>
            </a:xfrm>
          </p:grpSpPr>
          <p:sp>
            <p:nvSpPr>
              <p:cNvPr id="1641" name=""/>
              <p:cNvSpPr/>
              <p:nvPr/>
            </p:nvSpPr>
            <p:spPr>
              <a:xfrm>
                <a:off x="1420560" y="1074600"/>
                <a:ext cx="1400040" cy="47016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622520" y="110880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1420560" y="2082960"/>
              <a:ext cx="1400040" cy="542880"/>
              <a:chOff x="1420560" y="2082960"/>
              <a:chExt cx="1400040" cy="542880"/>
            </a:xfrm>
          </p:grpSpPr>
          <p:sp>
            <p:nvSpPr>
              <p:cNvPr id="1644" name=""/>
              <p:cNvSpPr/>
              <p:nvPr/>
            </p:nvSpPr>
            <p:spPr>
              <a:xfrm>
                <a:off x="1420560" y="2082960"/>
                <a:ext cx="1400040" cy="54288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667880" y="215352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5384880" y="3189960"/>
            <a:ext cx="3076560" cy="3430080"/>
            <a:chOff x="5384880" y="3189960"/>
            <a:chExt cx="3076560" cy="3430080"/>
          </a:xfrm>
        </p:grpSpPr>
        <p:sp>
          <p:nvSpPr>
            <p:cNvPr id="1647" name=""/>
            <p:cNvSpPr/>
            <p:nvPr/>
          </p:nvSpPr>
          <p:spPr>
            <a:xfrm>
              <a:off x="6923160" y="3571920"/>
              <a:ext cx="1103400" cy="339840"/>
            </a:xfrm>
            <a:prstGeom prst="roundRect">
              <a:avLst>
                <a:gd name="adj" fmla="val 50000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648" name=""/>
            <p:cNvCxnSpPr>
              <a:stCxn id="1647" idx="2"/>
              <a:endCxn id="1649" idx="2"/>
            </p:cNvCxnSpPr>
            <p:nvPr/>
          </p:nvCxnSpPr>
          <p:spPr>
            <a:xfrm>
              <a:off x="7475400" y="3921120"/>
              <a:ext cx="7200" cy="33408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650" name=""/>
            <p:cNvSpPr/>
            <p:nvPr/>
          </p:nvSpPr>
          <p:spPr>
            <a:xfrm>
              <a:off x="7071120" y="3545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t_i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84880" y="3227400"/>
              <a:ext cx="3076560" cy="33926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5524560" y="3583080"/>
              <a:ext cx="1103400" cy="512640"/>
              <a:chOff x="5524560" y="3583080"/>
              <a:chExt cx="1103400" cy="512640"/>
            </a:xfrm>
          </p:grpSpPr>
          <p:sp>
            <p:nvSpPr>
              <p:cNvPr id="1653" name=""/>
              <p:cNvSpPr/>
              <p:nvPr/>
            </p:nvSpPr>
            <p:spPr>
              <a:xfrm>
                <a:off x="5524560" y="3583080"/>
                <a:ext cx="1103400" cy="338760"/>
              </a:xfrm>
              <a:prstGeom prst="roundRect">
                <a:avLst>
                  <a:gd name="adj" fmla="val 50000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654" name=""/>
              <p:cNvCxnSpPr>
                <a:stCxn id="1653" idx="2"/>
                <a:endCxn id="1655" idx="0"/>
              </p:cNvCxnSpPr>
              <p:nvPr/>
            </p:nvCxnSpPr>
            <p:spPr>
              <a:xfrm>
                <a:off x="6075720" y="3927600"/>
                <a:ext cx="1080" cy="168480"/>
              </a:xfrm>
              <a:prstGeom prst="straightConnector1">
                <a:avLst/>
              </a:prstGeom>
              <a:ln cap="sq" w="12600">
                <a:solidFill>
                  <a:srgbClr val="eaeaea"/>
                </a:solidFill>
                <a:miter/>
                <a:tailEnd len="med" type="triangle" w="med"/>
              </a:ln>
            </p:spPr>
          </p:cxnSp>
        </p:grpSp>
        <p:grpSp>
          <p:nvGrpSpPr>
            <p:cNvPr id="1656" name=""/>
            <p:cNvGrpSpPr/>
            <p:nvPr/>
          </p:nvGrpSpPr>
          <p:grpSpPr>
            <a:xfrm>
              <a:off x="5524560" y="4069440"/>
              <a:ext cx="1103400" cy="398880"/>
              <a:chOff x="5524560" y="4069440"/>
              <a:chExt cx="1103400" cy="398880"/>
            </a:xfrm>
          </p:grpSpPr>
          <p:sp>
            <p:nvSpPr>
              <p:cNvPr id="1655" name=""/>
              <p:cNvSpPr/>
              <p:nvPr/>
            </p:nvSpPr>
            <p:spPr>
              <a:xfrm>
                <a:off x="5524560" y="4101120"/>
                <a:ext cx="1103400" cy="33876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763960" y="4069440"/>
                <a:ext cx="56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5478120" y="4614480"/>
              <a:ext cx="1196640" cy="314280"/>
              <a:chOff x="5478120" y="4614480"/>
              <a:chExt cx="1196640" cy="314280"/>
            </a:xfrm>
          </p:grpSpPr>
          <p:sp>
            <p:nvSpPr>
              <p:cNvPr id="1659" name=""/>
              <p:cNvSpPr/>
              <p:nvPr/>
            </p:nvSpPr>
            <p:spPr>
              <a:xfrm rot="10800000">
                <a:off x="5478120" y="4616640"/>
                <a:ext cx="1194840" cy="31032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6352920" y="4608720"/>
                <a:ext cx="303840" cy="3286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6671520" y="4614480"/>
                <a:ext cx="3240" cy="31428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662" name=""/>
            <p:cNvCxnSpPr>
              <a:stCxn id="1655" idx="2"/>
              <a:endCxn id="1659" idx="2"/>
            </p:cNvCxnSpPr>
            <p:nvPr/>
          </p:nvCxnSpPr>
          <p:spPr>
            <a:xfrm flipH="1">
              <a:off x="6073560" y="4449240"/>
              <a:ext cx="3600" cy="15804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5515200" y="4585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Sig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403960" y="31899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State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665" name=""/>
            <p:cNvCxnSpPr>
              <a:stCxn id="1666" idx="2"/>
              <a:endCxn id="1667" idx="0"/>
            </p:cNvCxnSpPr>
            <p:nvPr/>
          </p:nvCxnSpPr>
          <p:spPr>
            <a:xfrm flipH="1">
              <a:off x="7539840" y="5829120"/>
              <a:ext cx="2520" cy="33876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668" name=""/>
            <p:cNvGrpSpPr/>
            <p:nvPr/>
          </p:nvGrpSpPr>
          <p:grpSpPr>
            <a:xfrm>
              <a:off x="7348680" y="6176880"/>
              <a:ext cx="384120" cy="363600"/>
              <a:chOff x="7348680" y="6176880"/>
              <a:chExt cx="384120" cy="363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7348680" y="6176880"/>
                <a:ext cx="384120" cy="363600"/>
              </a:xfrm>
              <a:prstGeom prst="ellips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669" name=""/>
              <p:cNvGrpSpPr/>
              <p:nvPr/>
            </p:nvGrpSpPr>
            <p:grpSpPr>
              <a:xfrm>
                <a:off x="7392600" y="6209280"/>
                <a:ext cx="306000" cy="294120"/>
                <a:chOff x="7392600" y="6209280"/>
                <a:chExt cx="306000" cy="294120"/>
              </a:xfrm>
            </p:grpSpPr>
            <p:sp>
              <p:nvSpPr>
                <p:cNvPr id="1670" name=""/>
                <p:cNvSpPr/>
                <p:nvPr/>
              </p:nvSpPr>
              <p:spPr>
                <a:xfrm flipV="1">
                  <a:off x="7392600" y="6250320"/>
                  <a:ext cx="306000" cy="2113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 flipV="1">
                  <a:off x="7435080" y="6209280"/>
                  <a:ext cx="219960" cy="294120"/>
                </a:xfrm>
                <a:prstGeom prst="line">
                  <a:avLst/>
                </a:prstGeom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2" name=""/>
            <p:cNvSpPr/>
            <p:nvPr/>
          </p:nvSpPr>
          <p:spPr>
            <a:xfrm>
              <a:off x="7005600" y="5396040"/>
              <a:ext cx="1071720" cy="4698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005600" y="5467320"/>
              <a:ext cx="1071720" cy="3524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283520" y="538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5475240" y="5280840"/>
              <a:ext cx="1103400" cy="398880"/>
              <a:chOff x="5475240" y="5280840"/>
              <a:chExt cx="1103400" cy="398880"/>
            </a:xfrm>
          </p:grpSpPr>
          <p:sp>
            <p:nvSpPr>
              <p:cNvPr id="1675" name=""/>
              <p:cNvSpPr/>
              <p:nvPr/>
            </p:nvSpPr>
            <p:spPr>
              <a:xfrm>
                <a:off x="5475240" y="5312160"/>
                <a:ext cx="1103400" cy="33912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708160" y="52808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_i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6054840" y="4938840"/>
              <a:ext cx="0" cy="353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678" name=""/>
            <p:cNvGrpSpPr/>
            <p:nvPr/>
          </p:nvGrpSpPr>
          <p:grpSpPr>
            <a:xfrm>
              <a:off x="6886080" y="4262040"/>
              <a:ext cx="1196640" cy="314280"/>
              <a:chOff x="6886080" y="4262040"/>
              <a:chExt cx="1196640" cy="314280"/>
            </a:xfrm>
          </p:grpSpPr>
          <p:sp>
            <p:nvSpPr>
              <p:cNvPr id="1649" name=""/>
              <p:cNvSpPr/>
              <p:nvPr/>
            </p:nvSpPr>
            <p:spPr>
              <a:xfrm rot="10800000">
                <a:off x="6886080" y="4264200"/>
                <a:ext cx="1194840" cy="31032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6200000">
                <a:off x="7760880" y="4256280"/>
                <a:ext cx="303840" cy="3286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 flipV="1">
                <a:off x="8079480" y="4262040"/>
                <a:ext cx="3240" cy="31428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681" name=""/>
            <p:cNvCxnSpPr>
              <a:stCxn id="1649" idx="0"/>
              <a:endCxn id="1673" idx="0"/>
            </p:cNvCxnSpPr>
            <p:nvPr/>
          </p:nvCxnSpPr>
          <p:spPr>
            <a:xfrm flipH="1">
              <a:off x="7475040" y="4583160"/>
              <a:ext cx="7200" cy="7992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682" name=""/>
            <p:cNvSpPr/>
            <p:nvPr/>
          </p:nvSpPr>
          <p:spPr>
            <a:xfrm>
              <a:off x="6902640" y="42328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Sig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692440" y="223920"/>
            <a:ext cx="2716200" cy="2762280"/>
            <a:chOff x="2692440" y="223920"/>
            <a:chExt cx="2716200" cy="2762280"/>
          </a:xfrm>
        </p:grpSpPr>
        <p:sp>
          <p:nvSpPr>
            <p:cNvPr id="1684" name=""/>
            <p:cNvSpPr/>
            <p:nvPr/>
          </p:nvSpPr>
          <p:spPr>
            <a:xfrm flipV="1">
              <a:off x="2705040" y="223920"/>
              <a:ext cx="2703600" cy="84600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92440" y="1539720"/>
              <a:ext cx="2703600" cy="144648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2716200" y="2103480"/>
            <a:ext cx="2679840" cy="4479840"/>
            <a:chOff x="2716200" y="2103480"/>
            <a:chExt cx="2679840" cy="4479840"/>
          </a:xfrm>
        </p:grpSpPr>
        <p:sp>
          <p:nvSpPr>
            <p:cNvPr id="1687" name=""/>
            <p:cNvSpPr/>
            <p:nvPr/>
          </p:nvSpPr>
          <p:spPr>
            <a:xfrm>
              <a:off x="2751120" y="2103480"/>
              <a:ext cx="2644920" cy="111744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16200" y="2608200"/>
              <a:ext cx="2657520" cy="3975120"/>
            </a:xfrm>
            <a:prstGeom prst="line">
              <a:avLst/>
            </a:prstGeom>
            <a:ln w="64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895320" y="3452760"/>
            <a:ext cx="3415680" cy="2988720"/>
            <a:chOff x="895320" y="3452760"/>
            <a:chExt cx="3415680" cy="2988720"/>
          </a:xfrm>
        </p:grpSpPr>
        <p:cxnSp>
          <p:nvCxnSpPr>
            <p:cNvPr id="1690" name=""/>
            <p:cNvCxnSpPr>
              <a:stCxn id="1691" idx="2"/>
              <a:endCxn id="1692" idx="0"/>
            </p:cNvCxnSpPr>
            <p:nvPr/>
          </p:nvCxnSpPr>
          <p:spPr>
            <a:xfrm flipH="1">
              <a:off x="1594800" y="3865680"/>
              <a:ext cx="3960" cy="42120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grpSp>
          <p:nvGrpSpPr>
            <p:cNvPr id="1693" name=""/>
            <p:cNvGrpSpPr/>
            <p:nvPr/>
          </p:nvGrpSpPr>
          <p:grpSpPr>
            <a:xfrm>
              <a:off x="938160" y="3452760"/>
              <a:ext cx="1400400" cy="412920"/>
              <a:chOff x="938160" y="3452760"/>
              <a:chExt cx="1400400" cy="412920"/>
            </a:xfrm>
          </p:grpSpPr>
          <p:sp>
            <p:nvSpPr>
              <p:cNvPr id="1694" name=""/>
              <p:cNvSpPr/>
              <p:nvPr/>
            </p:nvSpPr>
            <p:spPr>
              <a:xfrm>
                <a:off x="938160" y="3461400"/>
                <a:ext cx="1400400" cy="39636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06600" y="3452760"/>
                <a:ext cx="184320" cy="412920"/>
              </a:xfrm>
              <a:custGeom>
                <a:avLst/>
                <a:gdLst>
                  <a:gd name="textAreaLeft" fmla="*/ 9000 w 184320"/>
                  <a:gd name="textAreaRight" fmla="*/ 175320 w 184320"/>
                  <a:gd name="textAreaTop" fmla="*/ 9000 h 412920"/>
                  <a:gd name="textAreaBottom" fmla="*/ 403920 h 412920"/>
                </a:gdLst>
                <a:ahLst/>
                <a:rect l="textAreaLeft" t="textAreaTop" r="textAreaRight" b="textAreaBottom"/>
                <a:pathLst>
                  <a:path w="21600" h="48337">
                    <a:moveTo>
                      <a:pt x="3600" y="0"/>
                    </a:moveTo>
                    <a:arcTo wR="3600" hR="3600" stAng="16200000" swAng="-5400000"/>
                    <a:lnTo>
                      <a:pt x="0" y="44737"/>
                    </a:lnTo>
                    <a:arcTo wR="3600" hR="3600" stAng="10800000" swAng="-5400000"/>
                    <a:lnTo>
                      <a:pt x="18000" y="483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895320" y="4295880"/>
              <a:ext cx="1400040" cy="457200"/>
              <a:chOff x="895320" y="4295880"/>
              <a:chExt cx="1400040" cy="457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895320" y="4295880"/>
                <a:ext cx="1400040" cy="45720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407240" y="43218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92160" y="5164200"/>
              <a:ext cx="1518840" cy="398880"/>
              <a:chOff x="2792160" y="5164200"/>
              <a:chExt cx="1518840" cy="398880"/>
            </a:xfrm>
          </p:grpSpPr>
          <p:sp>
            <p:nvSpPr>
              <p:cNvPr id="1698" name=""/>
              <p:cNvSpPr/>
              <p:nvPr/>
            </p:nvSpPr>
            <p:spPr>
              <a:xfrm rot="10800000">
                <a:off x="2792160" y="5166000"/>
                <a:ext cx="1515960" cy="363600"/>
              </a:xfrm>
              <a:prstGeom prst="flowChartProcess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16200000">
                <a:off x="3916800" y="5140440"/>
                <a:ext cx="356040" cy="416880"/>
              </a:xfrm>
              <a:prstGeom prst="flowChartExtra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4306320" y="5164200"/>
                <a:ext cx="4680" cy="367920"/>
              </a:xfrm>
              <a:prstGeom prst="line">
                <a:avLst/>
              </a:prstGeom>
              <a:ln cap="sq" w="7632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931480" y="516420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928800" y="5238000"/>
              <a:ext cx="1400040" cy="398880"/>
              <a:chOff x="928800" y="5238000"/>
              <a:chExt cx="1400040" cy="398880"/>
            </a:xfrm>
          </p:grpSpPr>
          <p:sp>
            <p:nvSpPr>
              <p:cNvPr id="1703" name=""/>
              <p:cNvSpPr/>
              <p:nvPr/>
            </p:nvSpPr>
            <p:spPr>
              <a:xfrm>
                <a:off x="928800" y="5239440"/>
                <a:ext cx="1400040" cy="39600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71960" y="52380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1609560" y="4762440"/>
              <a:ext cx="0" cy="4651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06" name=""/>
            <p:cNvGrpSpPr/>
            <p:nvPr/>
          </p:nvGrpSpPr>
          <p:grpSpPr>
            <a:xfrm>
              <a:off x="2611440" y="6042600"/>
              <a:ext cx="1400040" cy="398880"/>
              <a:chOff x="2611440" y="6042600"/>
              <a:chExt cx="1400040" cy="398880"/>
            </a:xfrm>
          </p:grpSpPr>
          <p:sp>
            <p:nvSpPr>
              <p:cNvPr id="1707" name=""/>
              <p:cNvSpPr/>
              <p:nvPr/>
            </p:nvSpPr>
            <p:spPr>
              <a:xfrm>
                <a:off x="2611440" y="6044400"/>
                <a:ext cx="1400040" cy="3956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054600" y="60426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t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09" name=""/>
            <p:cNvSpPr/>
            <p:nvPr/>
          </p:nvSpPr>
          <p:spPr>
            <a:xfrm>
              <a:off x="3292560" y="5567400"/>
              <a:ext cx="0" cy="4651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10" name=""/>
            <p:cNvCxnSpPr>
              <a:stCxn id="1705" idx="0"/>
              <a:endCxn id="1701" idx="0"/>
            </p:cNvCxnSpPr>
            <p:nvPr/>
          </p:nvCxnSpPr>
          <p:spPr>
            <a:xfrm flipH="1" rot="16200000">
              <a:off x="2237400" y="4124880"/>
              <a:ext cx="413280" cy="1669320"/>
            </a:xfrm>
            <a:prstGeom prst="bentConnector3">
              <a:avLst>
                <a:gd name="adj1" fmla="val 44551"/>
              </a:avLst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</p:grpSp>
      <p:sp>
        <p:nvSpPr>
          <p:cNvPr id="1711" name=""/>
          <p:cNvSpPr/>
          <p:nvPr/>
        </p:nvSpPr>
        <p:spPr>
          <a:xfrm>
            <a:off x="165240" y="2575080"/>
            <a:ext cx="987120" cy="1928520"/>
          </a:xfrm>
          <a:custGeom>
            <a:avLst/>
            <a:gdLst/>
            <a:ahLst/>
            <a:rect l="l" t="t" r="r" b="b"/>
            <a:pathLst>
              <a:path w="622" h="1215">
                <a:moveTo>
                  <a:pt x="452" y="0"/>
                </a:moveTo>
                <a:cubicBezTo>
                  <a:pt x="74" y="23"/>
                  <a:pt x="1" y="600"/>
                  <a:pt x="0" y="815"/>
                </a:cubicBezTo>
                <a:cubicBezTo>
                  <a:pt x="28" y="1017"/>
                  <a:pt x="493" y="1132"/>
                  <a:pt x="622" y="1215"/>
                </a:cubicBezTo>
              </a:path>
            </a:pathLst>
          </a:custGeom>
          <a:noFill/>
          <a:ln cap="sq" w="19080">
            <a:solidFill>
              <a:srgbClr val="00ff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50440" y="1636560"/>
            <a:ext cx="844380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composite states and state aggregations can be classif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mposite state type 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ypebased composite states/state aggreg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concept &amp; notation similar to agent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instances are static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ive&amp;die with containing ag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ultiple instances in the same scope must have different na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Virtual Behaviour Elem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550440" y="1681200"/>
            <a:ext cx="843300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allow the redefinition or replacement of behaviour elements in a type specialis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redefinition and finalisation similar to structural el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available f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xception handle tran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Interfac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550440" y="1492200"/>
            <a:ext cx="8248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ure typing concept used for typed communication between ag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nterface definition groups and names a set o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varia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procedur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gnal defin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gates and channels paths can be typed by interfa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ntained remote procedures &amp; variables and signals are defined and visble where interface is visib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nterface can use also existing definitions for such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multiple inheritance is available for interfa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nterfaces are used as matching constraints for implicit channe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terface if1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ignal sig1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rocedure P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cl I Natural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ndinterface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ignal sig2,sig3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terface if2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use sig2, sig3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ndinterface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50920" y="1881360"/>
            <a:ext cx="4048200" cy="13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terface if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inherits if1,if2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5572080" y="3973680"/>
            <a:ext cx="2811600" cy="2130120"/>
            <a:chOff x="5572080" y="3973680"/>
            <a:chExt cx="2811600" cy="2130120"/>
          </a:xfrm>
        </p:grpSpPr>
        <p:sp>
          <p:nvSpPr>
            <p:cNvPr id="1724" name=""/>
            <p:cNvSpPr/>
            <p:nvPr/>
          </p:nvSpPr>
          <p:spPr>
            <a:xfrm>
              <a:off x="5572080" y="3973680"/>
              <a:ext cx="2811600" cy="21301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80720" y="40629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lock type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239360" y="4161600"/>
            <a:ext cx="1334520" cy="894240"/>
            <a:chOff x="4239360" y="4161600"/>
            <a:chExt cx="1334520" cy="894240"/>
          </a:xfrm>
        </p:grpSpPr>
        <p:sp>
          <p:nvSpPr>
            <p:cNvPr id="1727" name=""/>
            <p:cNvSpPr/>
            <p:nvPr/>
          </p:nvSpPr>
          <p:spPr>
            <a:xfrm>
              <a:off x="4997520" y="4632480"/>
              <a:ext cx="57636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083200" y="4656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239360" y="4161600"/>
              <a:ext cx="12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[if1]    [if2]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901040" y="5085360"/>
            <a:ext cx="672840" cy="459720"/>
            <a:chOff x="4901040" y="5085360"/>
            <a:chExt cx="672840" cy="459720"/>
          </a:xfrm>
        </p:grpSpPr>
        <p:sp>
          <p:nvSpPr>
            <p:cNvPr id="1731" name=""/>
            <p:cNvSpPr/>
            <p:nvPr/>
          </p:nvSpPr>
          <p:spPr>
            <a:xfrm flipH="1">
              <a:off x="5056200" y="5538960"/>
              <a:ext cx="5176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01040" y="5085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if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gent Implicit Interfac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50440" y="1658880"/>
            <a:ext cx="8248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ach agent and agent type introduces an implicit interf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ame name as agent (typ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tains a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gnals accepted by the agents state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ote variables/procedures provided by agents state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nherits all interfaces on gates connected to agents state mach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240120" y="4467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[sig3]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1094040" y="3821760"/>
            <a:ext cx="3170160" cy="1558440"/>
            <a:chOff x="1094040" y="3821760"/>
            <a:chExt cx="3170160" cy="1558440"/>
          </a:xfrm>
        </p:grpSpPr>
        <p:cxnSp>
          <p:nvCxnSpPr>
            <p:cNvPr id="1737" name=""/>
            <p:cNvCxnSpPr>
              <a:stCxn id="1738" idx="0"/>
              <a:endCxn id="1739" idx="1"/>
            </p:cNvCxnSpPr>
            <p:nvPr/>
          </p:nvCxnSpPr>
          <p:spPr>
            <a:xfrm flipV="1">
              <a:off x="1728720" y="4892400"/>
              <a:ext cx="781920" cy="3564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740" name=""/>
            <p:cNvSpPr/>
            <p:nvPr/>
          </p:nvSpPr>
          <p:spPr>
            <a:xfrm>
              <a:off x="1730520" y="3824280"/>
              <a:ext cx="2533680" cy="15559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7880" y="3821760"/>
              <a:ext cx="2078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 type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C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inherits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19280" y="4738680"/>
              <a:ext cx="935280" cy="30816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59400" y="4644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43" name=""/>
            <p:cNvCxnSpPr>
              <a:endCxn id="1739" idx="1"/>
            </p:cNvCxnSpPr>
            <p:nvPr/>
          </p:nvCxnSpPr>
          <p:spPr>
            <a:xfrm>
              <a:off x="1769760" y="4459320"/>
              <a:ext cx="740520" cy="43416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44" name=""/>
            <p:cNvSpPr/>
            <p:nvPr/>
          </p:nvSpPr>
          <p:spPr>
            <a:xfrm>
              <a:off x="1168560" y="4460760"/>
              <a:ext cx="60624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51360" y="4056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82680" y="5238720"/>
              <a:ext cx="44604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94040" y="48664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if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8" name=""/>
          <p:cNvSpPr/>
          <p:nvPr/>
        </p:nvSpPr>
        <p:spPr>
          <a:xfrm>
            <a:off x="5983200" y="3753720"/>
            <a:ext cx="2449440" cy="1557000"/>
          </a:xfrm>
          <a:prstGeom prst="rect">
            <a:avLst/>
          </a:prstGeom>
          <a:noFill/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terface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herits B, if1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use sig3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ndinterf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38520" y="4191120"/>
            <a:ext cx="1022400" cy="882360"/>
          </a:xfrm>
          <a:custGeom>
            <a:avLst/>
            <a:gdLst>
              <a:gd name="textAreaLeft" fmla="*/ 159480 w 1022400"/>
              <a:gd name="textAreaRight" fmla="*/ 894600 w 1022400"/>
              <a:gd name="textAreaTop" fmla="*/ 220680 h 882360"/>
              <a:gd name="textAreaBottom" fmla="*/ 662040 h 88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48280" y="1061640"/>
            <a:ext cx="2500200" cy="1191240"/>
          </a:xfrm>
          <a:prstGeom prst="rect">
            <a:avLst/>
          </a:prstGeom>
          <a:noFill/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terface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use sig2,sig4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ndinterf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491000" y="1316160"/>
            <a:ext cx="1022400" cy="882360"/>
          </a:xfrm>
          <a:custGeom>
            <a:avLst/>
            <a:gdLst>
              <a:gd name="textAreaLeft" fmla="*/ 159480 w 1022400"/>
              <a:gd name="textAreaRight" fmla="*/ 894600 w 1022400"/>
              <a:gd name="textAreaTop" fmla="*/ 220680 h 882360"/>
              <a:gd name="textAreaBottom" fmla="*/ 662040 h 88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342720" y="584640"/>
            <a:ext cx="3862440" cy="2841120"/>
            <a:chOff x="342720" y="584640"/>
            <a:chExt cx="3862440" cy="2841120"/>
          </a:xfrm>
        </p:grpSpPr>
        <p:cxnSp>
          <p:nvCxnSpPr>
            <p:cNvPr id="1753" name=""/>
            <p:cNvCxnSpPr>
              <a:stCxn id="1754" idx="0"/>
              <a:endCxn id="1755" idx="2"/>
            </p:cNvCxnSpPr>
            <p:nvPr/>
          </p:nvCxnSpPr>
          <p:spPr>
            <a:xfrm flipV="1">
              <a:off x="1757160" y="1501560"/>
              <a:ext cx="1028880" cy="142632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756" name=""/>
            <p:cNvSpPr/>
            <p:nvPr/>
          </p:nvSpPr>
          <p:spPr>
            <a:xfrm>
              <a:off x="2257920" y="2793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188720" y="2903400"/>
              <a:ext cx="568440" cy="1440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265760" y="2512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6200" y="2880720"/>
              <a:ext cx="12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[sig3,</a:t>
              </a: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sig4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754280" y="596880"/>
              <a:ext cx="2450880" cy="282888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91720" y="58464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 type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59000" y="2658960"/>
              <a:ext cx="1498680" cy="5065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49960" y="2686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64" name=""/>
            <p:cNvCxnSpPr>
              <a:stCxn id="1762" idx="0"/>
              <a:endCxn id="1765" idx="2"/>
            </p:cNvCxnSpPr>
            <p:nvPr/>
          </p:nvCxnSpPr>
          <p:spPr>
            <a:xfrm flipH="1" flipV="1" rot="5400000">
              <a:off x="2448360" y="2087640"/>
              <a:ext cx="1122840" cy="3960"/>
            </a:xfrm>
            <a:prstGeom prst="bentConnector3">
              <a:avLst>
                <a:gd name="adj1" fmla="val 49935"/>
              </a:avLst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6" name=""/>
            <p:cNvCxnSpPr>
              <a:stCxn id="1762" idx="1"/>
              <a:endCxn id="1757" idx="0"/>
            </p:cNvCxnSpPr>
            <p:nvPr/>
          </p:nvCxnSpPr>
          <p:spPr>
            <a:xfrm flipH="1">
              <a:off x="1756800" y="2913120"/>
              <a:ext cx="494280" cy="1512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</p:cxnSp>
        <p:sp>
          <p:nvSpPr>
            <p:cNvPr id="1765" name=""/>
            <p:cNvSpPr/>
            <p:nvPr/>
          </p:nvSpPr>
          <p:spPr>
            <a:xfrm>
              <a:off x="2543040" y="1165320"/>
              <a:ext cx="935280" cy="35568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594160" y="1091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67" name=""/>
            <p:cNvCxnSpPr/>
            <p:nvPr/>
          </p:nvCxnSpPr>
          <p:spPr>
            <a:xfrm>
              <a:off x="1793880" y="1330200"/>
              <a:ext cx="743760" cy="1368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68" name=""/>
            <p:cNvSpPr/>
            <p:nvPr/>
          </p:nvSpPr>
          <p:spPr>
            <a:xfrm>
              <a:off x="1875240" y="9259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084840" y="18831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748160" y="2948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850040" y="18961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192320" y="1332000"/>
              <a:ext cx="60624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275480" y="893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42720" y="128988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[sig1]  </a:t>
              </a: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[sig2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968840" y="15231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[sig4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g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ubsumes the concepts system, block, proc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basic specification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model active components of a 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n agent instance is an extended finite communicating state machine that h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ts own ident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ts own signal input que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ts own life cyc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 reactive behaviour specific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50440" y="1481040"/>
            <a:ext cx="8248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ach interface implies a PId-Type, that can be used to refer to agent instances 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ariables, expres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tput, imports or remote procedure ca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ignment attem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dynamic type check te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vision of remote variables/procedu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cceptance of signa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raise an exception (InvalidRefere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8" name=""/>
          <p:cNvCxnSpPr>
            <a:endCxn id="1779" idx="2"/>
          </p:cNvCxnSpPr>
          <p:nvPr/>
        </p:nvCxnSpPr>
        <p:spPr>
          <a:xfrm flipV="1">
            <a:off x="1450800" y="2304720"/>
            <a:ext cx="1005840" cy="1504080"/>
          </a:xfrm>
          <a:prstGeom prst="straightConnector1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780" name=""/>
          <p:cNvSpPr/>
          <p:nvPr/>
        </p:nvSpPr>
        <p:spPr>
          <a:xfrm>
            <a:off x="2014560" y="362340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2160" y="1659600"/>
            <a:ext cx="1397520" cy="876600"/>
            <a:chOff x="2160" y="1659600"/>
            <a:chExt cx="1397520" cy="876600"/>
          </a:xfrm>
        </p:grpSpPr>
        <p:sp>
          <p:nvSpPr>
            <p:cNvPr id="1782" name=""/>
            <p:cNvSpPr/>
            <p:nvPr/>
          </p:nvSpPr>
          <p:spPr>
            <a:xfrm>
              <a:off x="814680" y="2115720"/>
              <a:ext cx="585000" cy="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88120" y="1659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60" y="2167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[sig1] [sig2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254880" y="3394440"/>
            <a:ext cx="1207800" cy="765000"/>
            <a:chOff x="254880" y="3394440"/>
            <a:chExt cx="1207800" cy="765000"/>
          </a:xfrm>
        </p:grpSpPr>
        <p:sp>
          <p:nvSpPr>
            <p:cNvPr id="1786" name=""/>
            <p:cNvSpPr/>
            <p:nvPr/>
          </p:nvSpPr>
          <p:spPr>
            <a:xfrm flipH="1" flipV="1">
              <a:off x="887760" y="3801240"/>
              <a:ext cx="548640" cy="1512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952920" y="339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4880" y="379116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[sig3,sig4]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1441800" y="376200"/>
            <a:ext cx="2385360" cy="3963960"/>
            <a:chOff x="1441800" y="376200"/>
            <a:chExt cx="2385360" cy="3963960"/>
          </a:xfrm>
        </p:grpSpPr>
        <p:grpSp>
          <p:nvGrpSpPr>
            <p:cNvPr id="1790" name=""/>
            <p:cNvGrpSpPr/>
            <p:nvPr/>
          </p:nvGrpSpPr>
          <p:grpSpPr>
            <a:xfrm>
              <a:off x="1457640" y="376200"/>
              <a:ext cx="2369520" cy="3963960"/>
              <a:chOff x="1457640" y="376200"/>
              <a:chExt cx="2369520" cy="396396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57640" y="376200"/>
                <a:ext cx="2369520" cy="39639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61240" y="40068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eaeaea"/>
                    </a:solidFill>
                    <a:latin typeface="Arial"/>
                  </a:rPr>
                  <a:t>block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793" name=""/>
              <p:cNvGrpSpPr/>
              <p:nvPr/>
            </p:nvGrpSpPr>
            <p:grpSpPr>
              <a:xfrm>
                <a:off x="1562040" y="902520"/>
                <a:ext cx="1947960" cy="577800"/>
                <a:chOff x="1562040" y="902520"/>
                <a:chExt cx="1947960" cy="57780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1562040" y="906480"/>
                  <a:ext cx="1947960" cy="573840"/>
                </a:xfrm>
                <a:prstGeom prst="rect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3252240" y="902520"/>
                  <a:ext cx="253800" cy="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3510000" y="923400"/>
                  <a:ext cx="0" cy="272520"/>
                </a:xfrm>
                <a:prstGeom prst="line">
                  <a:avLst/>
                </a:prstGeom>
                <a:ln cap="sq"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243600" y="923400"/>
                  <a:ext cx="248760" cy="282960"/>
                </a:xfrm>
                <a:prstGeom prst="rtTriangle">
                  <a:avLst/>
                </a:prstGeom>
                <a:noFill/>
                <a:ln cap="sq" w="1908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8" name=""/>
              <p:cNvSpPr/>
              <p:nvPr/>
            </p:nvSpPr>
            <p:spPr>
              <a:xfrm>
                <a:off x="1596960" y="894240"/>
                <a:ext cx="155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dcl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myb2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    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 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mybt </a:t>
                </a:r>
                <a:r>
                  <a:rPr b="1" lang="en-GB" sz="1800" spc="-1" strike="noStrike">
                    <a:solidFill>
                      <a:srgbClr val="eaeaea"/>
                    </a:solidFill>
                    <a:latin typeface="Arial"/>
                  </a:rPr>
                  <a:t>BT</a:t>
                </a:r>
                <a:r>
                  <a:rPr b="0" lang="en-GB" sz="1800" spc="-1" strike="noStrike">
                    <a:solidFill>
                      <a:srgbClr val="eaeaea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945800" y="3515760"/>
                <a:ext cx="1447560" cy="54432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951920" y="356400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   </a:t>
                </a: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:BT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cxnSp>
            <p:nvCxnSpPr>
              <p:cNvPr id="1801" name=""/>
              <p:cNvCxnSpPr>
                <a:stCxn id="1799" idx="0"/>
                <a:endCxn id="1802" idx="2"/>
              </p:cNvCxnSpPr>
              <p:nvPr/>
            </p:nvCxnSpPr>
            <p:spPr>
              <a:xfrm flipH="1" flipV="1" rot="5400000">
                <a:off x="2068560" y="2902320"/>
                <a:ext cx="1206000" cy="3960"/>
              </a:xfrm>
              <a:prstGeom prst="bentConnector3">
                <a:avLst>
                  <a:gd name="adj1" fmla="val 49925"/>
                </a:avLst>
              </a:prstGeom>
              <a:ln cap="sq" w="19080">
                <a:solidFill>
                  <a:srgbClr val="eaeaea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803" name=""/>
              <p:cNvCxnSpPr>
                <a:stCxn id="1799" idx="1"/>
                <a:endCxn id="1786" idx="0"/>
              </p:cNvCxnSpPr>
              <p:nvPr/>
            </p:nvCxnSpPr>
            <p:spPr>
              <a:xfrm flipH="1">
                <a:off x="1460520" y="3788640"/>
                <a:ext cx="477720" cy="15840"/>
              </a:xfrm>
              <a:prstGeom prst="straightConnector1">
                <a:avLst/>
              </a:prstGeom>
              <a:ln cap="sq" w="19080">
                <a:solidFill>
                  <a:srgbClr val="eaeaea"/>
                </a:solidFill>
                <a:miter/>
                <a:headEnd len="med" type="triangle" w="med"/>
              </a:ln>
            </p:spPr>
          </p:cxnSp>
          <p:sp>
            <p:nvSpPr>
              <p:cNvPr id="1802" name=""/>
              <p:cNvSpPr/>
              <p:nvPr/>
            </p:nvSpPr>
            <p:spPr>
              <a:xfrm>
                <a:off x="2221920" y="1910880"/>
                <a:ext cx="902880" cy="382680"/>
              </a:xfrm>
              <a:prstGeom prst="roundRect">
                <a:avLst>
                  <a:gd name="adj" fmla="val 28569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264040" y="1846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804" name=""/>
              <p:cNvGrpSpPr/>
              <p:nvPr/>
            </p:nvGrpSpPr>
            <p:grpSpPr>
              <a:xfrm>
                <a:off x="1495440" y="1671840"/>
                <a:ext cx="718920" cy="459720"/>
                <a:chOff x="1495440" y="1671840"/>
                <a:chExt cx="718920" cy="459720"/>
              </a:xfrm>
            </p:grpSpPr>
            <p:cxnSp>
              <p:nvCxnSpPr>
                <p:cNvPr id="1805" name=""/>
                <p:cNvCxnSpPr>
                  <a:stCxn id="1782" idx="0"/>
                  <a:endCxn id="1802" idx="1"/>
                </p:cNvCxnSpPr>
                <p:nvPr/>
              </p:nvCxnSpPr>
              <p:spPr>
                <a:xfrm>
                  <a:off x="1495440" y="2089080"/>
                  <a:ext cx="719280" cy="14400"/>
                </a:xfrm>
                <a:prstGeom prst="straightConnector1">
                  <a:avLst/>
                </a:prstGeom>
                <a:ln cap="sq" w="19080">
                  <a:solidFill>
                    <a:srgbClr val="eaeaea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1806" name=""/>
                <p:cNvSpPr/>
                <p:nvPr/>
              </p:nvSpPr>
              <p:spPr>
                <a:xfrm>
                  <a:off x="1566000" y="167184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eaeaea"/>
                      </a:solidFill>
                      <a:latin typeface="Arial"/>
                    </a:rPr>
                    <a:t>c1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7" name=""/>
            <p:cNvSpPr/>
            <p:nvPr/>
          </p:nvSpPr>
          <p:spPr>
            <a:xfrm>
              <a:off x="2736000" y="26971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441800" y="3843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609560" y="2462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c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4982760" y="1039680"/>
            <a:ext cx="3184920" cy="4903920"/>
            <a:chOff x="4982760" y="1039680"/>
            <a:chExt cx="3184920" cy="4903920"/>
          </a:xfrm>
        </p:grpSpPr>
        <p:sp>
          <p:nvSpPr>
            <p:cNvPr id="1811" name=""/>
            <p:cNvSpPr/>
            <p:nvPr/>
          </p:nvSpPr>
          <p:spPr>
            <a:xfrm>
              <a:off x="5256360" y="1282680"/>
              <a:ext cx="1434960" cy="527040"/>
            </a:xfrm>
            <a:prstGeom prst="roundRect">
              <a:avLst>
                <a:gd name="adj" fmla="val 50000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12" name=""/>
            <p:cNvGrpSpPr/>
            <p:nvPr/>
          </p:nvGrpSpPr>
          <p:grpSpPr>
            <a:xfrm>
              <a:off x="5154480" y="5189400"/>
              <a:ext cx="1469880" cy="527040"/>
              <a:chOff x="5154480" y="5189400"/>
              <a:chExt cx="1469880" cy="527040"/>
            </a:xfrm>
          </p:grpSpPr>
          <p:sp>
            <p:nvSpPr>
              <p:cNvPr id="1813" name=""/>
              <p:cNvSpPr/>
              <p:nvPr/>
            </p:nvSpPr>
            <p:spPr>
              <a:xfrm>
                <a:off x="5154480" y="5189400"/>
                <a:ext cx="1469880" cy="527040"/>
              </a:xfrm>
              <a:prstGeom prst="roundRect">
                <a:avLst>
                  <a:gd name="adj" fmla="val 33611"/>
                </a:avLst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364000" y="5221800"/>
                <a:ext cx="106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State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cxnSp>
          <p:nvCxnSpPr>
            <p:cNvPr id="1815" name=""/>
            <p:cNvCxnSpPr>
              <a:stCxn id="1811" idx="2"/>
            </p:cNvCxnSpPr>
            <p:nvPr/>
          </p:nvCxnSpPr>
          <p:spPr>
            <a:xfrm flipH="1">
              <a:off x="5967000" y="1819080"/>
              <a:ext cx="7200" cy="495720"/>
            </a:xfrm>
            <a:prstGeom prst="straightConnector1">
              <a:avLst/>
            </a:prstGeom>
            <a:ln cap="sq"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816" name=""/>
            <p:cNvSpPr/>
            <p:nvPr/>
          </p:nvSpPr>
          <p:spPr>
            <a:xfrm>
              <a:off x="5943600" y="3701880"/>
              <a:ext cx="0" cy="48924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892840" y="4821120"/>
              <a:ext cx="0" cy="3859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5106960" y="4195080"/>
              <a:ext cx="1751040" cy="642600"/>
              <a:chOff x="5106960" y="4195080"/>
              <a:chExt cx="1751040" cy="642600"/>
            </a:xfrm>
          </p:grpSpPr>
          <p:sp>
            <p:nvSpPr>
              <p:cNvPr id="1819" name=""/>
              <p:cNvSpPr/>
              <p:nvPr/>
            </p:nvSpPr>
            <p:spPr>
              <a:xfrm>
                <a:off x="5106960" y="4206600"/>
                <a:ext cx="1751040" cy="579600"/>
              </a:xfrm>
              <a:custGeom>
                <a:avLst/>
                <a:gdLst>
                  <a:gd name="textAreaLeft" fmla="*/ 0 w 1751040"/>
                  <a:gd name="textAreaRight" fmla="*/ 1751400 w 175104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216040" y="4195080"/>
                <a:ext cx="125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Sig3(x, y)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eaeaea"/>
                    </a:solidFill>
                    <a:latin typeface="Arial"/>
                  </a:rPr>
                  <a:t>to mybt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4983120" y="1039680"/>
              <a:ext cx="3184560" cy="490392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5091120" y="2314440"/>
              <a:ext cx="1751040" cy="565200"/>
              <a:chOff x="5091120" y="2314440"/>
              <a:chExt cx="1751040" cy="565200"/>
            </a:xfrm>
          </p:grpSpPr>
          <p:sp>
            <p:nvSpPr>
              <p:cNvPr id="1823" name=""/>
              <p:cNvSpPr/>
              <p:nvPr/>
            </p:nvSpPr>
            <p:spPr>
              <a:xfrm>
                <a:off x="5091120" y="2314440"/>
                <a:ext cx="1751040" cy="56520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099040" y="2361960"/>
                <a:ext cx="1728720" cy="47016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648760" y="2367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eaeaea"/>
                    </a:solidFill>
                    <a:latin typeface="Arial"/>
                  </a:rPr>
                  <a:t>B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5056200" y="3102120"/>
              <a:ext cx="1914480" cy="5648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982760" y="3180600"/>
              <a:ext cx="20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eaeaea"/>
                  </a:solidFill>
                  <a:latin typeface="Arial"/>
                </a:rPr>
                <a:t>mybt:=</a:t>
              </a: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offspring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43600" y="2903400"/>
              <a:ext cx="0" cy="182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5354280" y="383400"/>
            <a:ext cx="217260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8" y="6507"/>
                </a:moveTo>
                <a:lnTo>
                  <a:pt x="22675" y="6507"/>
                </a:lnTo>
                <a:lnTo>
                  <a:pt x="22675" y="82243"/>
                </a:lnTo>
                <a:lnTo>
                  <a:pt x="15470" y="162654"/>
                </a:lnTo>
              </a:path>
            </a:pathLst>
          </a:cu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ssignment attemp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3063960" y="1034640"/>
            <a:ext cx="1915920" cy="4905720"/>
            <a:chOff x="3063960" y="1034640"/>
            <a:chExt cx="1915920" cy="4905720"/>
          </a:xfrm>
        </p:grpSpPr>
        <p:sp>
          <p:nvSpPr>
            <p:cNvPr id="1831" name=""/>
            <p:cNvSpPr/>
            <p:nvPr/>
          </p:nvSpPr>
          <p:spPr>
            <a:xfrm>
              <a:off x="3075120" y="2293920"/>
              <a:ext cx="1868400" cy="364644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063960" y="1034640"/>
              <a:ext cx="1915920" cy="893880"/>
            </a:xfrm>
            <a:prstGeom prst="line">
              <a:avLst/>
            </a:prstGeom>
            <a:ln w="936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4954680" y="6261840"/>
            <a:ext cx="20948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74" y="6507"/>
                </a:moveTo>
                <a:lnTo>
                  <a:pt x="28359" y="6507"/>
                </a:lnTo>
                <a:lnTo>
                  <a:pt x="28359" y="-41573"/>
                </a:lnTo>
                <a:lnTo>
                  <a:pt x="14493" y="-92939"/>
                </a:lnTo>
              </a:path>
            </a:pathLst>
          </a:cu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compatibility che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Data Type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550440" y="1569960"/>
            <a:ext cx="8248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wo main kinds of data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alue typ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bject types (referenc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version possi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ata type definition specif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elements and struc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perators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ethods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for data manip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ackage </a:t>
            </a:r>
            <a:r>
              <a:rPr b="0" i="1" lang="en-GB" sz="3200" spc="-1" strike="noStrike">
                <a:solidFill>
                  <a:srgbClr val="eaeaea"/>
                </a:solidFill>
                <a:latin typeface="Arial"/>
              </a:rPr>
              <a:t>Predefined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contains a set of general data type defin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alue types correspond to the newtype concept of SDL-9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xioms and generators have been remov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behaviour of operators defined by algorithms or transition actions (functional descriptio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nstructor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itera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ru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hoi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bject types define references to val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references are local to ag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tended assignment r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finition similar to value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nversion possi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rther properties of data typ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herit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ext parame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thods allow operation-calls in programming-language like dot-no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cal data types, constants, excep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bility of data elements can be controll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"/>
          <p:cNvGrpSpPr/>
          <p:nvPr/>
        </p:nvGrpSpPr>
        <p:grpSpPr>
          <a:xfrm>
            <a:off x="588960" y="455760"/>
            <a:ext cx="7888680" cy="4603680"/>
            <a:chOff x="588960" y="455760"/>
            <a:chExt cx="7888680" cy="4603680"/>
          </a:xfrm>
        </p:grpSpPr>
        <p:grpSp>
          <p:nvGrpSpPr>
            <p:cNvPr id="1843" name=""/>
            <p:cNvGrpSpPr/>
            <p:nvPr/>
          </p:nvGrpSpPr>
          <p:grpSpPr>
            <a:xfrm>
              <a:off x="588960" y="455760"/>
              <a:ext cx="7888680" cy="4603680"/>
              <a:chOff x="588960" y="455760"/>
              <a:chExt cx="7888680" cy="4603680"/>
            </a:xfrm>
          </p:grpSpPr>
          <p:sp>
            <p:nvSpPr>
              <p:cNvPr id="1844" name=""/>
              <p:cNvSpPr/>
              <p:nvPr/>
            </p:nvSpPr>
            <p:spPr>
              <a:xfrm>
                <a:off x="588960" y="455760"/>
                <a:ext cx="7888680" cy="4603680"/>
              </a:xfrm>
              <a:custGeom>
                <a:avLst/>
                <a:gdLst/>
                <a:ahLst/>
                <a:rect l="l" t="t" r="r" b="b"/>
                <a:pathLst>
                  <a:path w="1764" h="915">
                    <a:moveTo>
                      <a:pt x="0" y="3"/>
                    </a:moveTo>
                    <a:lnTo>
                      <a:pt x="0" y="915"/>
                    </a:lnTo>
                    <a:lnTo>
                      <a:pt x="1764" y="915"/>
                    </a:lnTo>
                    <a:lnTo>
                      <a:pt x="1761" y="123"/>
                    </a:lnTo>
                    <a:lnTo>
                      <a:pt x="163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14600" y="455760"/>
                <a:ext cx="562680" cy="619560"/>
              </a:xfrm>
              <a:prstGeom prst="rtTriangle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1002960" y="779400"/>
              <a:ext cx="3983040" cy="41036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object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type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List &lt;type Elem&gt;;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struct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elem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Elem; 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private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next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List;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operators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Make(Elem)-&gt;List;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methods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add(Elem)-&gt; List;</a:t>
              </a:r>
              <a:br>
                <a:rPr sz="2000"/>
              </a:b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endobject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type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;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998280" y="3062160"/>
            <a:ext cx="6869520" cy="1009440"/>
            <a:chOff x="998280" y="3062160"/>
            <a:chExt cx="6869520" cy="1009440"/>
          </a:xfrm>
        </p:grpSpPr>
        <p:sp>
          <p:nvSpPr>
            <p:cNvPr id="1848" name=""/>
            <p:cNvSpPr/>
            <p:nvPr/>
          </p:nvSpPr>
          <p:spPr>
            <a:xfrm>
              <a:off x="998280" y="3108240"/>
              <a:ext cx="662400" cy="398880"/>
            </a:xfrm>
            <a:prstGeom prst="rect">
              <a:avLst/>
            </a:prstGeom>
            <a:noFill/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Verdana"/>
                </a:rPr>
                <a:t>thi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2263680" y="3062160"/>
              <a:ext cx="4213080" cy="1009440"/>
              <a:chOff x="2263680" y="3062160"/>
              <a:chExt cx="4213080" cy="1009440"/>
            </a:xfrm>
          </p:grpSpPr>
          <p:grpSp>
            <p:nvGrpSpPr>
              <p:cNvPr id="1850" name=""/>
              <p:cNvGrpSpPr/>
              <p:nvPr/>
            </p:nvGrpSpPr>
            <p:grpSpPr>
              <a:xfrm>
                <a:off x="2263680" y="3062160"/>
                <a:ext cx="1139760" cy="1009440"/>
                <a:chOff x="2263680" y="3062160"/>
                <a:chExt cx="1139760" cy="100944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2263680" y="306216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2" name=""/>
                <p:cNvGrpSpPr/>
                <p:nvPr/>
              </p:nvGrpSpPr>
              <p:grpSpPr>
                <a:xfrm>
                  <a:off x="2391120" y="3135240"/>
                  <a:ext cx="770400" cy="830520"/>
                  <a:chOff x="2391120" y="3135240"/>
                  <a:chExt cx="770400" cy="830520"/>
                </a:xfrm>
              </p:grpSpPr>
              <p:sp>
                <p:nvSpPr>
                  <p:cNvPr id="1853" name=""/>
                  <p:cNvSpPr/>
                  <p:nvPr/>
                </p:nvSpPr>
                <p:spPr>
                  <a:xfrm>
                    <a:off x="2391120" y="313524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394360" y="356688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5" name=""/>
              <p:cNvGrpSpPr/>
              <p:nvPr/>
            </p:nvGrpSpPr>
            <p:grpSpPr>
              <a:xfrm>
                <a:off x="3800160" y="3062160"/>
                <a:ext cx="1139760" cy="1009440"/>
                <a:chOff x="3800160" y="3062160"/>
                <a:chExt cx="1139760" cy="100944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3800160" y="306216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7" name=""/>
                <p:cNvGrpSpPr/>
                <p:nvPr/>
              </p:nvGrpSpPr>
              <p:grpSpPr>
                <a:xfrm>
                  <a:off x="3927600" y="3135240"/>
                  <a:ext cx="770400" cy="830520"/>
                  <a:chOff x="3927600" y="3135240"/>
                  <a:chExt cx="770400" cy="830520"/>
                </a:xfrm>
              </p:grpSpPr>
              <p:sp>
                <p:nvSpPr>
                  <p:cNvPr id="1858" name=""/>
                  <p:cNvSpPr/>
                  <p:nvPr/>
                </p:nvSpPr>
                <p:spPr>
                  <a:xfrm>
                    <a:off x="3927600" y="313524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3930840" y="356688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0" name=""/>
              <p:cNvGrpSpPr/>
              <p:nvPr/>
            </p:nvGrpSpPr>
            <p:grpSpPr>
              <a:xfrm>
                <a:off x="5337000" y="3062160"/>
                <a:ext cx="1139760" cy="1009440"/>
                <a:chOff x="5337000" y="3062160"/>
                <a:chExt cx="1139760" cy="100944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5337000" y="306216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2" name=""/>
                <p:cNvGrpSpPr/>
                <p:nvPr/>
              </p:nvGrpSpPr>
              <p:grpSpPr>
                <a:xfrm>
                  <a:off x="5464440" y="3135240"/>
                  <a:ext cx="770400" cy="830520"/>
                  <a:chOff x="5464440" y="3135240"/>
                  <a:chExt cx="770400" cy="83052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5464440" y="313524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5467680" y="356688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65" name=""/>
            <p:cNvSpPr/>
            <p:nvPr/>
          </p:nvSpPr>
          <p:spPr>
            <a:xfrm>
              <a:off x="7205400" y="3584520"/>
              <a:ext cx="662400" cy="398880"/>
            </a:xfrm>
            <a:prstGeom prst="rect">
              <a:avLst/>
            </a:prstGeom>
            <a:noFill/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Verdana"/>
                </a:rPr>
                <a:t>Nul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866" name=""/>
            <p:cNvCxnSpPr>
              <a:stCxn id="1848" idx="3"/>
              <a:endCxn id="1851" idx="1"/>
            </p:cNvCxnSpPr>
            <p:nvPr/>
          </p:nvCxnSpPr>
          <p:spPr>
            <a:xfrm>
              <a:off x="1698480" y="3290760"/>
              <a:ext cx="565560" cy="277200"/>
            </a:xfrm>
            <a:prstGeom prst="curvedConnector5">
              <a:avLst>
                <a:gd name="adj1" fmla="val 50000"/>
                <a:gd name="adj2" fmla="val 49934"/>
                <a:gd name="adj3" fmla="val 50000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67" name=""/>
            <p:cNvCxnSpPr>
              <a:stCxn id="1854" idx="3"/>
              <a:endCxn id="1856" idx="1"/>
            </p:cNvCxnSpPr>
            <p:nvPr/>
          </p:nvCxnSpPr>
          <p:spPr>
            <a:xfrm flipV="1">
              <a:off x="3119400" y="3566880"/>
              <a:ext cx="681840" cy="203760"/>
            </a:xfrm>
            <a:prstGeom prst="curvedConnector5">
              <a:avLst>
                <a:gd name="adj1" fmla="val 49867"/>
                <a:gd name="adj2" fmla="val 49911"/>
                <a:gd name="adj3" fmla="val 49867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68" name=""/>
            <p:cNvCxnSpPr>
              <a:stCxn id="1859" idx="3"/>
              <a:endCxn id="1861" idx="1"/>
            </p:cNvCxnSpPr>
            <p:nvPr/>
          </p:nvCxnSpPr>
          <p:spPr>
            <a:xfrm flipV="1">
              <a:off x="4656240" y="3566880"/>
              <a:ext cx="681840" cy="203760"/>
            </a:xfrm>
            <a:prstGeom prst="curvedConnector5">
              <a:avLst>
                <a:gd name="adj1" fmla="val 49867"/>
                <a:gd name="adj2" fmla="val 49911"/>
                <a:gd name="adj3" fmla="val 49867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69" name=""/>
            <p:cNvCxnSpPr>
              <a:stCxn id="1864" idx="3"/>
              <a:endCxn id="1865" idx="1"/>
            </p:cNvCxnSpPr>
            <p:nvPr/>
          </p:nvCxnSpPr>
          <p:spPr>
            <a:xfrm flipV="1">
              <a:off x="6192720" y="3766320"/>
              <a:ext cx="959760" cy="396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</p:grpSp>
    </p:spTree>
  </p:cSld>
  <p:transition>
    <p:zoom dir="ou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693720" y="641520"/>
            <a:ext cx="7877880" cy="4535640"/>
            <a:chOff x="693720" y="641520"/>
            <a:chExt cx="7877880" cy="4535640"/>
          </a:xfrm>
        </p:grpSpPr>
        <p:grpSp>
          <p:nvGrpSpPr>
            <p:cNvPr id="1871" name=""/>
            <p:cNvGrpSpPr/>
            <p:nvPr/>
          </p:nvGrpSpPr>
          <p:grpSpPr>
            <a:xfrm>
              <a:off x="693720" y="641520"/>
              <a:ext cx="7877880" cy="4535640"/>
              <a:chOff x="693720" y="641520"/>
              <a:chExt cx="7877880" cy="4535640"/>
            </a:xfrm>
          </p:grpSpPr>
          <p:sp>
            <p:nvSpPr>
              <p:cNvPr id="1872" name=""/>
              <p:cNvSpPr/>
              <p:nvPr/>
            </p:nvSpPr>
            <p:spPr>
              <a:xfrm>
                <a:off x="693720" y="641520"/>
                <a:ext cx="7877880" cy="4535640"/>
              </a:xfrm>
              <a:custGeom>
                <a:avLst/>
                <a:gdLst/>
                <a:ahLst/>
                <a:rect l="l" t="t" r="r" b="b"/>
                <a:pathLst>
                  <a:path w="1764" h="915">
                    <a:moveTo>
                      <a:pt x="0" y="3"/>
                    </a:moveTo>
                    <a:lnTo>
                      <a:pt x="0" y="915"/>
                    </a:lnTo>
                    <a:lnTo>
                      <a:pt x="1764" y="915"/>
                    </a:lnTo>
                    <a:lnTo>
                      <a:pt x="1761" y="123"/>
                    </a:lnTo>
                    <a:lnTo>
                      <a:pt x="163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009280" y="641520"/>
                <a:ext cx="561960" cy="610200"/>
              </a:xfrm>
              <a:prstGeom prst="rtTriangle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1261440" y="911160"/>
              <a:ext cx="6141240" cy="41342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object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type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List &lt;type Elem&gt;;</a:t>
              </a:r>
              <a:br>
                <a:rPr sz="2000"/>
              </a:b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operator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Make(e Elem) {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return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(. e,Null .); }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method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add(e Elem) {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dcl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last Elem;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for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(last=</a:t>
              </a: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this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,last.next/=Null,last.next);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	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last.next := (. e .);</a:t>
              </a:r>
              <a:br>
                <a:rPr sz="2000"/>
              </a:b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    }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80808"/>
                  </a:solidFill>
                  <a:latin typeface="Verdana"/>
                </a:rPr>
                <a:t>endobject</a:t>
              </a: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type</a:t>
              </a:r>
              <a:r>
                <a:rPr b="0" lang="de-DE" sz="2000" spc="-1" strike="noStrike">
                  <a:solidFill>
                    <a:srgbClr val="080808"/>
                  </a:solidFill>
                  <a:latin typeface="Verdana"/>
                </a:rPr>
                <a:t>;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1163160" y="1600200"/>
            <a:ext cx="6869520" cy="1009440"/>
            <a:chOff x="1163160" y="1600200"/>
            <a:chExt cx="6869520" cy="1009440"/>
          </a:xfrm>
        </p:grpSpPr>
        <p:sp>
          <p:nvSpPr>
            <p:cNvPr id="1876" name=""/>
            <p:cNvSpPr/>
            <p:nvPr/>
          </p:nvSpPr>
          <p:spPr>
            <a:xfrm>
              <a:off x="1163160" y="1646280"/>
              <a:ext cx="662400" cy="398880"/>
            </a:xfrm>
            <a:prstGeom prst="rect">
              <a:avLst/>
            </a:prstGeom>
            <a:noFill/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Verdana"/>
                </a:rPr>
                <a:t>thi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428560" y="1600200"/>
              <a:ext cx="4213080" cy="1009440"/>
              <a:chOff x="2428560" y="1600200"/>
              <a:chExt cx="4213080" cy="1009440"/>
            </a:xfrm>
          </p:grpSpPr>
          <p:grpSp>
            <p:nvGrpSpPr>
              <p:cNvPr id="1878" name=""/>
              <p:cNvGrpSpPr/>
              <p:nvPr/>
            </p:nvGrpSpPr>
            <p:grpSpPr>
              <a:xfrm>
                <a:off x="2428560" y="1600200"/>
                <a:ext cx="1139760" cy="1009440"/>
                <a:chOff x="2428560" y="1600200"/>
                <a:chExt cx="1139760" cy="100944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2428560" y="160020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0" name=""/>
                <p:cNvGrpSpPr/>
                <p:nvPr/>
              </p:nvGrpSpPr>
              <p:grpSpPr>
                <a:xfrm>
                  <a:off x="2556000" y="1673280"/>
                  <a:ext cx="770400" cy="830520"/>
                  <a:chOff x="2556000" y="1673280"/>
                  <a:chExt cx="770400" cy="83052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2556000" y="167328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2559240" y="210492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3" name=""/>
              <p:cNvGrpSpPr/>
              <p:nvPr/>
            </p:nvGrpSpPr>
            <p:grpSpPr>
              <a:xfrm>
                <a:off x="3965040" y="1600200"/>
                <a:ext cx="1139760" cy="1009440"/>
                <a:chOff x="3965040" y="1600200"/>
                <a:chExt cx="1139760" cy="100944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3965040" y="160020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5" name=""/>
                <p:cNvGrpSpPr/>
                <p:nvPr/>
              </p:nvGrpSpPr>
              <p:grpSpPr>
                <a:xfrm>
                  <a:off x="4092480" y="1673280"/>
                  <a:ext cx="770400" cy="830520"/>
                  <a:chOff x="4092480" y="1673280"/>
                  <a:chExt cx="770400" cy="83052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>
                    <a:off x="4092480" y="167328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4095720" y="210492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8" name=""/>
              <p:cNvGrpSpPr/>
              <p:nvPr/>
            </p:nvGrpSpPr>
            <p:grpSpPr>
              <a:xfrm>
                <a:off x="5501880" y="1600200"/>
                <a:ext cx="1139760" cy="1009440"/>
                <a:chOff x="5501880" y="1600200"/>
                <a:chExt cx="1139760" cy="100944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5501880" y="1600200"/>
                  <a:ext cx="1139760" cy="1009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6699">
                    <a:alpha val="50000"/>
                  </a:srgbClr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0" name=""/>
                <p:cNvGrpSpPr/>
                <p:nvPr/>
              </p:nvGrpSpPr>
              <p:grpSpPr>
                <a:xfrm>
                  <a:off x="5629320" y="1673280"/>
                  <a:ext cx="770400" cy="830520"/>
                  <a:chOff x="5629320" y="1673280"/>
                  <a:chExt cx="770400" cy="83052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5629320" y="1673280"/>
                    <a:ext cx="77040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elem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5632560" y="2104920"/>
                    <a:ext cx="706680" cy="398880"/>
                  </a:xfrm>
                  <a:prstGeom prst="rect">
                    <a:avLst/>
                  </a:pr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eaeaea"/>
                        </a:solidFill>
                        <a:latin typeface="Verdana"/>
                      </a:rPr>
                      <a:t>next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93" name=""/>
            <p:cNvSpPr/>
            <p:nvPr/>
          </p:nvSpPr>
          <p:spPr>
            <a:xfrm>
              <a:off x="7370280" y="2122560"/>
              <a:ext cx="662400" cy="398880"/>
            </a:xfrm>
            <a:prstGeom prst="rect">
              <a:avLst/>
            </a:prstGeom>
            <a:noFill/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Verdana"/>
                </a:rPr>
                <a:t>Nul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894" name=""/>
            <p:cNvCxnSpPr>
              <a:stCxn id="1876" idx="3"/>
              <a:endCxn id="1879" idx="1"/>
            </p:cNvCxnSpPr>
            <p:nvPr/>
          </p:nvCxnSpPr>
          <p:spPr>
            <a:xfrm>
              <a:off x="1863360" y="1828800"/>
              <a:ext cx="565560" cy="277200"/>
            </a:xfrm>
            <a:prstGeom prst="curvedConnector5">
              <a:avLst>
                <a:gd name="adj1" fmla="val 50000"/>
                <a:gd name="adj2" fmla="val 49934"/>
                <a:gd name="adj3" fmla="val 50000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95" name=""/>
            <p:cNvCxnSpPr>
              <a:stCxn id="1882" idx="3"/>
              <a:endCxn id="1884" idx="1"/>
            </p:cNvCxnSpPr>
            <p:nvPr/>
          </p:nvCxnSpPr>
          <p:spPr>
            <a:xfrm flipV="1">
              <a:off x="3284280" y="2104920"/>
              <a:ext cx="681840" cy="203760"/>
            </a:xfrm>
            <a:prstGeom prst="curvedConnector5">
              <a:avLst>
                <a:gd name="adj1" fmla="val 49867"/>
                <a:gd name="adj2" fmla="val 49911"/>
                <a:gd name="adj3" fmla="val 49867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96" name=""/>
            <p:cNvCxnSpPr>
              <a:stCxn id="1887" idx="3"/>
              <a:endCxn id="1889" idx="1"/>
            </p:cNvCxnSpPr>
            <p:nvPr/>
          </p:nvCxnSpPr>
          <p:spPr>
            <a:xfrm flipV="1">
              <a:off x="4821120" y="2104920"/>
              <a:ext cx="681840" cy="203760"/>
            </a:xfrm>
            <a:prstGeom prst="curvedConnector5">
              <a:avLst>
                <a:gd name="adj1" fmla="val 49867"/>
                <a:gd name="adj2" fmla="val 49911"/>
                <a:gd name="adj3" fmla="val 49867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2" idx="3"/>
              <a:endCxn id="1893" idx="1"/>
            </p:cNvCxnSpPr>
            <p:nvPr/>
          </p:nvCxnSpPr>
          <p:spPr>
            <a:xfrm flipV="1">
              <a:off x="6357600" y="2304360"/>
              <a:ext cx="959760" cy="396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898" name=""/>
          <p:cNvSpPr/>
          <p:nvPr/>
        </p:nvSpPr>
        <p:spPr>
          <a:xfrm>
            <a:off x="2217600" y="5339160"/>
            <a:ext cx="482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bject type NatList inherits List&lt;Natural&gt;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cl myList NatLis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myList:=Make(5); myList.add(2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457200" y="2494080"/>
            <a:ext cx="2847960" cy="1015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imple typ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57200" y="3965400"/>
            <a:ext cx="2924280" cy="979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ata templa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57200" y="905040"/>
            <a:ext cx="3787920" cy="1041120"/>
          </a:xfrm>
          <a:prstGeom prst="roundRect">
            <a:avLst>
              <a:gd name="adj" fmla="val 16667"/>
            </a:avLst>
          </a:prstGeom>
          <a:solidFill>
            <a:srgbClr val="006699">
              <a:alpha val="5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defined data typ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751200" y="2038320"/>
            <a:ext cx="5051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oolean, Integer, Natural, Real, Character, Duration, Tim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harstring, Bit, Bitstring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ctet Octetstr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me, Duration, Pi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751200" y="4106880"/>
            <a:ext cx="4587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ring, Powerset, Bag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ray, Vec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85920" y="5200560"/>
            <a:ext cx="2923920" cy="979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827440" y="5009040"/>
            <a:ext cx="576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10000"/>
              </a:lnSpc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OutOfRange, InvalidReference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NoMatchingAnswer, UndefinedVariable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UndefinedField,  InvalidIndex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DivisionByZero, Emp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Data assignm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ong type che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ignment restrictions for specialised typ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bject cre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50920" y="188136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 typ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erences local to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lymorphic assignments for specialised typ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rtual meth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ignment attem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lue extra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Agent Declar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0440" y="188136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hree main p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ttributes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parameters, variables, proced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haviour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implicit or explicit state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rnal structure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ntained agents and communication paths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ach of the parts may be opt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9" name=""/>
          <p:cNvGrpSpPr/>
          <p:nvPr/>
        </p:nvGrpSpPr>
        <p:grpSpPr>
          <a:xfrm>
            <a:off x="488880" y="782640"/>
            <a:ext cx="3446280" cy="1339920"/>
            <a:chOff x="488880" y="782640"/>
            <a:chExt cx="3446280" cy="1339920"/>
          </a:xfrm>
        </p:grpSpPr>
        <p:grpSp>
          <p:nvGrpSpPr>
            <p:cNvPr id="1910" name=""/>
            <p:cNvGrpSpPr/>
            <p:nvPr/>
          </p:nvGrpSpPr>
          <p:grpSpPr>
            <a:xfrm>
              <a:off x="488880" y="782640"/>
              <a:ext cx="3446280" cy="1339920"/>
              <a:chOff x="488880" y="782640"/>
              <a:chExt cx="3446280" cy="1339920"/>
            </a:xfrm>
          </p:grpSpPr>
          <p:sp>
            <p:nvSpPr>
              <p:cNvPr id="1911" name=""/>
              <p:cNvSpPr/>
              <p:nvPr/>
            </p:nvSpPr>
            <p:spPr>
              <a:xfrm>
                <a:off x="488880" y="782640"/>
                <a:ext cx="3446280" cy="1339920"/>
              </a:xfrm>
              <a:custGeom>
                <a:avLst/>
                <a:gdLst/>
                <a:ahLst/>
                <a:rect l="l" t="t" r="r" b="b"/>
                <a:pathLst>
                  <a:path w="1764" h="915">
                    <a:moveTo>
                      <a:pt x="0" y="3"/>
                    </a:moveTo>
                    <a:lnTo>
                      <a:pt x="0" y="915"/>
                    </a:lnTo>
                    <a:lnTo>
                      <a:pt x="1764" y="915"/>
                    </a:lnTo>
                    <a:lnTo>
                      <a:pt x="1761" y="123"/>
                    </a:lnTo>
                    <a:lnTo>
                      <a:pt x="1635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689280" y="782640"/>
                <a:ext cx="245880" cy="180000"/>
              </a:xfrm>
              <a:prstGeom prst="rtTriangle">
                <a:avLst/>
              </a:prstGeom>
              <a:noFill/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3" name=""/>
            <p:cNvSpPr/>
            <p:nvPr/>
          </p:nvSpPr>
          <p:spPr>
            <a:xfrm>
              <a:off x="697320" y="978840"/>
              <a:ext cx="2838600" cy="9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value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type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 Char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... /* predefined */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endvalue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typ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14" name=""/>
          <p:cNvGrpSpPr/>
          <p:nvPr/>
        </p:nvGrpSpPr>
        <p:grpSpPr>
          <a:xfrm>
            <a:off x="4451400" y="793800"/>
            <a:ext cx="4241160" cy="1339920"/>
            <a:chOff x="4451400" y="793800"/>
            <a:chExt cx="4241160" cy="1339920"/>
          </a:xfrm>
        </p:grpSpPr>
        <p:grpSp>
          <p:nvGrpSpPr>
            <p:cNvPr id="1915" name=""/>
            <p:cNvGrpSpPr/>
            <p:nvPr/>
          </p:nvGrpSpPr>
          <p:grpSpPr>
            <a:xfrm>
              <a:off x="4451400" y="793800"/>
              <a:ext cx="4241160" cy="1339920"/>
              <a:chOff x="4451400" y="793800"/>
              <a:chExt cx="4241160" cy="1339920"/>
            </a:xfrm>
          </p:grpSpPr>
          <p:sp>
            <p:nvSpPr>
              <p:cNvPr id="1916" name=""/>
              <p:cNvSpPr/>
              <p:nvPr/>
            </p:nvSpPr>
            <p:spPr>
              <a:xfrm>
                <a:off x="4451400" y="793800"/>
                <a:ext cx="4241160" cy="1339920"/>
              </a:xfrm>
              <a:custGeom>
                <a:avLst/>
                <a:gdLst/>
                <a:ahLst/>
                <a:rect l="l" t="t" r="r" b="b"/>
                <a:pathLst>
                  <a:path w="1764" h="915">
                    <a:moveTo>
                      <a:pt x="0" y="3"/>
                    </a:moveTo>
                    <a:lnTo>
                      <a:pt x="0" y="915"/>
                    </a:lnTo>
                    <a:lnTo>
                      <a:pt x="1764" y="915"/>
                    </a:lnTo>
                    <a:lnTo>
                      <a:pt x="1761" y="123"/>
                    </a:lnTo>
                    <a:lnTo>
                      <a:pt x="1635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389800" y="793800"/>
                <a:ext cx="302400" cy="180000"/>
              </a:xfrm>
              <a:prstGeom prst="rtTriangle">
                <a:avLst/>
              </a:prstGeom>
              <a:noFill/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>
              <a:off x="4801320" y="1126440"/>
              <a:ext cx="365256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dcl 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val_var Charstring,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      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ref_var </a:t>
              </a:r>
              <a:r>
                <a:rPr b="1" lang="en-US" sz="2000" spc="-1" strike="noStrike">
                  <a:solidFill>
                    <a:srgbClr val="f8f8f8"/>
                  </a:solidFill>
                  <a:latin typeface="Verdana"/>
                </a:rPr>
                <a:t>object</a:t>
              </a: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 Charstring;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546120" y="2479680"/>
            <a:ext cx="7856640" cy="741960"/>
            <a:chOff x="546120" y="2479680"/>
            <a:chExt cx="7856640" cy="741960"/>
          </a:xfrm>
        </p:grpSpPr>
        <p:sp>
          <p:nvSpPr>
            <p:cNvPr id="1920" name=""/>
            <p:cNvSpPr/>
            <p:nvPr/>
          </p:nvSpPr>
          <p:spPr>
            <a:xfrm>
              <a:off x="546120" y="2479680"/>
              <a:ext cx="4060800" cy="5810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ref</a:t>
              </a: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_var := Make('Hello world'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7280" y="2517840"/>
              <a:ext cx="370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creates a reference to an objec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544680" y="3232080"/>
            <a:ext cx="7858080" cy="544680"/>
            <a:chOff x="544680" y="3232080"/>
            <a:chExt cx="7858080" cy="544680"/>
          </a:xfrm>
        </p:grpSpPr>
        <p:sp>
          <p:nvSpPr>
            <p:cNvPr id="1923" name=""/>
            <p:cNvSpPr/>
            <p:nvPr/>
          </p:nvSpPr>
          <p:spPr>
            <a:xfrm>
              <a:off x="544680" y="3232080"/>
              <a:ext cx="4036680" cy="544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val_var := ref_va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97280" y="3259080"/>
              <a:ext cx="370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value extractio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31720" y="3792600"/>
            <a:ext cx="8612280" cy="703800"/>
            <a:chOff x="531720" y="3792600"/>
            <a:chExt cx="8612280" cy="703800"/>
          </a:xfrm>
        </p:grpSpPr>
        <p:sp>
          <p:nvSpPr>
            <p:cNvPr id="1926" name=""/>
            <p:cNvSpPr/>
            <p:nvPr/>
          </p:nvSpPr>
          <p:spPr>
            <a:xfrm>
              <a:off x="531720" y="3948120"/>
              <a:ext cx="4037040" cy="544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ref_var := val_va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697280" y="3792600"/>
              <a:ext cx="444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creates a refererence and copies the value into the objec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539640" y="4665600"/>
            <a:ext cx="7859880" cy="544680"/>
            <a:chOff x="539640" y="4665600"/>
            <a:chExt cx="7859880" cy="544680"/>
          </a:xfrm>
        </p:grpSpPr>
        <p:sp>
          <p:nvSpPr>
            <p:cNvPr id="1929" name=""/>
            <p:cNvSpPr/>
            <p:nvPr/>
          </p:nvSpPr>
          <p:spPr>
            <a:xfrm>
              <a:off x="539640" y="4665600"/>
              <a:ext cx="4037040" cy="544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val_var := 'foo'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694400" y="4745160"/>
              <a:ext cx="37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value assignmen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 Black"/>
              </a:rPr>
              <a:t>Further Informatio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550440" y="1503360"/>
            <a:ext cx="8326440" cy="449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utorial slides and author cont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ww.informatik.hu-berlin.de/Institut/struktur/systemanalyse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{fischer|holz}@informatik.hu-berlin.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ITU standards and recommend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ww.itu.ch or www.itu.int/itudoc/itu-t/approved/z/index.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DL Forum Socie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ww.sdl-forum.o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onferences and workshop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bi-annual SDL Forum - next Copenhagen 200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594800" y="1422360"/>
            <a:ext cx="3543840" cy="4033800"/>
            <a:chOff x="1594800" y="1422360"/>
            <a:chExt cx="3543840" cy="4033800"/>
          </a:xfrm>
        </p:grpSpPr>
        <p:sp>
          <p:nvSpPr>
            <p:cNvPr id="174" name=""/>
            <p:cNvSpPr/>
            <p:nvPr/>
          </p:nvSpPr>
          <p:spPr>
            <a:xfrm>
              <a:off x="1598760" y="1422360"/>
              <a:ext cx="3539880" cy="403380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4800" y="145152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lock</a:t>
              </a: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01720" y="1958400"/>
            <a:ext cx="1928520" cy="642600"/>
            <a:chOff x="1701720" y="1958400"/>
            <a:chExt cx="1928520" cy="642600"/>
          </a:xfrm>
        </p:grpSpPr>
        <p:grpSp>
          <p:nvGrpSpPr>
            <p:cNvPr id="177" name=""/>
            <p:cNvGrpSpPr/>
            <p:nvPr/>
          </p:nvGrpSpPr>
          <p:grpSpPr>
            <a:xfrm>
              <a:off x="1701720" y="1959120"/>
              <a:ext cx="1928520" cy="588600"/>
              <a:chOff x="1701720" y="1959120"/>
              <a:chExt cx="1928520" cy="58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1701720" y="1963440"/>
                <a:ext cx="1928520" cy="584280"/>
              </a:xfrm>
              <a:prstGeom prst="rect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75360" y="1959120"/>
                <a:ext cx="251280" cy="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30240" y="1980360"/>
                <a:ext cx="0" cy="277560"/>
              </a:xfrm>
              <a:prstGeom prst="line">
                <a:avLst/>
              </a:prstGeom>
              <a:ln cap="sq"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66360" y="1980360"/>
                <a:ext cx="246240" cy="288360"/>
              </a:xfrm>
              <a:prstGeom prst="rtTriangle">
                <a:avLst/>
              </a:prstGeom>
              <a:noFill/>
              <a:ln cap="sq"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734840" y="195840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dc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 i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Natural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     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c </a:t>
              </a: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Character</a:t>
              </a: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66880" y="3805200"/>
            <a:ext cx="3138480" cy="1376280"/>
            <a:chOff x="1766880" y="3805200"/>
            <a:chExt cx="3138480" cy="1376280"/>
          </a:xfrm>
        </p:grpSpPr>
        <p:sp>
          <p:nvSpPr>
            <p:cNvPr id="184" name=""/>
            <p:cNvSpPr/>
            <p:nvPr/>
          </p:nvSpPr>
          <p:spPr>
            <a:xfrm>
              <a:off x="1766880" y="3805200"/>
              <a:ext cx="1433520" cy="5540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1840" y="4627440"/>
              <a:ext cx="1433520" cy="554040"/>
            </a:xfrm>
            <a:prstGeom prst="rect">
              <a:avLst/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8160" y="38358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23280" y="4648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483280" y="3170160"/>
            <a:ext cx="3173040" cy="2627280"/>
            <a:chOff x="2483280" y="3170160"/>
            <a:chExt cx="3173040" cy="2627280"/>
          </a:xfrm>
        </p:grpSpPr>
        <p:cxnSp>
          <p:nvCxnSpPr>
            <p:cNvPr id="189" name=""/>
            <p:cNvCxnSpPr>
              <a:stCxn id="184" idx="2"/>
              <a:endCxn id="185" idx="1"/>
            </p:cNvCxnSpPr>
            <p:nvPr/>
          </p:nvCxnSpPr>
          <p:spPr>
            <a:xfrm flipH="1" rot="16200000">
              <a:off x="2704320" y="4147920"/>
              <a:ext cx="536760" cy="97884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91" idx="1"/>
              <a:endCxn id="184" idx="0"/>
            </p:cNvCxnSpPr>
            <p:nvPr/>
          </p:nvCxnSpPr>
          <p:spPr>
            <a:xfrm flipV="1" rot="10800000">
              <a:off x="2483640" y="3170160"/>
              <a:ext cx="916920" cy="626040"/>
            </a:xfrm>
            <a:prstGeom prst="bentConnector2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91" idx="3"/>
              <a:endCxn id="174" idx="3"/>
            </p:cNvCxnSpPr>
            <p:nvPr/>
          </p:nvCxnSpPr>
          <p:spPr>
            <a:xfrm>
              <a:off x="4313160" y="3170160"/>
              <a:ext cx="835920" cy="27072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85" idx="2"/>
              <a:endCxn id="174" idx="2"/>
            </p:cNvCxnSpPr>
            <p:nvPr/>
          </p:nvCxnSpPr>
          <p:spPr>
            <a:xfrm flipH="1">
              <a:off x="3368160" y="5190840"/>
              <a:ext cx="821520" cy="275400"/>
            </a:xfrm>
            <a:prstGeom prst="straightConnector1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5138640" y="3457440"/>
              <a:ext cx="5176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5000" y="5479920"/>
              <a:ext cx="0" cy="31752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756400" y="545400"/>
            <a:ext cx="1922400" cy="642600"/>
          </a:xfrm>
          <a:prstGeom prst="borderCallout1">
            <a:avLst>
              <a:gd name="adj1" fmla="val 18750"/>
              <a:gd name="adj2" fmla="val -8333"/>
              <a:gd name="adj3" fmla="val 238129"/>
              <a:gd name="adj4" fmla="val -115666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Declaration of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local vari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9960" y="1861560"/>
            <a:ext cx="2346480" cy="642600"/>
          </a:xfrm>
          <a:prstGeom prst="borderCallout1">
            <a:avLst>
              <a:gd name="adj1" fmla="val 18750"/>
              <a:gd name="adj2" fmla="val -8333"/>
              <a:gd name="adj3" fmla="val 164106"/>
              <a:gd name="adj4" fmla="val -99782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Reference to agent´s state machin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409920" y="2923200"/>
            <a:ext cx="893880" cy="459720"/>
            <a:chOff x="3409920" y="2923200"/>
            <a:chExt cx="893880" cy="459720"/>
          </a:xfrm>
        </p:grpSpPr>
        <p:sp>
          <p:nvSpPr>
            <p:cNvPr id="191" name=""/>
            <p:cNvSpPr/>
            <p:nvPr/>
          </p:nvSpPr>
          <p:spPr>
            <a:xfrm>
              <a:off x="3409920" y="2975040"/>
              <a:ext cx="893880" cy="388800"/>
            </a:xfrm>
            <a:prstGeom prst="roundRect">
              <a:avLst>
                <a:gd name="adj" fmla="val 28569"/>
              </a:avLst>
            </a:prstGeom>
            <a:noFill/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000" y="292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319800" y="3636000"/>
            <a:ext cx="2346480" cy="368280"/>
          </a:xfrm>
          <a:prstGeom prst="borderCallout1">
            <a:avLst>
              <a:gd name="adj1" fmla="val 18750"/>
              <a:gd name="adj2" fmla="val -8333"/>
              <a:gd name="adj3" fmla="val 139351"/>
              <a:gd name="adj4" fmla="val -132333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Contained ag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77040" y="5657040"/>
            <a:ext cx="2546280" cy="368280"/>
          </a:xfrm>
          <a:prstGeom prst="borderCallout1">
            <a:avLst>
              <a:gd name="adj1" fmla="val 18750"/>
              <a:gd name="adj2" fmla="val -8333"/>
              <a:gd name="adj3" fmla="val -83689"/>
              <a:gd name="adj4" fmla="val -103050"/>
            </a:avLst>
          </a:prstGeom>
          <a:noFill/>
          <a:ln w="1260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Communication path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8T13:31:28Z</dcterms:created>
  <dc:creator>Eckhardt Holz</dc:creator>
  <dc:description/>
  <dc:language>en-US</dc:language>
  <cp:lastModifiedBy>Eckhardt Holz</cp:lastModifiedBy>
  <cp:lastPrinted>2000-06-15T11:57:53Z</cp:lastPrinted>
  <dcterms:modified xsi:type="dcterms:W3CDTF">2000-06-20T15:37:56Z</dcterms:modified>
  <cp:revision>87</cp:revision>
  <dc:subject/>
  <dc:title>SDL-2000 Tutorial</dc:title>
</cp:coreProperties>
</file>